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D335FA-EBA5-471E-A2A7-9D3A488A49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4EA45-5305-4C6C-9B99-852E854D2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8A0C3-278A-44CE-9754-2A3DBDDF5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0E11F-1B6C-40F4-8E0E-0130472E69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F29B66-9688-4FBA-B4A0-12EA08E2F5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19B7EC-785B-4804-999A-B41AD6245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BA3BE8-317A-4E01-8C37-56671A9D9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318E8-3359-4453-AA00-9682033C9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6E4BB2-73EC-43E0-A592-8509447C39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4B4ED9-51EB-4121-BE5D-03F47628E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CD419-FDC5-45B4-9AD2-585EE848F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436F9-D103-4108-AD42-FF0DF90E0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DD8B6-9139-432B-A9C4-140A81BB0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F2413-A341-42A1-802C-75829803F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BEA391-8684-4131-9433-EEF794C44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4AA8FA-6A4E-42AD-8F8C-9F2FFB3373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C23720-3901-4F61-B7B0-F186DC435C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14752-1BDA-4436-81ED-A27D9A470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55C85-2C90-4431-85E4-97FB70146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D9427-5980-46FA-A829-BC8BFDC36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1931F-587B-46A0-9956-E7354897B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87B5A-F275-42DC-9D35-121FACA20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5FC75-1301-4237-9290-EB17038DF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91C1E-5E4D-4DE1-9EFB-DC35B6FF3E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8662E-DCB7-4DE9-9057-4F362388D2D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E7348-CE27-402B-8E0B-365AA9C18EB1}"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ijela dioničkog društva II</a:t>
            </a:r>
            <a:endParaRPr b="1" lang="en-US" sz="4400" spc="-1" strike="noStrike">
              <a:solidFill>
                <a:srgbClr val="eaeaea"/>
              </a:solidFill>
              <a:latin typeface="Tahoma"/>
            </a:endParaRPr>
          </a:p>
        </p:txBody>
      </p:sp>
      <p:sp>
        <p:nvSpPr>
          <p:cNvPr id="11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prava, nadzorni odbor, glavna skupšti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Glavna skupština – zapisnik i pravo na obaviještenost</a:t>
            </a:r>
            <a:endParaRPr b="1" lang="en-US" sz="40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l. skupština može ¾ većinom usvojiti svoj pravilnik o radu (čl. 285. ZTD), na gl. skupštini se sastavlja popis svih prisutnih i zastupanih dioničara kojeg potpisuje predsjednik gl. skupštine</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 održanoj gl. skupštini javni bilježnik vodi zapisnik te mu se dostavlja popis sudionika i dokaz o sazivanju gl. skupštine (čl. 286. ZTD); uprava dostavlja zapisnik s prilozima registarskom sudu po okončanju gl. skupštine</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avo dioničara na obaviještenost (čl. 287. ZTD) – obveza uprave da daje obavijesti dioničaru na njegov zahtjev; u određenim slučajevima ona može uskratiti davanje obavijesti; ako dioničaru bude uskraćena obavijest može tražiti da se to zabilježi u zapisnik</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oničar kojemu je uskraćena obavijest može tražiti od suda da naloži upravi davanje obavijesti (čl. 288. ZTD)</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lavna skupština – pravo glasa </a:t>
            </a:r>
            <a:endParaRPr b="1" lang="en-US" sz="4400" spc="-1" strike="noStrike">
              <a:solidFill>
                <a:srgbClr val="eaeaea"/>
              </a:solidFill>
              <a:latin typeface="Tahoma"/>
            </a:endParaRPr>
          </a:p>
        </p:txBody>
      </p:sp>
      <p:sp>
        <p:nvSpPr>
          <p:cNvPr id="13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vorum (čl. 289. ZTD) – određuje se statutom; ako kvorum ne postoji potrebno je pri sazivanju gl. skupštine odrediti kada će se održati naredna gl. skupština na kojoj se može valjano odlučivati neovisno o broju dioničara koji su prisutni, osim ako statut to isključuje</a:t>
            </a:r>
            <a:endParaRPr b="0" lang="en-US" sz="2000" spc="-1" strike="noStrike">
              <a:solidFill>
                <a:srgbClr val="ffffff"/>
              </a:solidFill>
              <a:latin typeface="Tahoma"/>
            </a:endParaRPr>
          </a:p>
          <a:p>
            <a:pPr marL="322200" indent="-3222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otrebna većina (čl. 290. ZTD) – odluke se donose običnom većinom, osim ako zakon ili statut ne određuje drugačije</a:t>
            </a:r>
            <a:endParaRPr b="0" lang="en-US" sz="2000" spc="-1" strike="noStrike">
              <a:solidFill>
                <a:srgbClr val="ffffff"/>
              </a:solidFill>
              <a:latin typeface="Tahoma"/>
            </a:endParaRPr>
          </a:p>
          <a:p>
            <a:pPr marL="322200" indent="-3222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avo glasa (čl. 291. ZTD) – određuje se prema odnosu nominalnog iznosa dionica, odnosno broja dionica i iznosa temeljnog kapitala; statutom moguće ograničiti pravo glasa na najviši broj glasova (to se ne primjenjuje na uvrštene dionice); uračunavanje udjela; pravo glasa se stječe potpunom uplatom uloga (statutom je moguće odrediti i drugačije, za djelomično uplaćenu dionicu stječe se pravo na jedan glas); zalaganjem dionice ne gubi se pravo glasa; pravo glasa moguće ostvarivati i preko punomoćnika (pisana punomoć koju čuva društvo); način glasovanja određuje se statutom</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stvarivanje prava glasa preko financijskih institucija (čl. 292. ZTD) – financijske institucije moraju imati pisanu punomoć ili punomoć u elektronskom obliku; ne mogu glasovati za dioničara ako i one imaju udio u društvu veći od 5 %, osim ako ne ostvaruje svoje pravo glasa; moguć opoziv punomoći u svako doba; pri ostvarivanju prava glasa ona mora imenovati dioničara za kojeg glasa te se mora pridržavati primljenih uputa; ako je financijska institucija skrbnik mora glasovati sukladno uputama dioničara</a:t>
            </a:r>
            <a:endParaRPr b="0" lang="en-US" sz="2000" spc="-1" strike="noStrike">
              <a:solidFill>
                <a:srgbClr val="ffffff"/>
              </a:solidFill>
              <a:latin typeface="Tahoma"/>
            </a:endParaRPr>
          </a:p>
          <a:p>
            <a:pPr marL="318960" indent="-31896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sključenje prava glasa u slučaju postojanja sukoba interesa (čl. 293. ZTD); ništavost ugovora o vezivanju glasova dioničara sukladno uputama društva i njezinih tijela</a:t>
            </a:r>
            <a:endParaRPr b="0" lang="en-US" sz="2000" spc="-1" strike="noStrike">
              <a:solidFill>
                <a:srgbClr val="ffffff"/>
              </a:solidFill>
              <a:latin typeface="Tahoma"/>
            </a:endParaRPr>
          </a:p>
          <a:p>
            <a:pPr marL="318960" indent="-31896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lasovanje o prijedlozima dioničara za imenovanja članova nadzornog odbora(čl. 294. ZTD) – o tim prijedlozima se glasuje prije prijedloga prethodnog nadzornog odbora ako to traže manjinski dioničari čije dionice čine 10 % temeljenog kapitala društva</a:t>
            </a:r>
            <a:endParaRPr b="0" lang="en-US" sz="2000" spc="-1" strike="noStrike">
              <a:solidFill>
                <a:srgbClr val="ffffff"/>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lavna skupština – posebne odluke</a:t>
            </a:r>
            <a:endParaRPr b="1" lang="en-US" sz="44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državanje posebnih skupština na kojima odluke donose određeni dioničari, odnosno donošenje odluka odvojeno na gl. skupštini društva (čl. 295. ZTD), sazivanje posebne skupštine mogu tražiti samo dioničari koji  imaju na to pravo i koji imaju dionice koje čine 10 % svih udjela na temelju kojih se može glasova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ovlaštene dionice bez prava glasa</a:t>
            </a: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atutom društva je moguće odrediti da povlaštene dionice ne daju pravo glasa njihovim imateljima (čl. 296. ZTD), inače one daju sva članska prava koja imaju i drugi dioničari</a:t>
            </a:r>
            <a:endParaRPr b="0" lang="en-US" sz="1800" spc="-1" strike="noStrike">
              <a:solidFill>
                <a:srgbClr val="ffffff"/>
              </a:solidFill>
              <a:latin typeface="Tahoma"/>
            </a:endParaRPr>
          </a:p>
          <a:p>
            <a:pPr marL="325800" indent="-32580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kupni iznos izdanih povlaštenih dionica bez prava glasa ne smije biti veći od polovice temeljnog kapitala društva (čl. 169. st. 2. ZTD)</a:t>
            </a:r>
            <a:endParaRPr b="0" lang="en-US" sz="1800" spc="-1" strike="noStrike">
              <a:solidFill>
                <a:srgbClr val="ffffff"/>
              </a:solidFill>
              <a:latin typeface="Tahoma"/>
            </a:endParaRPr>
          </a:p>
          <a:p>
            <a:pPr marL="325800" indent="-32580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matelji povlaštenih dionica bez prava glasa stječu privremeno pravo glasa u slučaju ako im se ne isplati ili djelomično isplati povlašteni iznos na ime dobiti sve dok im se ne isplate zaostaci (čl. 296. st. 2. ZTD)</a:t>
            </a:r>
            <a:endParaRPr b="0" lang="en-US" sz="1800" spc="-1" strike="noStrike">
              <a:solidFill>
                <a:srgbClr val="ffffff"/>
              </a:solidFill>
              <a:latin typeface="Tahoma"/>
            </a:endParaRPr>
          </a:p>
          <a:p>
            <a:pPr marL="325800" indent="-32580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ovlaštene dionice bez prava glasa društvo izdaje kada želi pribaviti potrebni kapital za poslovanje, i to vlastiti kapital, a da se pritom ne mijenja struktura dioničara s obzirom na njihovo pravo glasa u gl. skupštini  </a:t>
            </a:r>
            <a:endParaRPr b="0" lang="en-US" sz="1800" spc="-1" strike="noStrike">
              <a:solidFill>
                <a:srgbClr val="ffffff"/>
              </a:solidFill>
              <a:latin typeface="Tahoma"/>
            </a:endParaRPr>
          </a:p>
          <a:p>
            <a:pPr marL="325800" indent="-32580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a donošenje odluke o ukidanju ili ograničavanju povlaštenosti potrebna je suglasnost povlaštenih dioničara, kao i za njihovo izdavanje (čl. 297. ZTD); suglasnost se daje na posebnoj skupštini ili na odvojenom glasovanju na gl. skupštini i to ¾ većinom; ukidanjem povlaštenosti dionice postaju dionice s pravom glas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osebna revizija</a:t>
            </a: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vrha provedbe posebne revizije je pribavljanje potrebnih informacija i dokaza koji su potrebni za vođenje odgovarajućih postupaka protiv osnivača, uprave i nadzornog odbora za štetu koju su nanijeli društvu; ona se provodi nakon ranije provedene revizije osnivanja i redovite revizije godišnjih financijskih izvješća</a:t>
            </a:r>
            <a:endParaRPr b="0" lang="en-US" sz="2400" spc="-1" strike="noStrike">
              <a:solidFill>
                <a:srgbClr val="ffffff"/>
              </a:solidFill>
              <a:latin typeface="Tahoma"/>
            </a:endParaRPr>
          </a:p>
          <a:p>
            <a:pPr marL="294840" indent="-2948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dluku o imenovanju posebnog revizora donosi gl. skupština običnom većinom glasova radi ispitivanja radnji pri osnivanju društva, vođenju poslova društva i povećanja i smanjenja temeljnog kapitala društva (čl. 298. ZTD), u imenovanju posebnog revizora ne može sudjelovati član uprave ili nadzornog odbora koji se nalazi u sukobu interes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ko gl. skupština odbije imenovati posebnog revizora, to će učiniti sud na zahtjev manjinskih dioničara koji drže dionice koje čine 5 % temeljnog kapitala društva ako postoji opravdana sumnja da su počinjenje nepravilnosti ili grubo povrijeđen zakon ili statut, uz uvjet da pohrane svoje dionice i učine vjerodostojnim da su najmanje 3 mjeseca prije održavanja gl. skupštine bili dioničari, zahtjev se mora podnijeti u roku od 15 dana od održavanja gl. skupštine koja je odbila imenovati posebnog revizora, za posebnog revizora se imenuje osoba koja ispunjava uvjete za ovlaštenog revizora i koja se bavi tim poslom</a:t>
            </a:r>
            <a:endParaRPr b="0" lang="en-US" sz="2000" spc="-1" strike="noStrike">
              <a:solidFill>
                <a:srgbClr val="ffffff"/>
              </a:solidFill>
              <a:latin typeface="Tahoma"/>
            </a:endParaRPr>
          </a:p>
          <a:p>
            <a:pPr marL="312120" indent="-31212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njinski dioničari koji drže dionice koje čine 10 % temeljnog kapitala ili najmanje 8.000.000,00 kuna mogu tražiti od suda imenovanje drugog posebnog revizora umjesto onog kojeg je imenovala gl. skupština, ako se razlozi za to nalaze u osobi imenovanog posebnog revizora (nema stručna znanja, prezauzetost, nepouzdanost), zahtjev se podnosi u roku od 14 dana od održavanja gl. skupštine koja je obavila imenovanje </a:t>
            </a:r>
            <a:endParaRPr b="0" lang="en-US" sz="2000" spc="-1" strike="noStrike">
              <a:solidFill>
                <a:srgbClr val="ffffff"/>
              </a:solidFill>
              <a:latin typeface="Tahoma"/>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avo posebnog revizora na pregled svih poslovnih knjiga i dokumentacije društva, obveza uprave na suradnju (čl. 299. st. 1. i 2. ZTD), posebni revizor izrađuje pisano izvješće koje dostavlja uprave, a koja ga prosljeđuje nadzornom odboru i stavlja na dnevni red sljedeće g. skupštine</a:t>
            </a:r>
            <a:endParaRPr b="0" lang="en-US" sz="2800" spc="-1" strike="noStrike">
              <a:solidFill>
                <a:srgbClr val="ffffff"/>
              </a:solidFill>
              <a:latin typeface="Tahoma"/>
            </a:endParaRPr>
          </a:p>
          <a:p>
            <a:pPr marL="315360" indent="-3153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avo posebnog revizora na naknadu troškova i nagradu za obavljeni rad na teret društva (čl. 300. ZT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Utvrđenje godišnjih financijskih izvješća</a:t>
            </a:r>
            <a:endParaRPr b="1" lang="en-US" sz="44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nancijska izvješća sastavlja uprava društva (čl. 300.a ZTD)</a:t>
            </a:r>
            <a:endParaRPr b="0" lang="en-US" sz="2800" spc="-1" strike="noStrike">
              <a:solidFill>
                <a:srgbClr val="ffffff"/>
              </a:solidFill>
              <a:latin typeface="Tahoma"/>
            </a:endParaRPr>
          </a:p>
          <a:p>
            <a:pPr marL="315360" indent="-31536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prava je dužna podnijeti godišnja financijska izvješća, izvješće o stanju društva (kao i konsolidirana financijska izvješća i izvješće o stanju koncerna) i prijedlog odluke o upotrebi dobiti na uvid nadzornom odboru (svaki član nadzornog odbora ima pravo uvida u te dokumente, te se oni dostavljaju svakom članu, odnosno članovima komisija nadzornog odbora)(čl. 300.b ZT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adzorni odbor ima obvezu ispitati navedena izvješća i prijedlog odluke, a u njegovom radu ima obvezu sudjelovati i revizor ako je objavio reviziju i dati potrebna izvješća i objašnjenja (čl. 300.c ZTD)</a:t>
            </a:r>
            <a:endParaRPr b="0" lang="en-US" sz="2000" spc="-1" strike="noStrike">
              <a:solidFill>
                <a:srgbClr val="ffffff"/>
              </a:solidFill>
              <a:latin typeface="Tahoma"/>
            </a:endParaRPr>
          </a:p>
          <a:p>
            <a:pPr marL="315360" indent="-31536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 obavljenom ispitivanju nadzorni odbor sastavlja pisano izvješće koje dostavlja gl. skupštini, u kojem zauzima stav o izvješću o reviziji, navodi da li ima primjedaba i da li daje suglasnost na podnesena godišnja financijska izvješća</a:t>
            </a:r>
            <a:endParaRPr b="0" lang="en-US" sz="2000" spc="-1" strike="noStrike">
              <a:solidFill>
                <a:srgbClr val="ffffff"/>
              </a:solidFill>
              <a:latin typeface="Tahoma"/>
            </a:endParaRPr>
          </a:p>
          <a:p>
            <a:pPr marL="315360" indent="-31536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voje izvješće nadzorni odbor dostavlja i upravi u roku 1 mjeseca od kada su mu dostavljena sva potrebna izvješća, ako to ne učini uprava mu daje naknadni rok ne duži od 1 mjeseca, a ako ni tada ne podnese izvješće smatra se da nije dao suglasnost na izvješća uprave</a:t>
            </a:r>
            <a:endParaRPr b="0" lang="en-US" sz="2000" spc="-1" strike="noStrike">
              <a:solidFill>
                <a:srgbClr val="ffffff"/>
              </a:solidFill>
              <a:latin typeface="Tahoma"/>
            </a:endParaRPr>
          </a:p>
          <a:p>
            <a:pPr marL="315360" indent="-31536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 slučaju ako nadzorni odbor dade suglasnost na izvješća uprave, smatra se da su godišnja financijska izvješća utvrdili uprava i nadzorni odbor te se to navodi u izvješću nadzornog odbora gl. skupštini (čl. 300.d ZTD)</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lavna skupština - ovlasti</a:t>
            </a:r>
            <a:endParaRPr b="1" lang="en-US" sz="4400" spc="-1" strike="noStrike">
              <a:solidFill>
                <a:srgbClr val="eaeaea"/>
              </a:solidFill>
              <a:latin typeface="Tahoma"/>
            </a:endParaRPr>
          </a:p>
        </p:txBody>
      </p:sp>
      <p:sp>
        <p:nvSpPr>
          <p:cNvPr id="11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jelo u kojem svoja prava ostvaruju dioničari, u njezinom radu moraju sudjelovati i članovi uprave i nadzornog odbora (čl. 274. ZTD)</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gućnost prijenosa rada gl. skupštine i putem videokonferencije, ako je tako određeno statutom ili poslovnikom o radu gl. skupštin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rava je dužna sazvati gl. skupštinu odmah kada dobije izvješće nadzornog odbora o obavljenom pregledu godišnjih financijskih izvješća, izvješća o stanju društva i izvješća o reviziji te prijedlogu odluke o upotrebi dobiti (čl. 277. st. 1. ZTD) </a:t>
            </a:r>
            <a:endParaRPr b="0" lang="en-US" sz="2400" spc="-1" strike="noStrike">
              <a:solidFill>
                <a:srgbClr val="ffffff"/>
              </a:solidFill>
              <a:latin typeface="Tahoma"/>
            </a:endParaRPr>
          </a:p>
          <a:p>
            <a:pPr marL="325800" indent="-3258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lavna skupština samo iznimno utvrđuje godišnja financijska izvješća kada joj to prepuste uprava i nadzorni odbor ili kada nadzorni odbor ne dade suglasnost na spomenuta izvješća (čl. 300.e ZTD), ako gl. skupština izmijeni godišnja financijska izvješća koja su revidirana, potrebno je obaviti novu reviziju i o tome podnijeti izvješće o reviziji u roku od 2 tjedna od utvrđenja godišnjih financijskih izvješća od strane gl. skupštin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eaeaea"/>
                </a:solidFill>
                <a:latin typeface="Tahoma"/>
              </a:rPr>
              <a:t>Prijenos dionica manjinskih dioničara (squeeze-out)</a:t>
            </a:r>
            <a:endParaRPr b="1" lang="en-US" sz="40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ostupak koji se provodi nakon uspješnog okončanja postupka preuzimanja, kada glavni dioničar stekne više od 95 % udjela u temeljnom kapitalu društva </a:t>
            </a:r>
            <a:endParaRPr b="0" lang="en-US" sz="2000" spc="-1" strike="noStrike">
              <a:solidFill>
                <a:srgbClr val="ffffff"/>
              </a:solidFill>
              <a:latin typeface="Tahoma"/>
            </a:endParaRPr>
          </a:p>
          <a:p>
            <a:pPr marL="305280" indent="-3052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l. skupština na zahtjev gl. dioničara (onaj koji ima najmanje 95 % udjela u temeljnom kapitalu društva) donosi odluku o tome da mu se prenesu preostale dionice manjinskih dioničara, a da im se zauzvrat plati primjerena otpremnina u novcu (čl. 300.g ZTD)</a:t>
            </a:r>
            <a:endParaRPr b="0" lang="en-US" sz="2000" spc="-1" strike="noStrike">
              <a:solidFill>
                <a:srgbClr val="ffffff"/>
              </a:solidFill>
              <a:latin typeface="Tahoma"/>
            </a:endParaRPr>
          </a:p>
          <a:p>
            <a:pPr marL="305280" indent="-3052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l. dioničar određuje iznos otpremnine sukladno prilikama u društvu u trenutku donošenja odluke gl. skupštine, na koji se obračunavaju kamate za vrijeme od upisa odluke u sudski registar do isplate manjinskim dioničarima, gl. dioničar je dužan upravi dostaviti jamstvo banke da će isplatiti otpremninu i kamate (čl. 300.g ZTD); gl. dioničar podnosi izvješće u kojem navodi pretpostavke za prijenos dionica i obrazlaže primjerenost otpremnine, primjerenost otpremnine ispituje i revizor, pravo uvida manjinskih dioničara u spomenuta izvješća i prijedloge (čl. 300.h ZTD); obveza gl. dioničara da objasni izvješća i prijedloge (čl. 300.j ZTD);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Uprava podnosi prijavu odluke gl. skupštine o prijenosu dionica za upis u sudski registar i dostavlja zapisnik i druge isprave, kao i izjavu uprave da odluka gl. skupštine nije pobijana (čl. 300.j ZTD), upisom odluke o prijenosu dionica manjinskih dioničara sve dionice prelaze na gl. dioničara</a:t>
            </a:r>
            <a:endParaRPr b="0" lang="en-US" sz="2400" spc="-1" strike="noStrike">
              <a:solidFill>
                <a:srgbClr val="ffffff"/>
              </a:solidFill>
              <a:latin typeface="Tahoma"/>
            </a:endParaRPr>
          </a:p>
          <a:p>
            <a:pPr marL="318960" indent="-3189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Mogućnost sudskog ispitivanja primjerenosti otpremnine (čl. 300. k ZTD), zahtjev se mora podnijeti u roku od 2 mjeseca pd dana upisa odlike o prijenosu dionica u sudski registar, neprimjerenost otpremnine ne može biti osnova za pobijanje odluke o prijenosu dionica</a:t>
            </a:r>
            <a:endParaRPr b="0" lang="en-US" sz="2400" spc="-1" strike="noStrike">
              <a:solidFill>
                <a:srgbClr val="ffffff"/>
              </a:solidFill>
              <a:latin typeface="Tahoma"/>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vlasti – gl. </a:t>
            </a:r>
            <a:r>
              <a:rPr b="0" lang="en-GB" sz="2000" spc="-1" strike="noStrike">
                <a:solidFill>
                  <a:srgbClr val="ffffff"/>
                </a:solidFill>
                <a:latin typeface="Tahoma"/>
              </a:rPr>
              <a:t>skupština odlučuje u pitanjima koja su izrič</a:t>
            </a:r>
            <a:r>
              <a:rPr b="0" lang="hr-HR" sz="2000" spc="-1" strike="noStrike">
                <a:solidFill>
                  <a:srgbClr val="ffffff"/>
                </a:solidFill>
                <a:latin typeface="Tahoma"/>
              </a:rPr>
              <a:t>i</a:t>
            </a:r>
            <a:r>
              <a:rPr b="0" lang="en-GB" sz="2000" spc="-1" strike="noStrike">
                <a:solidFill>
                  <a:srgbClr val="ffffff"/>
                </a:solidFill>
                <a:latin typeface="Tahoma"/>
              </a:rPr>
              <a:t>to određena zakonom i statutom društva, a osobito o: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1. izboru i razrješenju članova nadzornog odbora, osim ako ih se ne imenuje u taj odbor.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2. upotrebi dobiti</a:t>
            </a:r>
            <a:r>
              <a:rPr b="0" lang="hr-HR" sz="2000" spc="-1" strike="noStrike">
                <a:solidFill>
                  <a:srgbClr val="ffffff"/>
                </a:solidFill>
                <a:latin typeface="Tahoma"/>
              </a:rPr>
              <a:t> (uvjet prethodno izvješće nadzornog odbora)</a:t>
            </a:r>
            <a:r>
              <a:rPr b="0" lang="en-GB" sz="2000" spc="-1" strike="noStrike">
                <a:solidFill>
                  <a:srgbClr val="ffffff"/>
                </a:solidFill>
                <a:latin typeface="Tahoma"/>
              </a:rPr>
              <a:t>,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3. davanju razrješnice članovima uprave i nadzornog odbora,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4. imenovanju revizora društva.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5. izmjenama statuta,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6. povećanju i smanjenju temeljnoga kapitala društva</a:t>
            </a:r>
            <a:r>
              <a:rPr b="0" lang="hr-HR" sz="2000" spc="-1" strike="noStrike">
                <a:solidFill>
                  <a:srgbClr val="ffffff"/>
                </a:solidFill>
                <a:latin typeface="Tahoma"/>
              </a:rPr>
              <a:t> (uvjet prethodno izvješće nadzornog odbora)</a:t>
            </a:r>
            <a:r>
              <a:rPr b="0" lang="en-GB" sz="2000" spc="-1" strike="noStrike">
                <a:solidFill>
                  <a:srgbClr val="ffffff"/>
                </a:solidFill>
                <a:latin typeface="Tahoma"/>
              </a:rPr>
              <a:t>.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7. imenovanju revizora za ispitivanje radnji obavljenih u osnivanju društva ili radnji vođenja poslova društva</a:t>
            </a:r>
            <a:r>
              <a:rPr b="0" lang="hr-HR" sz="2000" spc="-1" strike="noStrike">
                <a:solidFill>
                  <a:srgbClr val="ffffff"/>
                </a:solidFill>
                <a:latin typeface="Tahoma"/>
              </a:rPr>
              <a:t> i utvrđivanju naknade za njegov rad</a:t>
            </a:r>
            <a:r>
              <a:rPr b="0" lang="en-GB" sz="2000" spc="-1" strike="noStrike">
                <a:solidFill>
                  <a:srgbClr val="ffffff"/>
                </a:solidFill>
                <a:latin typeface="Tahoma"/>
              </a:rPr>
              <a:t>,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8. prestanku društv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a:t>
            </a:r>
            <a:r>
              <a:rPr b="0" lang="en-GB" sz="2400" spc="-1" strike="noStrike">
                <a:solidFill>
                  <a:srgbClr val="ffffff"/>
                </a:solidFill>
                <a:latin typeface="Tahoma"/>
              </a:rPr>
              <a:t> pitanjima vođenja poslova društva gl</a:t>
            </a:r>
            <a:r>
              <a:rPr b="0" lang="hr-HR" sz="2400" spc="-1" strike="noStrike">
                <a:solidFill>
                  <a:srgbClr val="ffffff"/>
                </a:solidFill>
                <a:latin typeface="Tahoma"/>
              </a:rPr>
              <a:t>.</a:t>
            </a:r>
            <a:r>
              <a:rPr b="0" lang="en-GB" sz="2400" spc="-1" strike="noStrike">
                <a:solidFill>
                  <a:srgbClr val="ffffff"/>
                </a:solidFill>
                <a:latin typeface="Tahoma"/>
              </a:rPr>
              <a:t> skupština može odlučivati samo onda ako to od nje zatraži uprava društva. </a:t>
            </a:r>
            <a:endParaRPr b="0" lang="en-US" sz="2400" spc="-1" strike="noStrike">
              <a:solidFill>
                <a:srgbClr val="ffffff"/>
              </a:solidFill>
              <a:latin typeface="Tahoma"/>
            </a:endParaRPr>
          </a:p>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Davanje razrješnice članovima uprave i nadzornog odbora jednom godišnje pri predočenju godišnjih financijskih izvješća i donošenju odluke o upotrebi dobiti (čl. 276.); razrješnicom se odobrava rad uprave i nadzornog odbora, ali to ne utječe na zahtjeve za naknadu štete prema tim osobama; odvojeno glasovanje za svakog pojedinog člana ako tako odredi gl. skupština ili to zahtijevaju manjinski dioničari (drže dionice koje čine 10 % temeljnog kapitala društv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lavna skupština – sazivanje </a:t>
            </a:r>
            <a:endParaRPr b="1" lang="en-US" sz="4400" spc="-1" strike="noStrike">
              <a:solidFill>
                <a:srgbClr val="eaeaea"/>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l. skupština se saziva u slučajevima određenim zakonom i statutom i kada to zahtijevaju interesi društva (čl. 277. ZTD)</a:t>
            </a:r>
            <a:endParaRPr b="0" lang="en-US" sz="2800" spc="-1" strike="noStrike">
              <a:solidFill>
                <a:srgbClr val="ffffff"/>
              </a:solidFill>
              <a:latin typeface="Tahoma"/>
            </a:endParaRPr>
          </a:p>
          <a:p>
            <a:pPr marL="318960" indent="-31896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veza održavanja tzv. redovite gl. skupštine nakon što uprava dobije izvješće nadzornog odbora o godišnjim financijskim izvješćima, izvješću o stanju društva i prijedlogu odluke o upotrebi dobiti (ako se radi o povezanim društvima i izvješće po stanju koncerna) i to u prvih 8 mjeseci tekuće poslovne godine</a:t>
            </a:r>
            <a:endParaRPr b="0" lang="en-US" sz="2800" spc="-1" strike="noStrike">
              <a:solidFill>
                <a:srgbClr val="ffffff"/>
              </a:solidFill>
              <a:latin typeface="Tahoma"/>
            </a:endParaRPr>
          </a:p>
          <a:p>
            <a:pPr marL="318960" indent="-31896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vlast sazivanja gl. skupštine ima uprava društva o čemu odlučuje običnom većino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veza objave poziva za gl. skupštinu u glasilu društva uz naznaku svih podataka koji su potrebni za njezino održavanje, omogućavanje prethodnog razgledavanja godišnjih financijskih izvješća, izvješća o stanju društva, izvješća nadzornog odbora i prijedloga odluke o upotrebi dobiti; održavanje gl. skupštine u sjedištu društva ili drugdje ako je tako određeno statutom, odnosno u sjedištu burze</a:t>
            </a:r>
            <a:endParaRPr b="0" lang="en-US" sz="2400" spc="-1" strike="noStrike">
              <a:solidFill>
                <a:srgbClr val="ffffff"/>
              </a:solidFill>
              <a:latin typeface="Tahoma"/>
            </a:endParaRPr>
          </a:p>
          <a:p>
            <a:pPr marL="318960" indent="-3189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dašiljanje poziva preporučenim pismom ako su dioničari poimence poznati </a:t>
            </a:r>
            <a:endParaRPr b="0" lang="en-US" sz="2400" spc="-1" strike="noStrike">
              <a:solidFill>
                <a:srgbClr val="ffffff"/>
              </a:solidFill>
              <a:latin typeface="Tahoma"/>
            </a:endParaRPr>
          </a:p>
          <a:p>
            <a:pPr marL="318960" indent="-3189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ko gl. skupštini prisustvuju svi dioničari, moguće je valjano odlučivanje i u slučaju povrede zakonskih odredbi o sazivanju gl. skupštine, a tome se ne protivi nijedan dioničar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azivanje gl. skupštine na zahtjev manjine (čl. 278. ZTD) – obrazloženi pisani zahtjev mogu podnijeti dioničari čije dionice čine 5 % temeljnog kapitala društva (statutom je moguće odrediti i niži prag); pod istim uvjetima je moguće zatražiti i objavu predmeta odlučivanja na gl. skupštini; ako uprava ne postupi po zahtjevu, nadležni sud može ovlastiti manjinske dioničare da sami sazovu gl. skupštinu; troškove sazivanja snosi društvo</a:t>
            </a:r>
            <a:endParaRPr b="0" lang="en-US" sz="2000" spc="-1" strike="noStrike">
              <a:solidFill>
                <a:srgbClr val="ffffff"/>
              </a:solidFill>
              <a:latin typeface="Tahoma"/>
            </a:endParaRPr>
          </a:p>
          <a:p>
            <a:pPr marL="322200" indent="-3222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bveza sazivanja gl. skupštine najmanje 1 mjesec prije dana njezinog održavanja (čl. 279. ZTD)</a:t>
            </a:r>
            <a:endParaRPr b="0" lang="en-US" sz="2000" spc="-1" strike="noStrike">
              <a:solidFill>
                <a:srgbClr val="ffffff"/>
              </a:solidFill>
              <a:latin typeface="Tahoma"/>
            </a:endParaRPr>
          </a:p>
          <a:p>
            <a:pPr marL="322200" indent="-3222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udjelovanje na gl. skupštini moguće je odredbama statuta uvjetovati prethodnom pohranom dionica u određenom vremenu i prijavom sudjelovanja (najkasnije 7 dana prije održavanja gl. skupštine), one se mogu pohranjivati u sjedištu društva, kod javnog bilježnika ili Središnje depozitarne agencije ili druge financijske agencije koja se bavi čuvanjem vrijednosnih papir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bveza objave dnevnog reda, prijedloga izmjene statuta, sadržaja određenog ugovora koji se sklapa uz suglasnost gl. skupštine i prijedloga odluka o kojima će se odlučivati na gl. skupštini (čl. 280. ZTD), posljedica neobjave je nemogućnost odlučivanja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bveza uprave da u roku 12 dana od objave poziva za gl. skupštinu uputi priopćenje financijskim institucijama i udrugama dioničara koji su glasovali ranije kao skrbnici (zastupnici) dioničara (čl. 281. ZTD); obveza priopćenja odluka gl. skupštine na zahtjev člana nadzornog odbora ili dioničara; ista obveza priopćenja postoji i u pogledu prijedloga i protuprijedloga s obrazloženjem dioničara ako ih je dao 2 tjedna prije održavanja gl. skupštine (čl. 282. ZTD); određeni slučajevi kada nije potrebno obaviti priopćenje; tako se postupa i u slučaju prijedloga dioničara za izbore i imenovanja (čl. 283. ZT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veza skrbnika (i udruge dioničara) koji najkasnije 2 tjedna prije održavanja gl. skupštine imaju dionice dioničara da ih izvijeste o priopćenjima iz čl. 281. ZTD-a (čl. 284. ZTD); obveza da im proslijedi vlastite prijedloge glasovanja, da traži upute za glasovanje, da izvijesti o mogućim sukobima interesa (njegovi udjeli u društvu, ili ispreplitanja u članstvu uprave ili nadzornog odbora)</a:t>
            </a:r>
            <a:endParaRPr b="0" lang="en-US" sz="3200" spc="-1" strike="noStrike">
              <a:solidFill>
                <a:srgbClr val="ffffff"/>
              </a:solidFill>
              <a:latin typeface="Tahoma"/>
            </a:endParaRPr>
          </a:p>
          <a:p>
            <a:pPr marL="308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8T09:16:05Z</dcterms:created>
  <dc:creator>Dionis</dc:creator>
  <dc:description/>
  <dc:language>en-US</dc:language>
  <cp:lastModifiedBy>SAlebic</cp:lastModifiedBy>
  <dcterms:modified xsi:type="dcterms:W3CDTF">2007-04-19T06:09:08Z</dcterms:modified>
  <cp:revision>12</cp:revision>
  <dc:subject/>
  <dc:title>Tijela dioničkog društva II</dc:title>
</cp:coreProperties>
</file>