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00400" cy="99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0" y="943776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52360" y="943776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0C24C2-A9FA-4B39-8F63-E360748B4BD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647720" y="744480"/>
            <a:ext cx="3384720" cy="253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074240" y="3665520"/>
            <a:ext cx="498492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560" y="366552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06FF-61D3-4B02-B9E1-628061487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B2CF-F0A0-4C20-BB68-87F4E8CAA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DB81-0F78-4EF1-9D58-48AAAA441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ED7E-DEBC-481C-AEC9-B6477AB69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06F4-46FE-4871-98BF-B00563A3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0A66-BE29-49AE-BB19-B9AF15D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C9D3-C3F7-468A-AB86-DAA889D9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1842D-720C-441D-B3E7-91C3D0DD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90DF-9CDF-4775-A461-3EF6A33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B00AA-EA11-43E7-AEA1-8F21DF3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47380-3F55-4016-8E4B-23D1607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9C38-D122-4899-A981-B3149A696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529E4-35E2-4992-B0C0-BCE0B89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310C7-7ABF-43C5-9CC1-35E1F1D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2E5F-1EC6-4550-AFED-2729202A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212C9-51E0-484F-AE5B-D3CF7C05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F187-0691-4F02-AD75-084143F1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8A95-5887-4C99-93FF-157376FBE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F39C-AB1E-4619-860B-C171B4EC5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89CB-00DE-4E87-BABA-81FAC1AD5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9C97-6B65-4445-9B13-C9347E6CB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5B1F-783D-4C0F-9073-FC858EE5A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1DD4-7F50-46D7-A8EF-219452982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9395-FF89-47AC-92A7-9AA3365B1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>
                  <a:alpha val="50196"/>
                </a:srgbClr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91A-0BF2-4B1A-8CF6-76813B0956E4}" type="slidenum">
              <a:rPr b="0" lang="pt-PT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>
                  <a:alpha val="50196"/>
                </a:srgbClr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922-1CEA-4460-8037-29E09C7670A5}" type="datetime">
              <a:rPr b="0" lang="pt-PT" sz="1200" spc="-1" strike="noStrike">
                <a:solidFill>
                  <a:srgbClr val="6633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0D84-29DA-4FA9-909F-CBABCBB24FCD}" type="slidenum">
              <a:rPr b="0" lang="pt-PT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66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66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515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PMingLiU"/>
              </a:rPr>
              <a:t>THE ROLE OF THE BOARD 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OF PUBLICLY-HELD COMPANIES</a:t>
            </a:r>
            <a:br>
              <a:rPr sz="3600"/>
            </a:br>
            <a:endParaRPr b="0" lang="en-US" sz="36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PMingLiU"/>
              </a:rPr>
              <a:t>PAULO CAMARA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663300"/>
                </a:solidFill>
                <a:latin typeface="PMingLiU"/>
              </a:rPr>
              <a:t>PORTUGUESE SECURITIES COMMISSION (CMVM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1BC15D-2DEE-494C-9686-BB3008C121D4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. PRESERVE AND PROMOTE THE  COMPANY’S HUMAN CAPITAL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Leadership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ffffff"/>
                </a:solidFill>
                <a:latin typeface="PMingLiU"/>
                <a:ea typeface="Times New Roman"/>
              </a:rPr>
              <a:t>It is both incorrect and unrealistic to suppose that the board works in the democratic fashion of a Parliament. A board must convey decisional power, leadership and strategic vision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board members commitment to serve the company and to create value added should always serve as an example to the company staff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. PRESERVE AND PROMOTE THE  COMPANY’S HUMAN CAPITAL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Nominate and fire company officer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PMingLiU"/>
                <a:ea typeface="Times New Roman"/>
              </a:rPr>
              <a:t>Board must choose the right persons to be in charge of the company’s management, and if necessary fire the ones that are not up to that task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establishment of adequate compensation is a significant component tool to preserve and promote the company’s intellectual capital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I. PRESERVE AND PROMOTE THE  INVESTORS’ CONFIDE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need to preserve confidence is greater in publicly-held companies. In fact, due to the dissemination of shareholder property, the risk of rational apathy is greater and therefore </a:t>
            </a:r>
            <a:r>
              <a:rPr b="1" lang="pt-PT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eviations from the company’s objectives can be more frequent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his is subject to various approaches. Anglo-saxon countries refer to fiduciary duties of the members of the board. German authors speak of duties of loyalty (Treuepflicht). Italian texts address the requirement of correctness (corretezza)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I. PRESERVE AND PROMOTE THE  INVESTORS’ CONFIDE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Act in the interest of shareholder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board must acton behalf of the interests of the shareholders, for as residual claimants they bear the risk of investing in the company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Besides that, the principle of equal treatment of shareholders within the same class must also be respected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Nevertheless, the board should also take into consideration the interests of other stakehold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I. PRESERVE AND PROMOTE THE  INVESTORS’ CONFIDE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Act in a fully accountable mann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Given the fact that directors are appointed by the general meeting of shareholders, they also should be accountable before them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But accountability works also before non-executive directors and before the audito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Continuous efforts are being done to improve accountability standards (e.g. demand to publish an Operating and Financial Review, currently being proposed in the UK)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I. PRESERVE AND PROMOTE THE  INVESTORS’ CONFIDE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Manage adequately conflict of interest in sensible situation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1. During takeover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A takeover is an offer addressed to shareholders. Therefore, members of the board should not preclude the shareholders’ right to decide upon the merits of the bid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2. In the process of fixing remuner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Remuneration should be fixed in a fair manner, by independent persons (board members or not). 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3. In insolvency situation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PMingLiU"/>
                <a:ea typeface="Times New Roman"/>
              </a:rPr>
              <a:t>Board must decide to terminate business or to put the company into liquidation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II. PRESERVE AND PROMOTE THE  INVESTORS’ CONFIDE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 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Respect the law and business ethic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Compliance with laws and regulations also plays a role in respect of promoting confidence – particularly insofar disclosure duties are concerned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board should not just be satisfied with just complying the minimum legal prescriptions: it should also be their aim to conduct standards of social responsibility of business towards the community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PMingLiU"/>
              </a:rPr>
              <a:t>Zagreb, 21 September 2002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PMingLiU"/>
              </a:rPr>
              <a:t>PAULO CAMARA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PMingLiU"/>
              </a:rPr>
              <a:t>pcamaraamartins.@cmvm.p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663300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PMingLiU"/>
              </a:rPr>
              <a:t>INTRODUCTION</a:t>
            </a:r>
            <a:endParaRPr b="0" lang="en-US" sz="44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It is fair to say that only recently European laws have begun to dedicate more attention to the role of the board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The role of the board is however the central element of corporate governance – it has to do with the crucial question of how the power should be exercised within a company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PMingLiU"/>
              </a:rPr>
              <a:t>INTRODUCTION</a:t>
            </a:r>
            <a:endParaRPr b="0" lang="en-US" sz="44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The structure of this presentation derives from the idea that a publicly-held company is composed of three basic elements that the board is empowered to protect and promote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The company’s financial performance;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The company’s human capital; and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The investors’ confidence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PMingLiU"/>
              </a:rPr>
              <a:t>INTRODUCTION</a:t>
            </a:r>
            <a:endParaRPr b="0" lang="en-US" sz="44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63596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MingLiU"/>
              </a:rPr>
              <a:t>There are basically three models of board structures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MingLiU"/>
              </a:rPr>
              <a:t>One tier-boar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MingLiU"/>
              </a:rPr>
              <a:t>Two tier-board of German type (comprising executive body (Vorstand) and supervisory body (Aufsichrat);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MingLiU"/>
              </a:rPr>
              <a:t>Two tier-board of Latin type (comprising a board of auditors - collegio sindacale (Italy) or conselho fiscal (Portugal))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MingLiU"/>
              </a:rPr>
              <a:t>However, the model chosen does not interfere with the role of the board. And each of these models can deliver adequate corporate governance solutions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. PRESERVE AND PROMOTE THE  COMPANY’S FINANCIAL PERFORMA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ffffff"/>
                </a:solidFill>
                <a:uFillTx/>
                <a:latin typeface="PMingLiU"/>
              </a:rPr>
              <a:t>Direct the company’s managemen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In European countries, it is not consensual whether a company’s board should exercise management functions or just supervise managemen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MingLiU"/>
              </a:rPr>
              <a:t>For publicly-held companies, the board should nevertheless focus clearly on the latter: such is also the indication coming from the OECD Principles (Part V.)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. PRESERVE AND PROMOTE THE  COMPANY’S FINANCIAL PERFORMA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Use competent and informed judgemen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Knowledge, experience and skill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</a:rPr>
              <a:t>  are required to board members to a correct exercise of their function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</a:rPr>
              <a:t>Evaluation of the company’s performan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</a:rPr>
              <a:t>Board should review the company’s performance and regularly review the strategies in order to increase it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Representation of the compan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o achieve the company’s object, contracts have to be signed and, if necessary, enforced before the court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. PRESERVE AND PROMOTE THE  COMPANY’S FINANCIAL PERFORMA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9600" y="2514240"/>
            <a:ext cx="763596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</a:rPr>
              <a:t>Monitoring audit and internal contro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Risk management and risk oversight has become a central support for sound corporate governance practice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From a comparative corporate governance perspective, it is debatable what the best model is to accomplish this task. Delegation of powers to a executive committee leads presumably to a similar system as a dual board system.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. PRESERVE AND PROMOTE THE  COMPANY’S FINANCIAL PERFORMA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9600" y="2286000"/>
            <a:ext cx="7635960" cy="37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Independent decision-mak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The use of independent decision-making is guaranteed, in organizational approaches, through the inclusion of non-independent directors in the board.  The terminology is not entirely appropriate, for it implies that the other members are dependent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In Portugal, the regulation on corporate governance asks each company to indicate expressly the definition of independent director they are following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MingLiU"/>
              </a:rPr>
              <a:t>I. PRESERVE AND PROMOTE THE  COMPANY’S FINANCIAL PERFORMANCE</a:t>
            </a:r>
            <a:endParaRPr b="0" lang="en-US" sz="36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9600" y="2286000"/>
            <a:ext cx="7635960" cy="37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PMingLiU"/>
                <a:ea typeface="Times New Roman"/>
              </a:rPr>
              <a:t>Independent decision-mak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Independence can be defined in a positive or in a negative approach. But the latter is the best model. In the future, the regulation should perhaps also state in which cases independence couldn’t be deemed to exist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MingLiU"/>
                <a:ea typeface="Times New Roman"/>
              </a:rPr>
              <a:t>However, as we know, no member of the board can pursue personal interests and every one of them should be independent from management. In such very broad terms no board member can be “dependent”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66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14:46:26Z</dcterms:created>
  <dc:creator>Gil Galvão</dc:creator>
  <dc:description/>
  <dc:language>en-US</dc:language>
  <cp:lastModifiedBy>OECD</cp:lastModifiedBy>
  <cp:lastPrinted>2002-12-10T10:10:07Z</cp:lastPrinted>
  <dcterms:modified xsi:type="dcterms:W3CDTF">2002-12-10T10:10:24Z</dcterms:modified>
  <cp:revision>156</cp:revision>
  <dc:subject/>
  <dc:title>Regulamentação do Código dos Valores Mobiliários</dc:title>
</cp:coreProperties>
</file>