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AB131-7BC6-4E6C-AB17-CE0398DF6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A6A6-3792-4FC8-9075-BE7A0C70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81398-7C3C-46BB-8BDA-AAB71FFA0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7D9C8-0928-4904-BF30-7534638B7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2F1EA-ABE3-4D6F-8E29-00DBED1F5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0E579-FF6F-4494-BE3C-43A6F2753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66FCF-9E98-406D-8499-E05C288E1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070B0-1AD1-411F-99A6-9D57FEC0F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EF073-F2C9-425D-A08E-56105A6E8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EE07D-A3BA-4299-9C1E-4541D9BC7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BC0A4-966A-4599-AB42-96F2969B5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3E48-A5C3-4CD6-B839-E9CC2F59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66F45-3395-40C8-A473-4740E686C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011C-CD28-4427-8A5C-FECB25F42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69480-402E-4D36-B212-662BFC628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919BB-C287-4B06-9314-F87333A4F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F0268-BDA3-4435-AC20-0814F85A3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943FE-A754-481C-957B-C365A9BD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6C87-0D0B-4432-8986-9707A6DE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EE8B7-16D4-4D40-A4BC-C6F18483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40CC-3003-4224-AA17-1211E40C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6BAF-4E41-47BB-81CB-C147E4FF2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EE60-5E33-4B83-9A07-BB9F0A821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5995E-D273-496D-BAB6-1F9ABCF6F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407D-0685-4329-AFD4-A243AF0D38BF}" type="slidenum">
              <a:rPr b="0" lang="hr-HR"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E03D-3527-4591-A90F-BB78934B3CFB}" type="slidenum">
              <a:rPr b="0" lang="hr-H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govačko pravo - uvod</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tanovništvo – ukupnost osoba koje žive na teritoriju određene države, a koji se dijele na domaće državljane, strance i apatrid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žavljanstvo – pravna veza koja postoji između države i određenog pojedinca, a koja se manifestira u pravima i obvezama pojedinog državljanin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tjecanje državljanstv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 Podrijetlom (ius sanguinis, stjecanje državljanstva sukladno državljanstvu roditelj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b) Rođenjem (ius soli, stjecanje državljanstva na temelju činjenice rođenja na određenom državnom teritorij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c) Naturalizacijom (stjecanje državljanstva na zahtjev i uz ispunjenje određenih zakonskih uvjeta (dužina boravka, poznavanje jezika i kulture i sl.)</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 Na temelju međunarodnih ugovora (stjecanje državljanstva na temelju međunarodnih ugovora sklopljenih između država u slučaju promjena državnih granica, pravo opcij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ebni položaj stranog diplomatskog i konzularnog osoblja – diplomatski imunitet</a:t>
            </a: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eđenje položaja apatrida (osoba bez državljanstva) putem međunarodnih ugovora)</a:t>
            </a: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štita nacionalnih manjina – posebno uređenje položaja nacionalnih manjina u određenim državama njihovim internim propisima (Italija, Finska, Austrija, Belgija, Hrvatsk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26028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lasifikacija država prema obliku vladavine</a:t>
            </a: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lik vladavine – podjela država s obzirom na način određivanja državnog poglavara i njegov položaj u odnosu na druga tijela državne vlasti - monarhije i republik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onarhije – državni poglavar se određuje nasljeđivanjem, njegov mandat nije vremenski ograničen, ranije je vrijedila pravna i politička neodgovornost te nepovredivost monarh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likovanje neograničenih i ograničenih monarhija (apsolutne i ustavne monarhije), pojava parlamentarnih monarhij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mjeri – Velika Britanija, Danska, Švedska, Norveška, Belgija, Nizozemska, Luksemburg, Španjolska, Saudijska Arabija, Katar, Kuvajt, Brunei i dr.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publike – državni poglavar se određuje izborom uz mogućnost reizbora, mandat mu je ograničen, položaj državnog poglavara u odnosu na druga tijela državne vlasti je uređen ustavom, uređenje postupka kojim se može tražiti opoziv predsjednika (inpeachment)</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rste republika: </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jednička republika (SAD)</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upredsjednička republika (Francuska)</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arlamentarna republika (Njemačka, Italija, Hrvatsk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Klasifikacija država prema državnom uređenju</a:t>
            </a:r>
            <a:endParaRPr b="1" lang="en-US" sz="40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žavno uređenje – podjela država s obzirom na odnos između središnjih tijela vlasti i tijela vlasti pojedinih dijelova države – jednostavne (unitarne) i složene držav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dnostavne (unitarne, jedinstvene) države – kao isključivi nositelj suverene vlasti se pojavljuju tijela središnje državne vlasti koja obnašaju zakonodavnu, sudsku i izvršnu vlast, dok se tijelima lokalne vlasti povjeravaju određeni poslovi na lokalnoj razini</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tanje decentralizacije državne vla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ste složenih država:</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nfederacija </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na unija</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na unija</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deracij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onfederacija – savez suverenih država koje na temelju ugovora osnivaju zajedničke organe (dieta, kongres, skupština saveza) kojima povjeravaju zajedničke poslove ne gubeći pri tome svoju samostalnost; zajednički organ donosi odluke samo uz pristanak svih država članica konfederacije (pravo veta)</a:t>
            </a:r>
            <a:endParaRPr b="0" lang="en-US" sz="2800" spc="-1" strike="noStrike">
              <a:solidFill>
                <a:srgbClr val="ffffff"/>
              </a:solidFill>
              <a:latin typeface="Tahoma"/>
            </a:endParaRPr>
          </a:p>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imjeri – SAD (1787.), Nizozemska (1795.), Švicarska (1848.), Njemačka (1815.-186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ersonalna unija – savez dviju ili više država koje su povezane osobom zajedničkog vladara, ali zadržavaju svoju samostalnost</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mjeri – Hrvatska i Ugarska (1102.-1526.), Engleska i Hannover (1714.-1838.), Nizozemska i Luksemburg (1815.-1890.)</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alna unija – savez dviju ili više država koje su povezane osobom zajedničkog vladara, određenim zajedničkim organima i poslovima, ali zadržavaju svoju samostalnost</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mjeri – Austrija i Ugarska (1867.-1918.), Norveška i Švedska (1815.-1905.), Danska i Island (1915.-194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deracija – složene države u kojima postoje dvije ili više teritorijalnih jedinica na koje je podijeljen državni teritorij i koje imaju vlastito zakonodavstvo, upravu i sudstvo; razlikovanje između saveznih (središnjih) tijela vlasti i tijela vlasti federalnih jedinica; uređenje njihovog međusobnog odnosa putem ustava; uspostava saveznih dvodomnih parlamenat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jeri – Jugoslavija (1945.-1991.), SAD, SR Njemačka, Švicarska, Austrija, Belgija, Brazil, Meksiko, Indija, Rusi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kcije države</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odioba državne vlast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zvršna vlas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konodavna vlas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dska vla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držaj predmeta – uvod u teoriju prava i države; statusni dio(opće odredbe ZTD, društva osoba, društva kapitala, statusne promjene, povezana društva); stečajni postupak; trgovačko ugovorno pravo; vrijednosni papiri (mjenica, ček);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vršna vlast – obnaša je Vlada i tijela državne uprave; čine je svi oni poslovi koji se ne uvršćuju u zakonodavnu i sudsku vlas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lovi provedbe pravnih akata u različitim područjima života društvene zajednice; odlučivanje o pravima i obvezama individualnih pravnih subjekata u upravnom postupk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konodavna vlast – ostvaruje se u zakonodavnom postupku u kojem se donose propisi; nju obnaša zakonodavno tijelo (Hrvatski sabor)</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ijek zakonodavnog postupka:</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dlaganje zakona (zakonodavna inicijativa) – zakone predlaže Vlada ili zastupnici u zakonodavnom tijelu (pojedinci, radna tijela)</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sprava o podnesenim prijedlozima – obavlja se radi uobličenja zakonskog teksta (sustavnost, preglednost, jezična ispravnost, cjelovitost, usklađenost), obavlja se u radnim tijelima zakonodavnog tijela (odbori, povjerenstva) te u plenumu zakonodavnog tijela</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Glasovanje o usvajanju pravnog akta – načelo obične većine za donošenje pravnih akata, iznimno za tzv. organske zakone kvalificirana većina (2/3 većin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4) Proglašenje (promulgacija) pravnog akta – obavlja je državni poglavar (predsjednik Republike) kojim se daje jamstvo da je poštovan Ustav i propisani zakonodavni postupa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5) Objava pravnog akta – upoznavanje svih pravnih subjekata sa sadržajem usvojenog pravnog akta, objava se obavlja u Narodnim novinama, te na web stranicam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6) Stupanje na snagu pravnog akta – protek određenog vremena od objave do stupanja na snagu pravnog akta (vacatio legis) radi pripreme adresata za primjenu pravnog akta, u pravilu to razdoblje traje 8 dana od objave, osim ako je zakonom određeno drugač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ska vlast – provedba sudskih postupaka u kojima se odlučuje o eventualnim sporovima između različitih pravnih subjekata (građanski postupak) ili kaznenoj odgovornosti pravnih subjekata (kazneni postupak)</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u vlast obnašaju sudovi, a pored njih i državno odvjetništvo te odvjetništvo</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rste sudova:</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ovni sudovi (općinski, županijski, Vrhovni sud RH)</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govački sudovi (ustanovljeni po županijama, Visoki trgovački sud)</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kršajni sudovi (Visoki prekršajni sud)</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ravni sud</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tavni sud RH</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908000" y="1989000"/>
            <a:ext cx="5543640" cy="36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vostupanjski sudski postupak; mogućnost korištenja pravnih lijekova; sudac pojedinac ili sudsko vijeć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zbrani sudovi (arbitraž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rste tijela državne vlasti</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redišnja/lokalna tijela državne vlasti</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jedinačna (inokosna)/skupna (zborna) tijela državne vlasti</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jska/unutarnja tijela državne vlasti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a norma i njeni dijelovi</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Hipoteza – pretpostavka koja opisuje stanje ili činjenice koje se odnose na subjekte ili adresata (uvjet za primjenu dispozicije)</a:t>
            </a: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ispozicija (zahtjev) – glavni dio norme koji određuje njezin bitan sadržaj; zahtjev se može sastojati u zapovjedi, zabrani ili ovlaštenju</a:t>
            </a: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nkcija – posljedice koje nastupaju ako se postupa protivno dispoziciji; norme bez sankcije (leges imperfect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rste pravnih normi i njezini adresati</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ća pravna norma – apstraktno i općenito pravilo kod kojeg su adresati neodređeni; pravna pravila koja su upućena svim pravnim subjektima na državnom teritoriju određene države; karakteristična su za ustav i druge opće zakonske propise</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jedinačna (individualna) pravna norma – pravno pravilo kod kojeg je točno utvrđen adres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anak pravne norme – običajna norma (nastaje dugotrajnim vršenjem)/ postavljena norma (moguće točno odrediti vrijeme nastanka, donositelja te vrijeme trajanja pravne norm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lik pravne norme – pisana norma (sadržana u pravnom aktu)/ nepisana norma (nastaje običajnim putem)</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orno važenje norme – generalna norma (univerzalna, važenje na čitavom državnom teritoriju)/ partikularna norma (primjena na određenom dijelu državnog teritorij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teratura: </a:t>
            </a:r>
            <a:endParaRPr b="0" lang="en-US" sz="20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BARBIĆ, J., Pravo društava, Knjiga prva - opći dio, Zagreb 1999.</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BARBIĆ, J., Pravo društava, Knjiga druga – društva kapitala, Zagreb 2005.</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BARBIĆ, J., Pravo društava, Knjiga treća – društva osoba, Zagreb 2002.</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FILIPOVIĆ V., V. Gorenc, Z. Slakoper, V. Brkanić, Komentar Zakona o trgovačkim društvima, Zagreb 2004.</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RENC, V., Trgovačko pravo – ugovori, Školska knjiga, Zagreb 1997.</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RENC, V., Osnove trgovačkog prava, Gorenc i dr., Zagreb 2001.</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LUKŠIĆ, B., Trgovačko pravo, Ekonomski fakultet Split, Split 2003.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RBAN, D., Država i pravo, Golden marketing, Zagreb 2003.</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nzivnost (stupanj slobode) pravne norme – kategorička norma (kogentna, striktna, adresat nema slobodu u pogledu nastanka i sadržaja obveza, odnosno ovlaštenja)/ disjunktivna norma (razlikovanje na alternativne i dispozitivne norme, sloboda adresata u uređenju pravnog odnosa; kod alternativne norme adresat može između više mogućnosti odabrati jednu; kod dispozitivne norme ona se primjenjuje u slučaju ako adresati svoj pravni odnos nisu drugačije uredili ugovorom, karakteristične za trgovačko pra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avna snaga (hijerarhija) norme – više i niže norme</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rsta dispozicije pravne norme – naređujuća norma (naređuje određenu činidbu adresata) / zabranjujuća norma (zabranjuje određeno ponašanje adresata) / ovlašćujuća norma (daje određenu ovlast adresatu, ali ne propisuje nikakvu štetnu posljedicu u slučaju nekorištenja ovlasti adresa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a norma i vremenska valjanost</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graničenost valjanosti pravne norme u vremenu – početak, trajanje i prestanak primjene pravne norm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četak primjene pravne norme – stupanje na snagu 8 dana nakon dana objave, osim ako je zakonom određeno drugačije (razdoblje vakacije (vacatio legi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troaktivnost pravne norme – iznimka, povratna valjanost (primjena) pravne norme na neku pravnu situaciju koja je nastala prije donošenja pravne norme; zabrana retroaktivnosti pravnih normi u kaznenom pravu (načelo zakonit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stanak pravne norm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 Abrogacija – izričiti prestanak ranije pravne norme donošenjem nove koja je ukida, pojavljuje se u prijelaznim i završnim odredbama propis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b) Derogacija – prešutni prestanak ranije pravne norme donošenjem nove koja je jednaka po pravnoj snazi te uređuje isti pravni odnos (lex posterior derogat lex prior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 Dotrajalost – prestanak pravne norme zbog prestanka postojanja pravnih odnosa koje su one ranije uređiva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tizacija prava (pravni sustav)</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ni poredak – skup pravnih normi, načela i vrijednosti koji čine pozitivno pravo neke države (unutarnje i međunarodno prav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ertikalni pravni sustav – ukupnost normi i akata koji su razvrstani po kriteriju pravne snage (ustav, zakoni, podzakonski akti; načelo ustavnosti i zakonitosti)</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Horizontalni pravni sustav – ukupnost normi i akata koji su razvrstani po kriteriju srodnosti materije koju uređuju (grupe (područja) prava, pravne grane i pravni institu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Grupe (područja) prava i pravne gran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riterij sfere važenja – unutarnje i međunarodno pravo</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riterij sadržaja i intenzitet prisile – javno (ustavno, upravno, financijsko, sudsko organizacijo, postupovno (kazneno, građansko i upravno) i kazneno pravo) i privatno pravo (građansko (opći dio, stvarno, obvezno i nasljedno pravo), obiteljsko, trgovačko, radno pravo)</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riterij karaktera norme – materijalno i formalno (postupovno, procesno) prav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na grana – skup pravnih normi koje čine one pravne institute namijenjene uređenju sličnih pravnih odnosa (npr. građansko pravo)</a:t>
            </a: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ni institut – skup pravnih normi koji uređuje jedan uži tip pravnih odnosa (npr. pravo vlasništva)</a:t>
            </a: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na norma – temeljni element pravnog sustava</a:t>
            </a: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jektivno i subjektivno pravo – pravo u objektivnom smislu čini sustav pravnih normi i akata koje donose i provode tijela državne vlasti, a pravo u subjektivnom smislu čini skup ovlasti koje pripadaju određenom pravnom subjektu, a koja proizlaze iz objektivnog prava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a tehnika i tumačenje prava</a:t>
            </a:r>
            <a:endParaRPr b="1" lang="en-US" sz="44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avna tehnika – skup znanja, uputa, postupaka i mjerila koja su upravljena na stvaranje, primjenu, ostvarivanje, tumačenje, promjenu i prestanak pravnih norm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mjena pravne norme – postupak kojem je svrha konkretizacija pravne norme kroz njezinu primjenu na određeno činjenično stanj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umačenje prava – postupak u kojem se utvrđuje svrha pravne norme, tj. njezino točno značenje, uklanjanje nejasnoća, dvosmislenosti i proturječnosti u pravnim normam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lozi tumačenja pravnih normi – jezik, dinamika društvenih i ekonomskih odnosa, formalni izvori prava (interpretacija općih norm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rste tumačenja prava:</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    Izvorno (originarno, autentično) tumačenje – obavlja ga sam zakonodavac, uklanjanju se eventualne nejasnoće koje se javljaju u pogledu određenih pravnih normi, zakonsko tumačenje koje najčešće daje neko mjerodavno pomoćno tijelo zakonodavca (npr. Odbor za zakonodavstvo Hrvatskog sabora)</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b)    Povijesno tumačenje – valjanost pravne norme u vremenu, nastoje se istražiti okolnosti u kojima je nastao određeni pravni akt, odnos namjere zakonodavca i sadašnjih društvenih okolnosti u primjeni pravne norme</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    Sustavno (sistematsko) tumačenje – položaj određene pravne norme u pravnom sustavu, odnos pravne norme prema ostalim pravnim granama i pravnim pravilima, tu uključujemo i analogiju</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ffffcc"/>
              </a:buClr>
              <a:buSzPct val="7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eleološko (ciljno) tumačenje – utvrđivanje cilja pravne norme, objektivno tumačenje pravne norme</a:t>
            </a:r>
            <a:endParaRPr b="0" lang="en-US" sz="2800" spc="-1" strike="noStrike">
              <a:solidFill>
                <a:srgbClr val="ffffff"/>
              </a:solidFill>
              <a:latin typeface="Tahoma"/>
            </a:endParaRPr>
          </a:p>
          <a:p>
            <a:pPr marL="585000" indent="-585000">
              <a:lnSpc>
                <a:spcPct val="80000"/>
              </a:lnSpc>
              <a:spcBef>
                <a:spcPts val="700"/>
              </a:spcBef>
              <a:buClr>
                <a:srgbClr val="ffffcc"/>
              </a:buClr>
              <a:buSzPct val="7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Jezično (gramatičko) tumačenje – analiza teksta pravne norme u cilju utvrđivanja značenja riječi </a:t>
            </a:r>
            <a:endParaRPr b="0" lang="en-US" sz="2800" spc="-1" strike="noStrike">
              <a:solidFill>
                <a:srgbClr val="ffffff"/>
              </a:solidFill>
              <a:latin typeface="Tahoma"/>
            </a:endParaRPr>
          </a:p>
          <a:p>
            <a:pPr marL="585000" indent="-585000">
              <a:lnSpc>
                <a:spcPct val="80000"/>
              </a:lnSpc>
              <a:spcBef>
                <a:spcPts val="700"/>
              </a:spcBef>
              <a:buClr>
                <a:srgbClr val="ffffcc"/>
              </a:buClr>
              <a:buSzPct val="7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Logičko tumačenje – nadovezuje se na jezično, a obavlja se primjenom pravila logike (argumenum a contrario, argumentum a minor ad maius, argumenum a maiori ad minus, conclusio)</a:t>
            </a:r>
            <a:endParaRPr b="0" lang="en-US" sz="2800" spc="-1" strike="noStrike">
              <a:solidFill>
                <a:srgbClr val="ffffff"/>
              </a:solidFill>
              <a:latin typeface="Tahoma"/>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isi:</a:t>
            </a:r>
            <a:endParaRPr b="0" lang="en-US" sz="3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kon o trgovačkim društvima, NN 111/93, 34/99, 52/00, 118/03</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kon o sudskom registru, NN 1/95, 57/96, 45/99</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čajni zakon, NN 44/96, 29/99, 129/00, 123/03, 197/03, 82/06</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kon o obveznim odnosima, NN 35/05</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kon o mjenici, NN 74/94</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kon o čeku,  NN 74/9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 Doslovno, prošireno i suženo tumačenje – doslovno (deklarativno) tumačenje se ograničava na sadržaj pravne norme koji naznačen u tekstu; prošireno (ekstenzivno) tumačenje dovodi do primjene pravne norme na širi krug subjekata, odnosno pravnih odnosa, od onoga što je određeno pravnom normom; suženo (restriktivno) tumačenje ograničava i suzuje primjenu pravnog pravila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njavanje pravnih praznina – pojava određenih društvenih odnosa koji nisu regulirani pravnim norma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postavke za postojanje pravne praznine: a) zakonodavac nije svjesno zaobišao neke društvene odnose; b) radi se o važnoj pravnoj grani koja nije regulirana, a trebala bi biti; c) popunjavanje praznine ne proturječi osnovnim načelima pravnog poret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57200" indent="-457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ode popunjavanja pravnih praznina:</a:t>
            </a:r>
            <a:endParaRPr b="0" lang="en-US" sz="2000" spc="-1" strike="noStrike">
              <a:solidFill>
                <a:srgbClr val="ffffff"/>
              </a:solidFill>
              <a:latin typeface="Tahoma"/>
            </a:endParaRPr>
          </a:p>
          <a:p>
            <a:pPr marL="457200" indent="-45720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alogija – zaključivanje po sličnosti, na određeni društveni odnos se primjenjuju postojeća pravna pravila koja uređuju neki sličan pravni odnos; razlikovanje zakonske analogije kod koje se polazi od zakonskog teksta te se značenje pravila proširuje i pravne analogije gdje se radi o primjeni načela i općih postavki koje vrijede za određenu pravnu granu; analogija je zabranjena u kaznenom pravu (načelo zakonitosti)   </a:t>
            </a:r>
            <a:endParaRPr b="0" lang="en-US" sz="2000" spc="-1" strike="noStrike">
              <a:solidFill>
                <a:srgbClr val="ffffff"/>
              </a:solidFill>
              <a:latin typeface="Tahoma"/>
            </a:endParaRPr>
          </a:p>
          <a:p>
            <a:pPr marL="457200" indent="-45720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imjena običajnog prava</a:t>
            </a:r>
            <a:endParaRPr b="0" lang="en-US" sz="2000" spc="-1" strike="noStrike">
              <a:solidFill>
                <a:srgbClr val="ffffff"/>
              </a:solidFill>
              <a:latin typeface="Tahoma"/>
            </a:endParaRPr>
          </a:p>
          <a:p>
            <a:pPr marL="457200" indent="-45720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vanje ovlasti sucu da stvara pravna pravila za konkretni slučaj uz primjenu postojeće sudske prakse, pravnih načela, običajnog prava i pravne doktrine (karakteristika angloameričkog prava)</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i izvori</a:t>
            </a: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ni izvori u materijalnom smislu – čimbenici koji utječu na stvaranje prava (društveni odnosi, volja zakonodavc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ni izvori u formalnom smislu – pojavni oblici u kojima se pojavljuju pravne nor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zlikovanje propisa, autonomnih izvora prava, sudska prakse i pravne doktr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opisi – pravni izvori koje donosi zakonodavac; hijerarhija propisa: Ustav, zakoni, podzakonski ak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stav – najviši pravni akt koji uređuje državno ustrojstvo, odnose između različitih tijela državne vlasti, temeljna prava i slobode građana te pravna načela na kojima počiva određeni pravni poredak; poseban postupak donošenja i izmjene ustava (kvalificirana većin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koni – propisi koje donosi zakonodavac, a koji podrobnije razrađuju odredbe Ustava; načelo ustavnosti i zakonitosti; apstraktni karakter pravnih pravila u zakonim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dzakonski akti – donose ih u pravilu izvršna tijela vlasti (Vlada); služe za provedbu zakonskih propisa; pravilnici, uredbe, odluke, naredb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utonomni izvori prava – stvaraju ih sami adresati na koje će se oni i primjenjivati</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rste autonomnih izvora:</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čaji – opća i dugotrajna primjena, svijest o ispravnosti (opinio necessitatis)</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zance – kodificirani običaji, opće i posebne uzance</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pći uvjeti poslovanja (formularno pravo) – opći uvjeti poslovanja u užem smislu, tipski ugovori, ugovori po pristupu (adhezijski ugovori), termini (klauzu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dska praksa i pravna znanost kao posredni izvori prava – djeluju snagom svoje uvjerljiv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i subjekti</a:t>
            </a:r>
            <a:endParaRPr b="1" lang="en-US" sz="4400" spc="-1" strike="noStrike">
              <a:solidFill>
                <a:srgbClr val="eaeaea"/>
              </a:solidFill>
              <a:latin typeface="Tahoma"/>
            </a:endParaRPr>
          </a:p>
        </p:txBody>
      </p:sp>
      <p:sp>
        <p:nvSpPr>
          <p:cNvPr id="2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ni subjekti – nositelji prava i obveza u pravnom prometu, podjela na pravne i fizičke osobe</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zičke osobe – pojedinci</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ne osobe – društvene tvorevine kojima pravni poredak priznaje svojstvo pravnog subjekta (trgovačka društva, ustanove, fondov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zička osoba – pojedinac koji stječe pravni subjektivitet rođenjem, a trajno ga gubi smrću</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avna fikcija nerođenog djeteta – nerođenom djetetu se priznaje svojstvo fizičke osobe ako se rodi živo kada se radi o njegovim imovinskim pravima (nasljedno pravo)</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lašenje nestale osobe umrlom – pravni institut kojim se u slučaju nestanka određene osobe i ispunjenja određenih zakonskih pretpostavki, provodi postupak utvrđivanja nestale osobe umrlom; mogućnost naknadne izmjene takve odluke u slučaju ako je nestala osoba živ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avna sposobnost fizičke osobe – svojstvo pojedinca da bude nositelj prava i obveza, stječe se rođenjem, a gubi smrć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jelatna sposobnost fizičke osobe– svojstvo fizičke osobe da svojim činjenjem ili propuštanjem stječe prava i preuzima obveze; razlikovanje poslovne sposobnosti kao sposobnosti da se sklapaju pravni poslovi i poduzimanju pravne radnje radi zaštite prava, i deliktne sposobnosti koja znači odgovornost za štetu i protupravne radn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žava - pojam</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ržava – društvena organizacija koja ima svoja tijela vlasti putem kojih ostvaruje svoje funkcije te ima mogućnost primjenjivati sankcije prema pojedinim pripadnicima društvene zajednice ako ne postupaju u skladu s pravnim pravilima  </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lježja suvremene države:</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verenitet</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mokratski legitimitet</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ni karakter (Rechtsstaat)</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Javnost (prevlast javne sfe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oslovna sposobnost fizičke osobe– stječe se nastupanjem punoljetstva (u nas 18 godina) te traje do smrti (mogućnost ograničenja ili potpunog gubitka poslovne sposobnosti u posebnom postupku)</a:t>
            </a:r>
            <a:endParaRPr b="0" lang="en-US" sz="1600" spc="-1" strike="noStrike">
              <a:solidFill>
                <a:srgbClr val="ffffff"/>
              </a:solidFill>
              <a:latin typeface="Tahoma"/>
            </a:endParaRPr>
          </a:p>
          <a:p>
            <a:pPr marL="325800" indent="-3258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klapanje braka maloljetne osobe koja je navršila 16 godina dovodi do stjecanja pune poslovne sposobnosti prije navršenih 18 godina (sud može u izvanparničnom postupku dopustiti sklapanje braka osobi koja je navršila 16 godina života, ako utvrdi da je mentalno i tjelesno zrela za brak, te da za zaključenje braka postoji opravdan razlog, prijedlog za donošenje odluke o dopuštenju sklapanja braka može podnijeti samo maloljetna osoba, u postupku će sud saslušati maloljetnog podnositelja prijedloga, njegove roditelje, odnosno skrbnika i osobu s kojom namjerava sklopiti brak te pribaviti mišljenje centra za socijalnu skrb i ispitati okolnosti značajne za odluku)</a:t>
            </a:r>
            <a:endParaRPr b="0" lang="en-US" sz="1600" spc="-1" strike="noStrike">
              <a:solidFill>
                <a:srgbClr val="ffffff"/>
              </a:solidFill>
              <a:latin typeface="Tahoma"/>
            </a:endParaRPr>
          </a:p>
          <a:p>
            <a:pPr marL="325800" indent="-3258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iznavanje ograničene poslovne sposobnosti maloljetnim osobama s navršenih 14 godina života, prije toga dijete nema poslovnu sposobnost te ga zastupa zakonski zastupnik ili skrbnik (sklapanje ugovora o radu i raspolaganje s plaćom s navršenih 15 godina, sposobnost za izradu oporuke 16 godina, pristanak djeteta od 12 godina u postupku posvojenja)</a:t>
            </a:r>
            <a:endParaRPr b="0" lang="en-US" sz="1600" spc="-1" strike="noStrike">
              <a:solidFill>
                <a:srgbClr val="ffffff"/>
              </a:solidFill>
              <a:latin typeface="Tahoma"/>
            </a:endParaRPr>
          </a:p>
          <a:p>
            <a:pPr marL="325800" indent="-3258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ovedba posebnog postupka radi ograničenja ili potpunog oduzimanja poslovne sposobnosti zbog duševne bolesti uz imenovanje zakonskih zastupnika ili skrbnik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ciranje fizičke osobe – </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e i prezime</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ične knjige (rođenih, vjenčanih i umrlih) – JMBG</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dencije o državljanstvu</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bivalište – mjesto u kojem osoba stalno živi</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avište – mjesto privremenog boravka osobe izvan prebivališta</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obna iskaznica</a:t>
            </a:r>
            <a:endParaRPr b="0" lang="en-US" sz="2400" spc="-1" strike="noStrike">
              <a:solidFill>
                <a:srgbClr val="ffffff"/>
              </a:solidFill>
              <a:latin typeface="Tahoma"/>
            </a:endParaRPr>
          </a:p>
          <a:p>
            <a:pPr marL="609480" indent="-609480">
              <a:lnSpc>
                <a:spcPct val="9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tovn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tni elementi koji se moraju ispuniti da bi govorili o pravnoj osobi – cilj (svrha), imovina, identitet i tijela pravne osob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čini osnivanja pravnih osoba: sustav koncesije, sustav slobodnog udruživanja, normativni (zakonski) susta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avna sposobnost pravne osobe – stječe se u trenutku osnivanja pravne osobe; pravne osobe ne mogu stupati u osobne, obiteljske ili nasljednopravne odnose; ultra vires doktrina</a:t>
            </a:r>
            <a:endParaRPr b="0" lang="en-US" sz="2800" spc="-1" strike="noStrike">
              <a:solidFill>
                <a:srgbClr val="ffffff"/>
              </a:solidFill>
              <a:latin typeface="Tahoma"/>
            </a:endParaRPr>
          </a:p>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latna sposobnost pravne osobe – stječe se u trenutku osnivanja pravne osobe; ostvaruje se putem tijela pravne osobe koja čine fizičke osobe ili putem zastupnika koji se angažiraju na temelju ugov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iktna sposobnost fizičke osobe – odgovornost za protupravna djela i uzrokovanu štetu; naziva se i ubrojivošću; stječe se s 14 godina (podjela ma mlađe maloljetnike (14-16 g.) i starije maloljetnike (16-18 g.)), prije toga za dijete odgovaraju roditelji ili skrbnici (iznimno djetetu od 12 godina koje počini teže kazneno djelo može se odrediti mjera odgoja u ustanovi)</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ključenje ubrojivosti u slučaju duševne bolesti, poremećenosti ili nedovoljnog duševnog razvitk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Zastupanje pravnih subjekata</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ni subjekti nastupaju u pravnom prometu samostalno (fizičke osobe i tijela pravnih osoba), ali mogu angažirati i treće osobe koje će ih zastupati u pravnom prometu</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 obzirom na pravnu osnovu na kojoj počiva zastupanje razlikujemo zakonsko i ugovorno zastupanj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stupnici (punomoćnici) sklapaju pravne poslove u ime i za račun opunomoćenika (pravnih subjeka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konsko zastupanje fizičkih osoba – maloljetne osobe (manje od 18 godina) nemaju poslovnu sposobnost pa se kao njihovi zakonski zastupnici pojavljuju roditelji, odnosno skrbnici; u slučaju djelomičnog ili potpunog lišavanja poslovne sposobnosti punoljetne osobe imenuju joj se zakonski zastupnici (skrbnic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slučaju prekoračenja ovlasti zakonskog zastupnika pri sklapanju pravnih poslova u ime i za račun fizičke osobe, ocjenjuje se štetnost za zastupanog, a postupanje trećih osoba se prosuđuje prema načelu savjesnosti i poštenja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govorno zastupanje fizičke osobe – zasniva se ugovorom o zastupanju (punomoći), zastupnik može biti samo potpuno poslovno sposobna osob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rste punomoći:</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ća (generalna) i posebna (specijalna) punomoć – vrste poslova koji se sklapaju</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ograničena i ograničena punomoć – potreba pribavljanja uputa i odobrenja za sklapanje ugovor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očena (vremenski ograničena) i neoročena (vremenski neograničena) punomoć – vrijeme trajanja punomoći</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alna i neformalna punomoć – propisivanje posebnog oblika za sklapanje ugovora ovisno o glavnom poslu</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o punomoćnik učini nešto izvan danih ovlasti, to ne obvezuje opunomoćenika, osim ako to naknadno odobri u primjerenom roku; takvi pravni poslovi vrijede za treće osobe, osim ako su znale ili morale znati da je pravni posao sklopljen izvan dane punomoć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tanak punomoći – ispunjenje ovlasti iz punomoći, smrt opunomoćenika ili punomoćnika, opoziv od strane opunomoćenika, otkaz punomoćnika, prestanak punomoćnika, gubitak ili ograničenje poslovne sposobnosti punomoćnika ili opunomoćenika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konsko zastupanje pravnih osoba – zastupnici po zakonu, pravne osobe ostvaruju svoju poslovnu sposobnost putem svojih organ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govačka društva – društva osoba (komplementari), društva kapitala (upra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ementi države</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menti držav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verena vlas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ritorij </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ovništ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govorno zastupanje pravnih osoba – ugovor o zastupanju uređen ZOO, ZTD poznaje prokuru, punomoćnika po zaposlenju, trgovačkog punomoćnika i trgovačkog putnik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Zastupnici po punomoći</a:t>
            </a:r>
            <a:r>
              <a:rPr b="0" lang="hr-HR" sz="2000" spc="-1" strike="noStrike">
                <a:solidFill>
                  <a:srgbClr val="ffffff"/>
                </a:solidFill>
                <a:latin typeface="Tahoma"/>
              </a:rPr>
              <a:t> - z</a:t>
            </a:r>
            <a:r>
              <a:rPr b="0" lang="en-GB" sz="2000" spc="-1" strike="noStrike">
                <a:solidFill>
                  <a:srgbClr val="ffffff"/>
                </a:solidFill>
                <a:latin typeface="Tahoma"/>
              </a:rPr>
              <a:t>astupnik </a:t>
            </a:r>
            <a:r>
              <a:rPr b="0" lang="hr-HR" sz="2000" spc="-1" strike="noStrike">
                <a:solidFill>
                  <a:srgbClr val="ffffff"/>
                </a:solidFill>
                <a:latin typeface="Tahoma"/>
              </a:rPr>
              <a:t>po zakonu </a:t>
            </a:r>
            <a:r>
              <a:rPr b="0" lang="en-GB" sz="2000" spc="-1" strike="noStrike">
                <a:solidFill>
                  <a:srgbClr val="ffffff"/>
                </a:solidFill>
                <a:latin typeface="Tahoma"/>
              </a:rPr>
              <a:t>trgovačkog društva može dati punomoć drugoj osobi</a:t>
            </a:r>
            <a:r>
              <a:rPr b="0" lang="hr-HR" sz="2000" spc="-1" strike="noStrike">
                <a:solidFill>
                  <a:srgbClr val="ffffff"/>
                </a:solidFill>
                <a:latin typeface="Tahoma"/>
              </a:rPr>
              <a:t>; p</a:t>
            </a:r>
            <a:r>
              <a:rPr b="0" lang="en-GB" sz="2000" spc="-1" strike="noStrike">
                <a:solidFill>
                  <a:srgbClr val="ffffff"/>
                </a:solidFill>
                <a:latin typeface="Tahoma"/>
              </a:rPr>
              <a:t>unomoć se može dati u granicama ovlasti zastupnika koje su upisane u sudskom registru</a:t>
            </a:r>
            <a:r>
              <a:rPr b="0" lang="hr-HR" sz="2000" spc="-1" strike="noStrike">
                <a:solidFill>
                  <a:srgbClr val="ffffff"/>
                </a:solidFill>
                <a:latin typeface="Tahoma"/>
              </a:rPr>
              <a:t>; a</a:t>
            </a:r>
            <a:r>
              <a:rPr b="0" lang="en-GB" sz="2000" spc="-1" strike="noStrike">
                <a:solidFill>
                  <a:srgbClr val="ffffff"/>
                </a:solidFill>
                <a:latin typeface="Tahoma"/>
              </a:rPr>
              <a:t>ko </a:t>
            </a:r>
            <a:r>
              <a:rPr b="0" lang="hr-HR" sz="2000" spc="-1" strike="noStrike">
                <a:solidFill>
                  <a:srgbClr val="ffffff"/>
                </a:solidFill>
                <a:latin typeface="Tahoma"/>
              </a:rPr>
              <a:t>ZTD-om</a:t>
            </a:r>
            <a:r>
              <a:rPr b="0" lang="en-GB" sz="2000" spc="-1" strike="noStrike">
                <a:solidFill>
                  <a:srgbClr val="ffffff"/>
                </a:solidFill>
                <a:latin typeface="Tahoma"/>
              </a:rPr>
              <a:t> nije drugačije određeno, punomoć </a:t>
            </a:r>
            <a:r>
              <a:rPr b="0" lang="hr-HR" sz="2000" spc="-1" strike="noStrike">
                <a:solidFill>
                  <a:srgbClr val="ffffff"/>
                </a:solidFill>
                <a:latin typeface="Tahoma"/>
              </a:rPr>
              <a:t>se</a:t>
            </a:r>
            <a:r>
              <a:rPr b="0" lang="en-GB" sz="2000" spc="-1" strike="noStrike">
                <a:solidFill>
                  <a:srgbClr val="ffffff"/>
                </a:solidFill>
                <a:latin typeface="Tahoma"/>
              </a:rPr>
              <a:t> daje sukladno odredbama propisa kojima se uređuju obvezni odnosi</a:t>
            </a:r>
            <a:r>
              <a:rPr b="0" lang="hr-HR" sz="2000" spc="-1" strike="noStrike">
                <a:solidFill>
                  <a:srgbClr val="ffffff"/>
                </a:solidFill>
                <a:latin typeface="Tahoma"/>
              </a:rPr>
              <a:t>; na zastupnike po punomoći se primjenjuje ograničenje sklapanja ugovora sa samim sobom </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unomoćnik po zaposlenju</a:t>
            </a:r>
            <a:r>
              <a:rPr b="0" lang="hr-HR" sz="2000" spc="-1" strike="noStrike">
                <a:solidFill>
                  <a:srgbClr val="ffffff"/>
                </a:solidFill>
                <a:latin typeface="Tahoma"/>
              </a:rPr>
              <a:t> - o</a:t>
            </a:r>
            <a:r>
              <a:rPr b="0" lang="en-GB" sz="2000" spc="-1" strike="noStrike">
                <a:solidFill>
                  <a:srgbClr val="ffffff"/>
                </a:solidFill>
                <a:latin typeface="Tahoma"/>
              </a:rPr>
              <a:t>soba čija je dužnost da kao </a:t>
            </a:r>
            <a:r>
              <a:rPr b="0" lang="hr-HR" sz="2000" spc="-1" strike="noStrike">
                <a:solidFill>
                  <a:srgbClr val="ffffff"/>
                </a:solidFill>
                <a:latin typeface="Tahoma"/>
              </a:rPr>
              <a:t>radnik</a:t>
            </a:r>
            <a:r>
              <a:rPr b="0" lang="en-GB" sz="2000" spc="-1" strike="noStrike">
                <a:solidFill>
                  <a:srgbClr val="ffffff"/>
                </a:solidFill>
                <a:latin typeface="Tahoma"/>
              </a:rPr>
              <a:t> trgovačkog društva obavlja poslove koji po redovitom tijeku stvari uključuju i sklapanje određenih ugovora, odnosno poduzimanje određenih pravnih radnji, ovlaštena je da kao punomoćnik društva sklapa i te ugovore i poduzima te pravne radnje u granicama poslova koje obavlja</a:t>
            </a:r>
            <a:r>
              <a:rPr b="0" lang="hr-HR" sz="2000" spc="-1" strike="noStrike">
                <a:solidFill>
                  <a:srgbClr val="ffffff"/>
                </a:solidFill>
                <a:latin typeface="Tahoma"/>
              </a:rPr>
              <a:t>; na punomoćnika po zaposlenju primjenjuje se ograničenje sklapanja ugovora sa samim sobom </a:t>
            </a:r>
            <a:r>
              <a:rPr b="0" lang="en-GB"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kura</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okura - p</a:t>
            </a:r>
            <a:r>
              <a:rPr b="0" lang="en-GB" sz="2000" spc="-1" strike="noStrike">
                <a:solidFill>
                  <a:srgbClr val="ffffff"/>
                </a:solidFill>
                <a:latin typeface="Tahoma"/>
              </a:rPr>
              <a:t>rokura je trgovačka punomoć čiji su sadržaj i opseg ovlasti određeni </a:t>
            </a:r>
            <a:r>
              <a:rPr b="0" lang="hr-HR" sz="2000" spc="-1" strike="noStrike">
                <a:solidFill>
                  <a:srgbClr val="ffffff"/>
                </a:solidFill>
                <a:latin typeface="Tahoma"/>
              </a:rPr>
              <a:t>ZTD-om; p</a:t>
            </a:r>
            <a:r>
              <a:rPr b="0" lang="en-GB" sz="2000" spc="-1" strike="noStrike">
                <a:solidFill>
                  <a:srgbClr val="ffffff"/>
                </a:solidFill>
                <a:latin typeface="Tahoma"/>
              </a:rPr>
              <a:t>rokuru može dati samo pravna i fizička osoba koja je trgovac u smislu </a:t>
            </a:r>
            <a:r>
              <a:rPr b="0" lang="hr-HR" sz="2000" spc="-1" strike="noStrike">
                <a:solidFill>
                  <a:srgbClr val="ffffff"/>
                </a:solidFill>
                <a:latin typeface="Tahoma"/>
              </a:rPr>
              <a:t>ZTD-a; p</a:t>
            </a:r>
            <a:r>
              <a:rPr b="0" lang="en-GB" sz="2000" spc="-1" strike="noStrike">
                <a:solidFill>
                  <a:srgbClr val="ffffff"/>
                </a:solidFill>
                <a:latin typeface="Tahoma"/>
              </a:rPr>
              <a:t>rokura se daje na način predviđen izjavom o osnivanju društva ili društvenim ugovorom, odnosno statutom trgovačkog društva</a:t>
            </a:r>
            <a:r>
              <a:rPr b="0" lang="hr-HR" sz="2000" spc="-1" strike="noStrike">
                <a:solidFill>
                  <a:srgbClr val="ffffff"/>
                </a:solidFill>
                <a:latin typeface="Tahoma"/>
              </a:rPr>
              <a:t> i </a:t>
            </a:r>
            <a:r>
              <a:rPr b="0" lang="en-GB" sz="2000" spc="-1" strike="noStrike">
                <a:solidFill>
                  <a:srgbClr val="ffffff"/>
                </a:solidFill>
                <a:latin typeface="Tahoma"/>
              </a:rPr>
              <a:t>u pisanom obliku</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okurist</a:t>
            </a:r>
            <a:r>
              <a:rPr b="0" lang="hr-HR" sz="2000" spc="-1" strike="noStrike">
                <a:solidFill>
                  <a:srgbClr val="ffffff"/>
                </a:solidFill>
                <a:latin typeface="Tahoma"/>
              </a:rPr>
              <a:t> - p</a:t>
            </a:r>
            <a:r>
              <a:rPr b="0" lang="en-GB" sz="2000" spc="-1" strike="noStrike">
                <a:solidFill>
                  <a:srgbClr val="ffffff"/>
                </a:solidFill>
                <a:latin typeface="Tahoma"/>
              </a:rPr>
              <a:t>rokura se može dati svakoj punoljetnoj i potpuno poslovno sposobnoj osobi, bez obzira na dužnost koju obnaša i poslove koje obavlja, izuzev ako što drugo nije predviđeno izjavom o osnivanju društva ili društvenim ugovorom, odnosno statutom trgovačkoga društva</a:t>
            </a:r>
            <a:r>
              <a:rPr b="0" lang="hr-HR" sz="2000" spc="-1" strike="noStrike">
                <a:solidFill>
                  <a:srgbClr val="ffffff"/>
                </a:solidFill>
                <a:latin typeface="Tahoma"/>
              </a:rPr>
              <a:t>; p</a:t>
            </a:r>
            <a:r>
              <a:rPr b="0" lang="en-GB" sz="2000" spc="-1" strike="noStrike">
                <a:solidFill>
                  <a:srgbClr val="ffffff"/>
                </a:solidFill>
                <a:latin typeface="Tahoma"/>
              </a:rPr>
              <a:t>rokura se ne može dati pravnoj osobi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ojedinačna i skupna prokura</a:t>
            </a:r>
            <a:r>
              <a:rPr b="0" lang="hr-HR" sz="2000" spc="-1" strike="noStrike">
                <a:solidFill>
                  <a:srgbClr val="ffffff"/>
                </a:solidFill>
                <a:latin typeface="Tahoma"/>
              </a:rPr>
              <a:t> - p</a:t>
            </a:r>
            <a:r>
              <a:rPr b="0" lang="en-GB" sz="2000" spc="-1" strike="noStrike">
                <a:solidFill>
                  <a:srgbClr val="ffffff"/>
                </a:solidFill>
                <a:latin typeface="Tahoma"/>
              </a:rPr>
              <a:t>rokura se može dati jednoj ili više osoba</a:t>
            </a:r>
            <a:r>
              <a:rPr b="0" lang="hr-HR" sz="2000" spc="-1" strike="noStrike">
                <a:solidFill>
                  <a:srgbClr val="ffffff"/>
                </a:solidFill>
                <a:latin typeface="Tahoma"/>
              </a:rPr>
              <a:t>; a</a:t>
            </a:r>
            <a:r>
              <a:rPr b="0" lang="en-GB" sz="2000" spc="-1" strike="noStrike">
                <a:solidFill>
                  <a:srgbClr val="ffffff"/>
                </a:solidFill>
                <a:latin typeface="Tahoma"/>
              </a:rPr>
              <a:t>ko je prokura dana dvjema ili više osoba bez naznake da se radi o skupnoj prokuri, svaka od tih osoba je prokurist koji samostalno zastupa trgovačko društvo u granicama ovlasti utvrđenih </a:t>
            </a:r>
            <a:r>
              <a:rPr b="0" lang="hr-HR" sz="2000" spc="-1" strike="noStrike">
                <a:solidFill>
                  <a:srgbClr val="ffffff"/>
                </a:solidFill>
                <a:latin typeface="Tahoma"/>
              </a:rPr>
              <a:t>ZTD-om; p</a:t>
            </a:r>
            <a:r>
              <a:rPr b="0" lang="en-GB" sz="2000" spc="-1" strike="noStrike">
                <a:solidFill>
                  <a:srgbClr val="ffffff"/>
                </a:solidFill>
                <a:latin typeface="Tahoma"/>
              </a:rPr>
              <a:t>rokura dana dvjema ili više osoba smatrat će se skupnom prokurom samo ako je tako izričito naznačeno u prokuri</a:t>
            </a:r>
            <a:r>
              <a:rPr b="0" lang="hr-HR" sz="2000" spc="-1" strike="noStrike">
                <a:solidFill>
                  <a:srgbClr val="ffffff"/>
                </a:solidFill>
                <a:latin typeface="Tahoma"/>
              </a:rPr>
              <a:t>; i</a:t>
            </a:r>
            <a:r>
              <a:rPr b="0" lang="en-GB" sz="2000" spc="-1" strike="noStrike">
                <a:solidFill>
                  <a:srgbClr val="ffffff"/>
                </a:solidFill>
                <a:latin typeface="Tahoma"/>
              </a:rPr>
              <a:t>zjave volje ili pravne radnje koje učine skupni prokuristi proizvode pravne učinke samo ako ih učine svi skupni prokuristi zajedno</a:t>
            </a:r>
            <a:r>
              <a:rPr b="0" lang="hr-HR" sz="2000" spc="-1" strike="noStrike">
                <a:solidFill>
                  <a:srgbClr val="ffffff"/>
                </a:solidFill>
                <a:latin typeface="Tahoma"/>
              </a:rPr>
              <a:t> (bi</a:t>
            </a:r>
            <a:r>
              <a:rPr b="0" lang="en-GB" sz="2000" spc="-1" strike="noStrike">
                <a:solidFill>
                  <a:srgbClr val="ffffff"/>
                </a:solidFill>
                <a:latin typeface="Tahoma"/>
              </a:rPr>
              <a:t>t će valjane izjave volje ili pravne radnje koje učini jedan od skupnih prokurista uz izričitu prethodnu suglasnost ili izričito naknadno odobrenje ostalih skupnih prokurista</a:t>
            </a:r>
            <a:r>
              <a:rPr b="0" lang="hr-HR" sz="2000" spc="-1" strike="noStrike">
                <a:solidFill>
                  <a:srgbClr val="ffffff"/>
                </a:solidFill>
                <a:latin typeface="Tahoma"/>
              </a:rPr>
              <a:t>); i</a:t>
            </a:r>
            <a:r>
              <a:rPr b="0" lang="en-GB" sz="2000" spc="-1" strike="noStrike">
                <a:solidFill>
                  <a:srgbClr val="ffffff"/>
                </a:solidFill>
                <a:latin typeface="Tahoma"/>
              </a:rPr>
              <a:t>zjava volje ili pravna radnja učinjena prema jednom prokuristi ima pravni učinak kao da je učinjena prema svim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pseg ovlasti iz prokure</a:t>
            </a:r>
            <a:r>
              <a:rPr b="0" lang="hr-HR" sz="2000" spc="-1" strike="noStrike">
                <a:solidFill>
                  <a:srgbClr val="ffffff"/>
                </a:solidFill>
                <a:latin typeface="Tahoma"/>
              </a:rPr>
              <a:t> - p</a:t>
            </a:r>
            <a:r>
              <a:rPr b="0" lang="en-GB" sz="2000" spc="-1" strike="noStrike">
                <a:solidFill>
                  <a:srgbClr val="ffffff"/>
                </a:solidFill>
                <a:latin typeface="Tahoma"/>
              </a:rPr>
              <a:t>rokurist može sklapati sve ugovore i poduzimati sve pravne radnje u ime i za račun trgovačkog društva i zastupati ga u postupcima pred upravnim i drugim državnim organima, ustanovama s javnopravnim ovlastima, te državnim i izbranim sudovima</a:t>
            </a:r>
            <a:r>
              <a:rPr b="0" lang="hr-HR" sz="2000" spc="-1" strike="noStrike">
                <a:solidFill>
                  <a:srgbClr val="ffffff"/>
                </a:solidFill>
                <a:latin typeface="Tahoma"/>
              </a:rPr>
              <a:t>; p</a:t>
            </a:r>
            <a:r>
              <a:rPr b="0" lang="en-GB" sz="2000" spc="-1" strike="noStrike">
                <a:solidFill>
                  <a:srgbClr val="ffffff"/>
                </a:solidFill>
                <a:latin typeface="Tahoma"/>
              </a:rPr>
              <a:t>rokurist ne može bez posebne ovlasti otuđiti ni opteretiti nekretnine trgovačkog društva i ne može davati izjave ni poduzimati pravne radnje kojima se započinje stečajni postupak ili drugi postupak koji dovodi do prestanka društva</a:t>
            </a:r>
            <a:r>
              <a:rPr b="0" lang="hr-HR" sz="2000" spc="-1" strike="noStrike">
                <a:solidFill>
                  <a:srgbClr val="ffffff"/>
                </a:solidFill>
                <a:latin typeface="Tahoma"/>
              </a:rPr>
              <a:t>; p</a:t>
            </a:r>
            <a:r>
              <a:rPr b="0" lang="en-GB" sz="2000" spc="-1" strike="noStrike">
                <a:solidFill>
                  <a:srgbClr val="ffffff"/>
                </a:solidFill>
                <a:latin typeface="Tahoma"/>
              </a:rPr>
              <a:t>rokurist ne može davati punomoć za sklapanje poslova drugim osobama </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graničenje prokure</a:t>
            </a:r>
            <a:r>
              <a:rPr b="0" lang="hr-HR" sz="2000" spc="-1" strike="noStrike">
                <a:solidFill>
                  <a:srgbClr val="ffffff"/>
                </a:solidFill>
                <a:latin typeface="Tahoma"/>
              </a:rPr>
              <a:t> - o</a:t>
            </a:r>
            <a:r>
              <a:rPr b="0" lang="en-GB" sz="2000" spc="-1" strike="noStrike">
                <a:solidFill>
                  <a:srgbClr val="ffffff"/>
                </a:solidFill>
                <a:latin typeface="Tahoma"/>
              </a:rPr>
              <a:t>graničenje prokure koje nije predviđeno </a:t>
            </a:r>
            <a:r>
              <a:rPr b="0" lang="hr-HR" sz="2000" spc="-1" strike="noStrike">
                <a:solidFill>
                  <a:srgbClr val="ffffff"/>
                </a:solidFill>
                <a:latin typeface="Tahoma"/>
              </a:rPr>
              <a:t>ZTD-om</a:t>
            </a:r>
            <a:r>
              <a:rPr b="0" lang="en-GB" sz="2000" spc="-1" strike="noStrike">
                <a:solidFill>
                  <a:srgbClr val="ffffff"/>
                </a:solidFill>
                <a:latin typeface="Tahoma"/>
              </a:rPr>
              <a:t> nema učinka prema trećim osobama, bez obzira na to je li treća osoba za njih znala ili morala znati</a:t>
            </a:r>
            <a:r>
              <a:rPr b="0" lang="hr-HR" sz="2000" spc="-1" strike="noStrike">
                <a:solidFill>
                  <a:srgbClr val="ffffff"/>
                </a:solidFill>
                <a:latin typeface="Tahoma"/>
              </a:rPr>
              <a:t>; o</a:t>
            </a:r>
            <a:r>
              <a:rPr b="0" lang="en-GB" sz="2000" spc="-1" strike="noStrike">
                <a:solidFill>
                  <a:srgbClr val="ffffff"/>
                </a:solidFill>
                <a:latin typeface="Tahoma"/>
              </a:rPr>
              <a:t>graničenje prokure na poslovanje jedne ili više podružnica ima učinka prema trećim osobama samo ako je upisano u sudskom registr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klapanje ugovora sa samim sobom</a:t>
            </a:r>
            <a:r>
              <a:rPr b="0" lang="hr-HR" sz="2400" spc="-1" strike="noStrike">
                <a:solidFill>
                  <a:srgbClr val="ffffff"/>
                </a:solidFill>
                <a:latin typeface="Tahoma"/>
              </a:rPr>
              <a:t> - p</a:t>
            </a:r>
            <a:r>
              <a:rPr b="0" lang="en-GB" sz="2400" spc="-1" strike="noStrike">
                <a:solidFill>
                  <a:srgbClr val="ffffff"/>
                </a:solidFill>
                <a:latin typeface="Tahoma"/>
              </a:rPr>
              <a:t>rokurist ne može bez posebne ovlasti trgovačkog društva nastupati kao druga ugovorna strana i s društvom sklapati ugovore u svoje ime i za svoj račun, u svoje ime a za račun drugih osoba, ili u ime i za račun drugih osoba.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ijenos prokure</a:t>
            </a:r>
            <a:r>
              <a:rPr b="0" lang="hr-HR" sz="2400" spc="-1" strike="noStrike">
                <a:solidFill>
                  <a:srgbClr val="ffffff"/>
                </a:solidFill>
                <a:latin typeface="Tahoma"/>
              </a:rPr>
              <a:t> - p</a:t>
            </a:r>
            <a:r>
              <a:rPr b="0" lang="en-GB" sz="2400" spc="-1" strike="noStrike">
                <a:solidFill>
                  <a:srgbClr val="ffffff"/>
                </a:solidFill>
                <a:latin typeface="Tahoma"/>
              </a:rPr>
              <a:t>rokura nije prenosiva na drugu osobu</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poziv prokure</a:t>
            </a:r>
            <a:r>
              <a:rPr b="0" lang="hr-HR" sz="2400" spc="-1" strike="noStrike">
                <a:solidFill>
                  <a:srgbClr val="ffffff"/>
                </a:solidFill>
                <a:latin typeface="Tahoma"/>
              </a:rPr>
              <a:t> - p</a:t>
            </a:r>
            <a:r>
              <a:rPr b="0" lang="en-GB" sz="2400" spc="-1" strike="noStrike">
                <a:solidFill>
                  <a:srgbClr val="ffffff"/>
                </a:solidFill>
                <a:latin typeface="Tahoma"/>
              </a:rPr>
              <a:t>rokura se može u svako vrijeme opozvati, bez obzira na sadržaj ugovora ili drugog pravnog posla na temelju kojega je dana</a:t>
            </a:r>
            <a:r>
              <a:rPr b="0" lang="hr-H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kura trgovca pojedinca</a:t>
            </a:r>
            <a:r>
              <a:rPr b="0" lang="hr-HR" sz="2400" spc="-1" strike="noStrike">
                <a:solidFill>
                  <a:srgbClr val="ffffff"/>
                </a:solidFill>
                <a:latin typeface="Tahoma"/>
              </a:rPr>
              <a:t> - t</a:t>
            </a:r>
            <a:r>
              <a:rPr b="0" lang="en-GB" sz="2400" spc="-1" strike="noStrike">
                <a:solidFill>
                  <a:srgbClr val="ffffff"/>
                </a:solidFill>
                <a:latin typeface="Tahoma"/>
              </a:rPr>
              <a:t>rgovac pojedinac daje prokuru osobno i ovlast davanja prokure ne može prenijeti na drugu osobu</a:t>
            </a:r>
            <a:r>
              <a:rPr b="0" lang="hr-HR" sz="2400" spc="-1" strike="noStrike">
                <a:solidFill>
                  <a:srgbClr val="ffffff"/>
                </a:solidFill>
                <a:latin typeface="Tahoma"/>
              </a:rPr>
              <a:t>; p</a:t>
            </a:r>
            <a:r>
              <a:rPr b="0" lang="en-GB" sz="2400" spc="-1" strike="noStrike">
                <a:solidFill>
                  <a:srgbClr val="ffffff"/>
                </a:solidFill>
                <a:latin typeface="Tahoma"/>
              </a:rPr>
              <a:t>rokura koju je dao trgovac pojedinac ne prestaje u slučaju smrti vlastodavca niti ako je vlastodavcu oduzeta ili ograničena poslovna sposobnost </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Upis prokure</a:t>
            </a:r>
            <a:r>
              <a:rPr b="0" lang="hr-HR" sz="2400" spc="-1" strike="noStrike">
                <a:solidFill>
                  <a:srgbClr val="ffffff"/>
                </a:solidFill>
                <a:latin typeface="Tahoma"/>
              </a:rPr>
              <a:t> - davanje</a:t>
            </a:r>
            <a:r>
              <a:rPr b="0" lang="en-GB" sz="2400" spc="-1" strike="noStrike">
                <a:solidFill>
                  <a:srgbClr val="ffffff"/>
                </a:solidFill>
                <a:latin typeface="Tahoma"/>
              </a:rPr>
              <a:t> prokure i njezin opoziv upisuju se u sudski registar</a:t>
            </a:r>
            <a:r>
              <a:rPr b="0" lang="hr-HR" sz="2400" spc="-1" strike="noStrike">
                <a:solidFill>
                  <a:srgbClr val="ffffff"/>
                </a:solidFill>
                <a:latin typeface="Tahoma"/>
              </a:rPr>
              <a:t>, te se prilaže odluka o davanju odnosno opozivu prokure; u</a:t>
            </a:r>
            <a:r>
              <a:rPr b="0" lang="en-GB" sz="2400" spc="-1" strike="noStrike">
                <a:solidFill>
                  <a:srgbClr val="ffffff"/>
                </a:solidFill>
                <a:latin typeface="Tahoma"/>
              </a:rPr>
              <a:t> sudski registar upisuju se ime i prezime prokuriste</a:t>
            </a:r>
            <a:r>
              <a:rPr b="0" lang="hr-HR" sz="2400" spc="-1" strike="noStrike">
                <a:solidFill>
                  <a:srgbClr val="ffffff"/>
                </a:solidFill>
                <a:latin typeface="Tahoma"/>
              </a:rPr>
              <a:t>; pr</a:t>
            </a:r>
            <a:r>
              <a:rPr b="0" lang="en-GB" sz="2400" spc="-1" strike="noStrike">
                <a:solidFill>
                  <a:srgbClr val="ffffff"/>
                </a:solidFill>
                <a:latin typeface="Tahoma"/>
              </a:rPr>
              <a:t>ema trećim osobama koje nisu znale niti morale znati da je prokura opozvana opoziv prokure djeluje od dana upisa opoziva u sudski registar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govačka punomoć</a:t>
            </a: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ojam trgovačke punomoći</a:t>
            </a:r>
            <a:r>
              <a:rPr b="0" lang="hr-HR" sz="1800" spc="-1" strike="noStrike">
                <a:solidFill>
                  <a:srgbClr val="ffffff"/>
                </a:solidFill>
                <a:latin typeface="Tahoma"/>
              </a:rPr>
              <a:t> - t</a:t>
            </a:r>
            <a:r>
              <a:rPr b="0" lang="en-GB" sz="1800" spc="-1" strike="noStrike">
                <a:solidFill>
                  <a:srgbClr val="ffffff"/>
                </a:solidFill>
                <a:latin typeface="Tahoma"/>
              </a:rPr>
              <a:t>rgovački punomoćnik je </a:t>
            </a:r>
            <a:r>
              <a:rPr b="0" lang="hr-HR" sz="1800" spc="-1" strike="noStrike">
                <a:solidFill>
                  <a:srgbClr val="ffffff"/>
                </a:solidFill>
                <a:latin typeface="Tahoma"/>
              </a:rPr>
              <a:t>radnik</a:t>
            </a:r>
            <a:r>
              <a:rPr b="0" lang="en-GB" sz="1800" spc="-1" strike="noStrike">
                <a:solidFill>
                  <a:srgbClr val="ffffff"/>
                </a:solidFill>
                <a:latin typeface="Tahoma"/>
              </a:rPr>
              <a:t> u trgovačkom društvu ili druga osoba koju trgovac ovlasti da vodi cijelo ili dio njegovog poduzeća</a:t>
            </a:r>
            <a:r>
              <a:rPr b="0" lang="hr-HR" sz="1800" spc="-1" strike="noStrike">
                <a:solidFill>
                  <a:srgbClr val="ffffff"/>
                </a:solidFill>
                <a:latin typeface="Tahoma"/>
              </a:rPr>
              <a:t>; tr</a:t>
            </a:r>
            <a:r>
              <a:rPr b="0" lang="en-GB" sz="1800" spc="-1" strike="noStrike">
                <a:solidFill>
                  <a:srgbClr val="ffffff"/>
                </a:solidFill>
                <a:latin typeface="Tahoma"/>
              </a:rPr>
              <a:t>govačka punomoć daje se u pisanom obliku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Ovlasti iz trgovačke punomoći</a:t>
            </a:r>
            <a:r>
              <a:rPr b="0" lang="hr-HR" sz="1800" spc="-1" strike="noStrike">
                <a:solidFill>
                  <a:srgbClr val="ffffff"/>
                </a:solidFill>
                <a:latin typeface="Tahoma"/>
              </a:rPr>
              <a:t> - t</a:t>
            </a:r>
            <a:r>
              <a:rPr b="0" lang="en-GB" sz="1800" spc="-1" strike="noStrike">
                <a:solidFill>
                  <a:srgbClr val="ffffff"/>
                </a:solidFill>
                <a:latin typeface="Tahoma"/>
              </a:rPr>
              <a:t>rgovački punomoćnik ovlašten je sklapati sve ugovore i poduzimati sve pravne radnje koje su u prometu uobičajene pri vođenju poduzeća ili dijela poduzeća na koje se odnosi njegova punomoć ili koje su za to potrebne</a:t>
            </a:r>
            <a:r>
              <a:rPr b="0" lang="hr-HR" sz="1800" spc="-1" strike="noStrike">
                <a:solidFill>
                  <a:srgbClr val="ffffff"/>
                </a:solidFill>
                <a:latin typeface="Tahoma"/>
              </a:rPr>
              <a:t>; t</a:t>
            </a:r>
            <a:r>
              <a:rPr b="0" lang="en-GB" sz="1800" spc="-1" strike="noStrike">
                <a:solidFill>
                  <a:srgbClr val="ffffff"/>
                </a:solidFill>
                <a:latin typeface="Tahoma"/>
              </a:rPr>
              <a:t>rgovački punomoćnik ne može bez posebne ovlasti otuđiti ni opteretiti nekretnine svoga vlastodavca, mjenično niti čekovno ga obvezati, preuzeti obveze iz jamstva, uzeti za njega zajam, nagoditi se niti voditi spor</a:t>
            </a:r>
            <a:r>
              <a:rPr b="0" lang="hr-HR" sz="1800" spc="-1" strike="noStrike">
                <a:solidFill>
                  <a:srgbClr val="ffffff"/>
                </a:solidFill>
                <a:latin typeface="Tahoma"/>
              </a:rPr>
              <a:t>; o</a:t>
            </a:r>
            <a:r>
              <a:rPr b="0" lang="en-GB" sz="1800" spc="-1" strike="noStrike">
                <a:solidFill>
                  <a:srgbClr val="ffffff"/>
                </a:solidFill>
                <a:latin typeface="Tahoma"/>
              </a:rPr>
              <a:t>graničenja ovlasti trgovačkog punomoćnika, osim onih </a:t>
            </a:r>
            <a:r>
              <a:rPr b="0" lang="hr-HR" sz="1800" spc="-1" strike="noStrike">
                <a:solidFill>
                  <a:srgbClr val="ffffff"/>
                </a:solidFill>
                <a:latin typeface="Tahoma"/>
              </a:rPr>
              <a:t>prethodno </a:t>
            </a:r>
            <a:r>
              <a:rPr b="0" lang="en-GB" sz="1800" spc="-1" strike="noStrike">
                <a:solidFill>
                  <a:srgbClr val="ffffff"/>
                </a:solidFill>
                <a:latin typeface="Tahoma"/>
              </a:rPr>
              <a:t>navedenih, nemaju učinka prema trećim osobama koje za njih nisu znale niti su morale znati</a:t>
            </a:r>
            <a:r>
              <a:rPr b="0" lang="hr-HR" sz="1800" spc="-1" strike="noStrike">
                <a:solidFill>
                  <a:srgbClr val="ffffff"/>
                </a:solidFill>
                <a:latin typeface="Tahoma"/>
              </a:rPr>
              <a:t>; o</a:t>
            </a:r>
            <a:r>
              <a:rPr b="0" lang="en-GB" sz="1800" spc="-1" strike="noStrike">
                <a:solidFill>
                  <a:srgbClr val="ffffff"/>
                </a:solidFill>
                <a:latin typeface="Tahoma"/>
              </a:rPr>
              <a:t>graničenje </a:t>
            </a:r>
            <a:r>
              <a:rPr b="0" lang="hr-HR" sz="1800" spc="-1" strike="noStrike">
                <a:solidFill>
                  <a:srgbClr val="ffffff"/>
                </a:solidFill>
                <a:latin typeface="Tahoma"/>
              </a:rPr>
              <a:t>za sklapanje ugovora sa samim sobom o</a:t>
            </a:r>
            <a:r>
              <a:rPr b="0" lang="en-GB" sz="1800" spc="-1" strike="noStrike">
                <a:solidFill>
                  <a:srgbClr val="ffffff"/>
                </a:solidFill>
                <a:latin typeface="Tahoma"/>
              </a:rPr>
              <a:t>dnosi se i na trgovačkog punomoćnika</a:t>
            </a:r>
            <a:r>
              <a:rPr b="0" lang="hr-HR" sz="1800" spc="-1" strike="noStrike">
                <a:solidFill>
                  <a:srgbClr val="ffffff"/>
                </a:solidFill>
                <a:latin typeface="Tahoma"/>
              </a:rPr>
              <a:t>; b</a:t>
            </a:r>
            <a:r>
              <a:rPr b="0" lang="en-GB" sz="1800" spc="-1" strike="noStrike">
                <a:solidFill>
                  <a:srgbClr val="ffffff"/>
                </a:solidFill>
                <a:latin typeface="Tahoma"/>
              </a:rPr>
              <a:t>ez izričitog ovlaštenja vlastodavca trgovački punomoćnik ne može ovlasti iz punomoći</a:t>
            </a:r>
            <a:r>
              <a:rPr b="0" lang="hr-HR" sz="1800" spc="-1" strike="noStrike">
                <a:solidFill>
                  <a:srgbClr val="ffffff"/>
                </a:solidFill>
                <a:latin typeface="Tahoma"/>
              </a:rPr>
              <a:t> </a:t>
            </a:r>
            <a:r>
              <a:rPr b="0" lang="en-GB" sz="1800" spc="-1" strike="noStrike">
                <a:solidFill>
                  <a:srgbClr val="ffffff"/>
                </a:solidFill>
                <a:latin typeface="Tahoma"/>
              </a:rPr>
              <a:t>prenijeti na drugu osobu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nomoć trgovačkom putniku</a:t>
            </a:r>
            <a:endParaRPr b="1" lang="en-US" sz="4400" spc="-1" strike="noStrike">
              <a:solidFill>
                <a:srgbClr val="eaeaea"/>
              </a:solidFill>
              <a:latin typeface="Tahoma"/>
            </a:endParaRPr>
          </a:p>
        </p:txBody>
      </p:sp>
      <p:sp>
        <p:nvSpPr>
          <p:cNvPr id="2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rgovac može svome </a:t>
            </a:r>
            <a:r>
              <a:rPr b="0" lang="hr-HR" sz="2000" spc="-1" strike="noStrike">
                <a:solidFill>
                  <a:srgbClr val="ffffff"/>
                </a:solidFill>
                <a:latin typeface="Tahoma"/>
              </a:rPr>
              <a:t>radniku</a:t>
            </a:r>
            <a:r>
              <a:rPr b="0" lang="en-GB" sz="2000" spc="-1" strike="noStrike">
                <a:solidFill>
                  <a:srgbClr val="ffffff"/>
                </a:solidFill>
                <a:latin typeface="Tahoma"/>
              </a:rPr>
              <a:t> ili drugoj osobi dati punomoć kao trgovačkom putniku</a:t>
            </a:r>
            <a:r>
              <a:rPr b="0" lang="hr-HR" sz="2000" spc="-1" strike="noStrike">
                <a:solidFill>
                  <a:srgbClr val="ffffff"/>
                </a:solidFill>
                <a:latin typeface="Tahoma"/>
              </a:rPr>
              <a:t> u </a:t>
            </a:r>
            <a:r>
              <a:rPr b="0" lang="en-GB" sz="2000" spc="-1" strike="noStrike">
                <a:solidFill>
                  <a:srgbClr val="ffffff"/>
                </a:solidFill>
                <a:latin typeface="Tahoma"/>
              </a:rPr>
              <a:t>pisanom obliku </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vlasti iz punomoći trgovačkom putniku</a:t>
            </a:r>
            <a:r>
              <a:rPr b="0" lang="hr-HR" sz="2000" spc="-1" strike="noStrike">
                <a:solidFill>
                  <a:srgbClr val="ffffff"/>
                </a:solidFill>
                <a:latin typeface="Tahoma"/>
              </a:rPr>
              <a:t> - t</a:t>
            </a:r>
            <a:r>
              <a:rPr b="0" lang="en-GB" sz="2000" spc="-1" strike="noStrike">
                <a:solidFill>
                  <a:srgbClr val="ffffff"/>
                </a:solidFill>
                <a:latin typeface="Tahoma"/>
              </a:rPr>
              <a:t>rgovački putnik ovlašten je u ime i za račun vlastodavca sklapati ugovore o prodaji vlastodavčeve robe, isporučivati robu, naplaćivati cijenu iz tih ugovora, te primati izjave od kupaca glede robe koja je predmet ugovora što ga je trgovački putnik sklopio za vlastodavca</a:t>
            </a:r>
            <a:r>
              <a:rPr b="0" lang="hr-HR" sz="2000" spc="-1" strike="noStrike">
                <a:solidFill>
                  <a:srgbClr val="ffffff"/>
                </a:solidFill>
                <a:latin typeface="Tahoma"/>
              </a:rPr>
              <a:t>; t</a:t>
            </a:r>
            <a:r>
              <a:rPr b="0" lang="en-GB" sz="2000" spc="-1" strike="noStrike">
                <a:solidFill>
                  <a:srgbClr val="ffffff"/>
                </a:solidFill>
                <a:latin typeface="Tahoma"/>
              </a:rPr>
              <a:t>rgovački putnik ovlašten je u ime i za račun vlastodavca davati izjave i poduzimati druge pravne radnje radi očuvanja vlastodavčevih prava iz ugovora što ga je sklopio u njegovo ime i za njegov račun</a:t>
            </a:r>
            <a:r>
              <a:rPr b="0" lang="hr-HR" sz="2000" spc="-1" strike="noStrike">
                <a:solidFill>
                  <a:srgbClr val="ffffff"/>
                </a:solidFill>
                <a:latin typeface="Tahoma"/>
              </a:rPr>
              <a:t>; o</a:t>
            </a:r>
            <a:r>
              <a:rPr b="0" lang="en-GB" sz="2000" spc="-1" strike="noStrike">
                <a:solidFill>
                  <a:srgbClr val="ffffff"/>
                </a:solidFill>
                <a:latin typeface="Tahoma"/>
              </a:rPr>
              <a:t>graničenje ovlasti trgovačkog putnika nema učinka prema trećoj osobi koja za to nije znala niti morala znati</a:t>
            </a:r>
            <a:r>
              <a:rPr b="0" lang="hr-HR" sz="2000" spc="-1" strike="noStrike">
                <a:solidFill>
                  <a:srgbClr val="ffffff"/>
                </a:solidFill>
                <a:latin typeface="Tahoma"/>
              </a:rPr>
              <a:t>; t</a:t>
            </a:r>
            <a:r>
              <a:rPr b="0" lang="en-GB" sz="2000" spc="-1" strike="noStrike">
                <a:solidFill>
                  <a:srgbClr val="ffffff"/>
                </a:solidFill>
                <a:latin typeface="Tahoma"/>
              </a:rPr>
              <a:t>rgovački putnik ne može bez posebne ovlasti prodavati robu uz plaćanje na poček ili u obrocima</a:t>
            </a:r>
            <a:r>
              <a:rPr b="0" lang="hr-HR" sz="2000" spc="-1" strike="noStrike">
                <a:solidFill>
                  <a:srgbClr val="ffffff"/>
                </a:solidFill>
                <a:latin typeface="Tahoma"/>
              </a:rPr>
              <a:t>; o</a:t>
            </a:r>
            <a:r>
              <a:rPr b="0" lang="en-GB" sz="2000" spc="-1" strike="noStrike">
                <a:solidFill>
                  <a:srgbClr val="ffffff"/>
                </a:solidFill>
                <a:latin typeface="Tahoma"/>
              </a:rPr>
              <a:t>graničenje</a:t>
            </a:r>
            <a:r>
              <a:rPr b="0" lang="hr-HR" sz="2000" spc="-1" strike="noStrike">
                <a:solidFill>
                  <a:srgbClr val="ffffff"/>
                </a:solidFill>
                <a:latin typeface="Tahoma"/>
              </a:rPr>
              <a:t> sklapanja ugovora sa samim sobom o</a:t>
            </a:r>
            <a:r>
              <a:rPr b="0" lang="en-GB" sz="2000" spc="-1" strike="noStrike">
                <a:solidFill>
                  <a:srgbClr val="ffffff"/>
                </a:solidFill>
                <a:latin typeface="Tahoma"/>
              </a:rPr>
              <a:t>dnosi se i na trgovačkog putni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i odnos</a:t>
            </a:r>
            <a:endParaRPr b="1" lang="en-US" sz="4400" spc="-1" strike="noStrike">
              <a:solidFill>
                <a:srgbClr val="eaeaea"/>
              </a:solidFill>
              <a:latin typeface="Tahoma"/>
            </a:endParaRPr>
          </a:p>
        </p:txBody>
      </p:sp>
      <p:sp>
        <p:nvSpPr>
          <p:cNvPr id="2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452520" indent="-452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ni odnos – društveni odnos koji je uređen pravnim pravilima; nastaje onog trenutka kada ga pravni poredak prizna i uredi čime se omogućuje gospodarsko kretanje</a:t>
            </a:r>
            <a:endParaRPr b="0" lang="en-US" sz="2800" spc="-1" strike="noStrike">
              <a:solidFill>
                <a:srgbClr val="ffffff"/>
              </a:solidFill>
              <a:latin typeface="Tahoma"/>
            </a:endParaRPr>
          </a:p>
          <a:p>
            <a:pPr marL="452520" indent="-452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ne činjenice – činjenice za koje pravo veže postanak, promjenu ili prestanak pravnog odnosa, a u svezi s tim postanak, prestanak ili promjenu subjektivnih pra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verena vlast – suverenitet znači vrhovnu, neograničenu i nedjeljivu vlast na području određene države (unutarnji suverenite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jski suverenitet se manifestira u ravnopravnosti određene države s ostalim državama koje čine međunarodnu zajednic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rste pravnih činjenica s obzirom na postanak:</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rodni događaji (rođenje, smrt, protek vremena)</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judske radnje (manifestacije ljudske volje za koje su vezani pravni učinci; dijele se na dopuštene (pravne radnje, pravni poslovi) i nedopuštene (delikti)</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avni posao – stranačko očitovanje volje usmjereno na postizanje dopuštenih pravnih učinaka</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ikt – protupravna radnja uz koju pravne norme mimo volje štetnika vežu postanak odnosa odgovornosti za štetu</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rste pravnih činjenica s obzirom na funkciju:</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tpostavka – pravna činjenica koja je doista kao činjenica realno nastala u stvarnosti, a potrebna je da bi nastao, promijenio se ili prestao određeni pravni odn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avna osnova – bitna pretpostavka za koju se veže postanak, promjena ili prestanak subjektivnih prav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sumpcija (predmnijeva) – pravna činjenica koja se smatra dokazanom dok se ne dokaže protivno (npr. proglašenje nestale osobe umrlom, stanje u zemljišnim knjigam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Fikcija – pravna činjenica za koju se zna da se uopće nije dogodila ili da se nikad neće ni dogoditi, ali se uzima kao da se dogodila da bi mogao nastati, promijeniti se ili prestati neki pravni odnos (npr. prava nerođenog djete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bjektivno pravo </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ktivno pravo - ovlaštenja koja pravnom subjektu u određenom pravnom odnosu priznaju norme objektivnog prava; njime se izražavaju međusobni odnosi pravnih subjekata u određenom pravnom odnosu</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držaj subjektivnog prava – pripadanje objekta i ovlaštenje subjekta prema objektu; interes  (cilj ovlaštenj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htjev – objektivnim pravom zajamčena mogućnost da se od drugog traži čin ili propust koji istodobno znači ostvarenje našeg subjektivnog pra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rste prava u subjektivnom smislu:</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psolutna (djeluju prema svima, erga omnes) i relativna (djeluju između određenih stranaka, inter parte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nosiva i neprenosiva (strogo osobna prav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Glavna i sporedna (njihov nastanak, prijenos i prestanak ovisi o postojanju nekog drugog subjektivnog prava, akcesorna prav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obražajna (ovlaštenje pravnog subjekta da jednostranom izjavom volje zasnuje, promijeni ili okonča pravni odnos s drugim subjektom bez njegovog pristanka, npr. prihvat ponude, izbor kod alternativnih obveza, otkaz ugovor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i objekti</a:t>
            </a:r>
            <a:endParaRPr b="1" lang="en-US" sz="4400" spc="-1" strike="noStrike">
              <a:solidFill>
                <a:srgbClr val="eaeaea"/>
              </a:solidFill>
              <a:latin typeface="Tahoma"/>
            </a:endParaRPr>
          </a:p>
        </p:txBody>
      </p:sp>
      <p:sp>
        <p:nvSpPr>
          <p:cNvPr id="2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3 vrste: stvari, činidbe i imovina</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vari – materijalni dijelovi prirode, koji se mogu osjetilima primijetiti, koji su prostorno ograničeni i koji postoje u sadašnjosti, ili za njih postoje pretpostavke da će doista nastati u budućnosti</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rste stvari:</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vari u prometu (res in commercio) i stvari ograničene u prometu – sposobnost stvari da se pojave kao objekti subjektivnih prava te kao objekti pravnih poslova</a:t>
            </a:r>
            <a:endParaRPr b="0" lang="en-US" sz="2000" spc="-1" strike="noStrike">
              <a:solidFill>
                <a:srgbClr val="ffffff"/>
              </a:solidFill>
              <a:latin typeface="Tahoma"/>
            </a:endParaRPr>
          </a:p>
          <a:p>
            <a:pPr marL="533520" indent="-53352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kretne (mogu mijenjati položaj u prostoru, a da se pri tome ne uništi njihova bit, odnosno da im se ne promijeni dosadašnja struktura) i nepokretne stvari (ne mogu mijenjati položaj, a da im se pri tome ne uništi bit ili ne promijeni dosadašnja struktur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ffffcc"/>
              </a:buClr>
              <a:buSzPct val="7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mjenjive (generičke stvari; u prometu se određuju po vrsti, rodu, broju i mjeri) i nezamjenjive stvari (u prometu dolaze kao strogo određena pojedinost, individualnost)</a:t>
            </a:r>
            <a:endParaRPr b="0" lang="en-US" sz="2000" spc="-1" strike="noStrike">
              <a:solidFill>
                <a:srgbClr val="ffffff"/>
              </a:solidFill>
              <a:latin typeface="Tahoma"/>
            </a:endParaRPr>
          </a:p>
          <a:p>
            <a:pPr marL="585000" indent="-585000">
              <a:lnSpc>
                <a:spcPct val="80000"/>
              </a:lnSpc>
              <a:spcBef>
                <a:spcPts val="499"/>
              </a:spcBef>
              <a:buClr>
                <a:srgbClr val="ffffcc"/>
              </a:buClr>
              <a:buSzPct val="7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trošne (jednokratnom upotrebom se uništavaju ili im se vidljivo smanjuje supstancija) i nepotrošne stvari (one se prvom normalnom upotrebom ne uništavaju niti im se vidljivo smanjuje supstancija)</a:t>
            </a:r>
            <a:endParaRPr b="0" lang="en-US" sz="2000" spc="-1" strike="noStrike">
              <a:solidFill>
                <a:srgbClr val="ffffff"/>
              </a:solidFill>
              <a:latin typeface="Tahoma"/>
            </a:endParaRPr>
          </a:p>
          <a:p>
            <a:pPr marL="585000" indent="-585000">
              <a:lnSpc>
                <a:spcPct val="80000"/>
              </a:lnSpc>
              <a:spcBef>
                <a:spcPts val="499"/>
              </a:spcBef>
              <a:buClr>
                <a:srgbClr val="ffffcc"/>
              </a:buClr>
              <a:buSzPct val="7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jeljive (mogu se rastaviti na više istovrsnih dijelova tako da im se ne uništi prvobitna bit ili im se nerazmjerno ne umanji vrijednost) i nedjeljive stvari (diobom se uništava njihova bit ili im se nerazmjerno umanjuje vrijednost)</a:t>
            </a:r>
            <a:endParaRPr b="0" lang="en-US" sz="2000" spc="-1" strike="noStrike">
              <a:solidFill>
                <a:srgbClr val="ffffff"/>
              </a:solidFill>
              <a:latin typeface="Tahoma"/>
            </a:endParaRPr>
          </a:p>
          <a:p>
            <a:pPr marL="585000" indent="-585000">
              <a:lnSpc>
                <a:spcPct val="80000"/>
              </a:lnSpc>
              <a:spcBef>
                <a:spcPts val="499"/>
              </a:spcBef>
              <a:buClr>
                <a:srgbClr val="ffffcc"/>
              </a:buClr>
              <a:buSzPct val="7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ednostavne (one čine jedinstvo) i sastavljene stvari (nastaju spajanjem jednostavnih (samostalnih) stvari u jednu novu cjelinu, ali tako da upotrijebljeni dijelovi ne gube svoju dosadašnju fizičku egzistenciju) </a:t>
            </a:r>
            <a:endParaRPr b="0" lang="en-US" sz="2000" spc="-1" strike="noStrike">
              <a:solidFill>
                <a:srgbClr val="ffffff"/>
              </a:solidFill>
              <a:latin typeface="Tahoma"/>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padak ili pertinencija – sporedna stvar koja je određena da trajno služi gospodarskim svrhama neke glavne stvari, ada pri tome ne postaje njezin sastavni d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lodovi – proizvodi koji na određeni način nastaju od neke stvari, a određeni su da se od same stvari odijel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kupnost stvari – zbroj fizički samostalnih i međusobno koordiniranih stvari koje su ujedinjene zajedničkom gospodarskom svrhom i u prometu se javljaju pod zajedničkim nazivo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Činidbe (predmet obveze) – svaka pozitivna ili negativna ljudska radnja koju je dužnik na temelju obveznog odnosa dužan izvršiti vjerovniku</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arakteristike činidbe – ljudska radnja; imovinski karakter, mogućnost, pravna dopuštenost, određenost ili odredivos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držaj činidbe – davanje (dare), činjenje (facere), propuštanje (non facere), trpljenje (pati)</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ovina – skup subjektivnih imovinskih prava predstavljenih jednim nositeljem (pravno određenje); skup dobara koja pripadaju određenom subjektu (ekonomsko određenj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nkcije imovine – jamstvena funkcija; olakšanje promet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akteristike imovine – jedinstvenost (određeni pravni subjekt može imati samo jednu imovinu); identitet (ona pravno ostaje jednaka samoj sebi makar pojedini dijelovi iz nje izlazili, a drugi u nju ulazil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avni posao</a:t>
            </a: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jam – stranačko očitovanje volje koje je, samo za sebe ili u svezi s drugim potrebnim pravnim činjenicama, usmjereno na postizanje dopuštenih pravnih učinaka, među kojima su najvažniji postanak, promjena ili prestanak nekog pravnog odnos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rste pravnih poslo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 Jednostrani (nastaju očitovanjem volje samo jedne strane) i dvostrani pravni poslovi (nastaju suglasnim očitovanjem volje dviju stranaka koje stoje jedna nasuprot drugoj; ugovori (jednostranoobvezni ugovori (jedna strana samo vjerovnik, a druga strana samo dužnik), dvostranoobvezni ugovori (i jedna i druga strana su i vjerovnik i dužni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b) Pravni poslovi među živima (inter vivos) i pravni poslovi za slučaj smrti (mortis caus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eritorij – trodimenzionalni prostor koji se sastoji od zemljišne površine, zračnog prostora, zemljišne unutrašnjosti te vodenih površina (more, rijeke, jezera) koji je omeđen državnim granicama, a na kojem se ostvaruje suverena vlast određene države</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tojanje enklava koje eliminiraju zahtjev za geografskim kontinuitetom državnog teritorija (npr. Belgija-Nizozemska, Timor-Indonez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c) Naplatni (onerozni, kod kojih se za činidbu traži protučinidba) i besplatni (lukrativni, kod kojih se za činidbu ne daje protučinidb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 Kauzalni (vidljiva je svrha sklapanja posla) i apstraktni poslovi</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e) Formalni ili neformalni poslovi – da li je određen oblik pravnog posla</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adržaj pravnog posla – bitni sastojci (nužni za određeni tip pravnog posla), prirodni sastojci pravnog posla (sastojci koji se podrazumijevaju jer proizlaze iz same prirode određenog pravnog posla), nuzgredni sastojci (sastojci koji vrijede samo ako ih stranke ugovore; uvjet, rok i nalog)</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vjet – učinak pravnog posla zavisan o nekoj budućoj i neizvjesnoj okolnosti</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rste uvjeta – suspenzivni (odgodni), rezolutivni (raskidni); afirmativan, negativan; potestativan (ovisi o volji i odluci uvjetno ovlaštenog), kazualni (ovisi o prirodnom događaju ili volji trećeg), mješovi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k – učinak pravnog posla ograničen vremenom, tj. učinak pravnog posla nastaje tek od određenog vremena ili traje do određenog vremena; odgodni (početni) i raskidni (završni ) rokovi</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ačunanje rokova – ako su određeni u danima ne računa se prvi dan, a ako završetak pada u neradni dan, uzima se kao posljednji dan idući radni dan; ako je rok određen u tjednima, mjesecima ili godinama, rok završava na isti datum po isteku određenog vremena, a ako tog datuma nema u mjesecu, tada posljednji dan u mjesec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log (namet) – uzgredna odredba dodana besplatnom pravnom poslu kojom se stjecatelju nameće neka dužno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k očitovanja volje</a:t>
            </a:r>
            <a:endParaRPr b="1" lang="en-US" sz="4400" spc="-1" strike="noStrike">
              <a:solidFill>
                <a:srgbClr val="eaeaea"/>
              </a:solidFill>
              <a:latin typeface="Tahoma"/>
            </a:endParaRPr>
          </a:p>
        </p:txBody>
      </p:sp>
      <p:sp>
        <p:nvSpPr>
          <p:cNvPr id="2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lik očitovanja volje – oblici i mogućnosti u kojima unutarnja volja subjekta dolazi do vanjske manifestacij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smeno očitovanje volje – očitovanje volje pomoću žive izgovorene riječ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isano očitovanje volje – očitovanje volje dano pomoću pisanih riječi (potpis, paraf, faksimil, rukoznak)</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čitovanje volje znacima (klimanje glavom, kretnja rukom, mimik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čitovanje volje konkludentnim radnjama (neizravno očitovanje, iz određenog ponašanja se može sigurno zaključiti o volji očitovatelj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Šutnj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k pravnih poslova</a:t>
            </a:r>
            <a:endParaRPr b="1" lang="en-US" sz="4400" spc="-1" strike="noStrike">
              <a:solidFill>
                <a:srgbClr val="eaeaea"/>
              </a:solidFill>
              <a:latin typeface="Tahoma"/>
            </a:endParaRPr>
          </a:p>
        </p:txBody>
      </p:sp>
      <p:sp>
        <p:nvSpPr>
          <p:cNvPr id="2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smeni oblik pravnog posla</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isani oblik pravnog posla</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ni posao sklopljen pred svjedocima (npr. oporuka)</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jelovanje tijela državne vlasti ili tijela s javnopravnim ovlastima kao oblik pravnog posla (npr. sud (zapisnik), javni bilježnik (ovjera (solemnizacija) isprava i ovjera potpisa)</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vrha propisivanja oblika pravnog posla – valjanost pravnog posla, utuživost pravnog posla, dokazivanje pravnog posla, upis u javni regist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ljanost i nevaljanost pravnih poslova</a:t>
            </a:r>
            <a:endParaRPr b="1" lang="en-US" sz="4400" spc="-1" strike="noStrike">
              <a:solidFill>
                <a:srgbClr val="eaeaea"/>
              </a:solidFill>
              <a:latin typeface="Tahoma"/>
            </a:endParaRPr>
          </a:p>
        </p:txBody>
      </p:sp>
      <p:sp>
        <p:nvSpPr>
          <p:cNvPr id="2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etpostavke valjanosti:</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avna i poslovna sposobnost subjekata</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aljano i suglasno očitovanje volje</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a, dopuštena, određena ili odrediva činidba</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opuštena osnova</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blik pravnog posla </a:t>
            </a: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ištavost – ništavi pravni poslovi su oni koji ne proizvode pravne učinke koje bi, da su valjani, trebali proizvesti</a:t>
            </a:r>
            <a:endParaRPr b="0" lang="en-US" sz="2800" spc="-1" strike="noStrike">
              <a:solidFill>
                <a:srgbClr val="ffffff"/>
              </a:solidFill>
              <a:latin typeface="Tahoma"/>
            </a:endParaRPr>
          </a:p>
          <a:p>
            <a:pPr marL="533520" indent="-533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ištavost nastupa na temelju zakona (ex lege), sud na nju pazi po službenoj dužnosti (ex offo), a nastaje od samog trenutka zaključenja pravnog posla (ex tunc)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zlozi ništavosti:</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lovna nesposobnost stranaka</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valjanost i nesuglasnost očitovanja volje (mane volje – nesklad između volje i očitovanja; svjesni nesklad (školski primjer, šala, simulacija, prijetnja, mentalna rezervacija), nesvjesni nesklad (zabluda, neznanje, nesporazum, prijevara); mentalna rezervacija (svjesni nesklad između volje i očitovanja kad jedna strana prigodom sklapanja pravnog posla svjesno očituje kao svoju volju nešto što ona uistinu neće, a druga strana za to ne zna); simulacija (prividno sklapanje ugovora, odnosno pravnih poslova); nesporazum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 Nemogućnost, nedopuštenost, neodređenost ili neodredivost činidbe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   </a:t>
            </a:r>
            <a:r>
              <a:rPr b="0" lang="hr-HR" sz="2000" spc="-1" strike="noStrike">
                <a:solidFill>
                  <a:srgbClr val="ffffff"/>
                </a:solidFill>
                <a:latin typeface="Tahoma"/>
              </a:rPr>
              <a:t>nedopuštenost činidbe (zabranjeni pravni poslovi, nemoralni pravni poslovi, zelenaški pravni poslov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 Nepostojanje i nedopuštenost osnove – osnova je pravni cilj kojem stranke teže i koji je isti kod iste vrste ugovor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e) Nedostatak potrebnog oblik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jelomična ništavost – ništavost određene odredbe ugovora, uz uvjet da to ne utječe na valjanost ugovora u cjelin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ljedice ništavosti – obveza restitucije, odgovornost za štetu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ve zainteresirane osobe imaju pravo pozivati se na ništavost i bez vremenskog ograničen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ređivanje granica – prirodne, povijesne, etničke granic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čelo promjene granica na temelju dogovora između dviju država, mogućnost rješavanja graničnih sporova pred međunarodnim sudovima i arbitražam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Granice na moru – Konvencija UN o pravu mora iz 1982. g., morski pojasevi: unutarnje morske vode, teritorijalno more (obalno more – suverena prava države, pravo stranih brodova na neškodljivi prolaz), epikontinentalni pojas (morsko dno, određena gospodarska i suverena prava države koja samostalno proglašava određena obalna država), gospodarski pojas (vodena površina i vodeni stup do dna koji se proteže od vanjske granice teritorijalnog mora do 200 nm, određena gospodarska i suverena prava države), otvoreno mo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bojnost – pravni poslovi koji proizvode pravne učinke kao i valjani, ali se mogu, iz propisima predviđenih razloga i u predviđenom roku, poništiti</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Razlozi pobojnosti:</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graničena poslovna sposobnost</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ane volje (prijetnja - jedna strana ili netko treći, stavljanjem u izgled nekog zla, izaziva opravdani strah kod druge strane zbog čega ona zaključuje određeni pravni posao; zabluda – pogrešna predodžba o nekoj okolnosti; bitnost zablude (ona se odnosi na bitna svojstva predmeta, na osobu s kojom se sklapa pravni posao, okolnosti koje se po običajima u prometu ili po namjeri stranaka smatraju odlučnim za sklapanje pravnog posla, pobudu za preuzimanje obveze kod besplatnih pravnih poslova); neskrivljenost zablude (strana koja je bila u zabludi je postupila s dužnom pozornošću)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c) Povreda načela jednake vrijednosti činidaba</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 Pravne radnje dužnika na štetu vjerovnika</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ljedice pobojnosti – restitucija i odgovornost za štetu</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vlast isticati pobojnost imaju samo stranke u poslu, a iznimno treće osobe, te se određuje subjektivni i objektivni rok za isticanje tužbe za povijanje; rokovi su prekluzivne narav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nvalidacija – osnaženje nevaljanih pravnih poslova; ništavi pravni poslovi mogu konvalidirati samo iznimno, dok pobojni pravni poslovi u pravilu konvalidiraju što ovisi o ponašanju stranaka</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nverzija – kad ništavi pravni posao udovoljava pretpostavkama za valjanost nekog drugog pravnog posla, među strankama će vrijediti taj drugi posao ako je to u skladu s ciljem koje su stranke imale na umu pri sklapanju posla i ako se može uzeti da bi one sklopile taj posao da su znale za ništavost svojeg posl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jecanje i gubitak prava</a:t>
            </a:r>
            <a:endParaRPr b="1" lang="en-US" sz="4400" spc="-1" strike="noStrike">
              <a:solidFill>
                <a:srgbClr val="eaeaea"/>
              </a:solidFill>
              <a:latin typeface="Tahoma"/>
            </a:endParaRPr>
          </a:p>
        </p:txBody>
      </p:sp>
      <p:sp>
        <p:nvSpPr>
          <p:cNvPr id="2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jecanje prava – spajanje subjektivnih građanskih prava s nekim subjektom</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riginarno (izvorno) stjecanje – stjecatelj svoje pravo ne izvodi iz prava prednika</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rivativno (izvedeno) stjecanje – stjecatelj svoje pravo temelji na pravu prednika; translativno stjecanje (prednik svoje dosadašnje pravo u cijelom sadržaju i opsegu prenosi na novog stjecatelja, univerzalna i singularna sukcesija),konstitutivno stjecanje (na temelju dosadašnjeg prava prednika osniva se za stjecatelja novo prav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Gubitak prava – odvajanje subjektivnih građanskih prava od nositelja (relativni gubitak – jedan subjekt gubi, a drugi stječe pravo; apsolutni gubitak – jedan subjekt gubi pravo, ali ga drugi istodobno ne stječ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stara prava – gubitak zahtjeva zbog nevršenja sadržaja subjektivnog prava kroz zakonom određeno vrijem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tpostavke zastare – nepodizanje tužbe i protek zastarnog roka (opći rok 5 godina, posebni 3, 2, i 1 godin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stoj zastare – nastup okolnosti zbog kojih zastara ne može započeti ili zbog kojih započeta zastara prestaje teći dok te okolnosti ne otpadnu</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kid zastare – nastup okolnosti zbog kojih zastara prestaje teći, a proteklo se vrijeme ne uračunava (priznanje duga, podizanje tužbe, prigovor prijeboj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0:15:29Z</dcterms:created>
  <dc:creator>Dionis</dc:creator>
  <dc:description/>
  <dc:language>en-US</dc:language>
  <cp:lastModifiedBy>SAlebic</cp:lastModifiedBy>
  <dcterms:modified xsi:type="dcterms:W3CDTF">2007-04-19T06:05:28Z</dcterms:modified>
  <cp:revision>22</cp:revision>
  <dc:subject/>
  <dc:title>Osnove trgovačkog prava - uvod</dc:title>
</cp:coreProperties>
</file>