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A8EF9-23D2-4BCB-8425-7D4A9BDE4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5729B-63AF-4741-8CD8-A61C3695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CB47C-3F0E-4F2F-B0CA-1B7E0C301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499B5-96A6-4691-8099-D91F16F62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9D6E8-0FF9-4D20-8639-A49BED095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7ADC7-1FB0-4C2E-A547-56954E4B6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9D724-B96C-48E4-AC80-2364308A1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F2D17-BD71-4857-A543-776F39305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2646F-87E5-42C9-9EBD-AB3F323E0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76B21-DF65-4E92-9FA2-C805475F7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D905-0E76-48C8-AC51-B0E56FC0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A6FC6-333A-4E5E-A34F-D087585A4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B44E2-DD8A-4EF4-B1FC-C9155E1E4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90DC1-DE65-4D78-8939-4BF564B3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89B09-E747-4D1F-9D93-C0AB7023B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C1F22-2370-4B51-8824-EC12F7008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189FC-58EF-4C40-8CF8-D3FAAD38D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A8AA2-EBB8-4689-8AB8-D3A7E29C5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E3402-6922-4E0B-A70D-6FB19AFBD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CC383-7FAA-46C6-93C1-5C707EAD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A723-3127-4483-8553-899713AC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2554-F7E6-4239-9633-179C3149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7472-4372-4455-BBD5-1CCEB381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E732-1472-46B2-B986-B93E31926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DD82-EE3A-44B9-A5CD-69D3B89AA54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2DFC-236F-45B7-9B5D-F9163039A29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govačko pravo - ugovori</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Odustatnina</a:t>
            </a:r>
            <a:r>
              <a:rPr b="0" lang="hr-HR" sz="2000" spc="-1" strike="noStrike">
                <a:solidFill>
                  <a:srgbClr val="ffffff"/>
                </a:solidFill>
                <a:latin typeface="Tahoma"/>
              </a:rPr>
              <a:t> – sporazum ugovornih stranaka da jedna ili obje imaju pravo odustati od ugovora davanjem odustatnine drugoj stranci u obliku novca ili drugih zamjenjivih stvar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rakteristike odustatnine – davanje odustatnine isključuje mogućnost zahtijevati ispunjenje ugovora; kapara ne ovlašćuje na odustajanje od ugovo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Zalog</a:t>
            </a:r>
            <a:r>
              <a:rPr b="0" lang="hr-HR" sz="2000" spc="-1" strike="noStrike">
                <a:solidFill>
                  <a:srgbClr val="ffffff"/>
                </a:solidFill>
                <a:latin typeface="Tahoma"/>
              </a:rPr>
              <a:t> – ugovorom o zalogu obvezuje se dužnik prema vjerovniku da mu preda neku pokretnu stvar na kojoj postoji pravo vlasništva kako bi se prije ostalih vjerovnika mogao naplatiti iz njene vrijednosti, ako mu ne bude plaćena dospjela tražbin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Ostali instituti pojačanja ugovora</a:t>
            </a:r>
            <a:r>
              <a:rPr b="0" lang="hr-HR" sz="2000" spc="-1" strike="noStrike">
                <a:solidFill>
                  <a:srgbClr val="ffffff"/>
                </a:solidFill>
                <a:latin typeface="Tahoma"/>
              </a:rPr>
              <a:t> – dokumentarni akreditiv, bankovno jamstvo, predujam, retencij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eaeaea"/>
                </a:solidFill>
                <a:latin typeface="Tahoma"/>
              </a:rPr>
              <a:t>Promjene u obveznopravnim odnosima</a:t>
            </a:r>
            <a:endParaRPr b="1" lang="en-US" sz="40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omjene subjekata ne utječu na identitet obveznopravnog odnosa, a promjena sadržaja mogu dovesti do promjene identiteta obveznopravnog odnosa ako zadiru u glavnu činidbu ili pravnu osnovu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omjene subjekata – promjene vjerovnika (cesija), promjene dužnika (pristupanje dugu, preuzimanje ispunjenja, preuzimanje duga), ustupanje ugov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Cesija </a:t>
            </a:r>
            <a:r>
              <a:rPr b="0" lang="hr-HR" sz="2000" spc="-1" strike="noStrike">
                <a:solidFill>
                  <a:srgbClr val="ffffff"/>
                </a:solidFill>
                <a:latin typeface="Tahoma"/>
              </a:rPr>
              <a:t>– prijenos otuđive tražbine od dosadašnjeg vjerovnika (cedenta) na novog vjerovnika (cesionara), a dužnik (cessus) i tražbina ostaju is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govorna, zakonska i sudska cesij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cesorni pravni posao; za prijenos tražbine nije potreban pristanak dužnika, već se on notificira o izvršenom ustupanju</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esionar prema dužniku ima ista prava koja je imao cedent do ustupanja; dužnik može cesionaru istaći sve prigovore koje je mogao istaći i prema cedentu do trena saznanja za ustupanj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edent odgovara cesionaru za veritet, a za bonitet kada je to ugovoreno u slučaju naplatne cesije, a u slučaju ne naplatne cesije ne odgovara ni za veritet ni za bonite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Pristupanje dugu</a:t>
            </a:r>
            <a:r>
              <a:rPr b="0" lang="hr-HR" sz="2400" spc="-1" strike="noStrike">
                <a:solidFill>
                  <a:srgbClr val="ffffff"/>
                </a:solidFill>
                <a:latin typeface="Tahoma"/>
              </a:rPr>
              <a:t> – netko treći (intercedent) se obvezuje vjerovniku da će ispuniti njegovu tražbinu prema dužniku, vjerovniku odgovara i dužnik i interceden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Preuzimanje ispunjenja</a:t>
            </a:r>
            <a:r>
              <a:rPr b="0" lang="hr-HR" sz="2400" spc="-1" strike="noStrike">
                <a:solidFill>
                  <a:srgbClr val="ffffff"/>
                </a:solidFill>
                <a:latin typeface="Tahoma"/>
              </a:rPr>
              <a:t> – netko treći se obvezuje dužniku da će ispuniti njegovu obvezu prema vjerovniku , pri čemu ona ne postaje dužnik vjerovnik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Preuzimanje duga </a:t>
            </a:r>
            <a:r>
              <a:rPr b="0" lang="hr-HR" sz="2400" spc="-1" strike="noStrike">
                <a:solidFill>
                  <a:srgbClr val="ffffff"/>
                </a:solidFill>
                <a:latin typeface="Tahoma"/>
              </a:rPr>
              <a:t>– preuzimatelj duga se obvezuje dužniku da preuzima obvezu ispunjenja duga prema vjerovniku, a dosadašnji dužnik se oslobađa obveze; suglasnost vjerovnika za preuzimanje dug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ahoma"/>
              </a:rPr>
              <a:t>Ustupanje ugovora</a:t>
            </a:r>
            <a:r>
              <a:rPr b="0" lang="hr-HR" sz="3200" spc="-1" strike="noStrike">
                <a:solidFill>
                  <a:srgbClr val="ffffff"/>
                </a:solidFill>
                <a:latin typeface="Tahoma"/>
              </a:rPr>
              <a:t> – ustupitelj (jedna stranka) ustupa primatelju (treća osoba) sva svoja prava i obveze iz već postojećeg ugovora, s time da druga stranka iz tog ugovora pristane na takvo ustupanj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ahoma"/>
              </a:rPr>
              <a:t>Promjena sadržaja ugovora</a:t>
            </a:r>
            <a:r>
              <a:rPr b="0" lang="hr-HR" sz="3200" spc="-1" strike="noStrike">
                <a:solidFill>
                  <a:srgbClr val="ffffff"/>
                </a:solidFill>
                <a:latin typeface="Tahoma"/>
              </a:rPr>
              <a:t> – obnova (nov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eaeaea"/>
                </a:solidFill>
                <a:latin typeface="Tahoma"/>
              </a:rPr>
              <a:t>Prestanak obveznopravnog odnosa</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čini prestanka ugovora – ispunjenje, prijeboj, otpust duga, obnova, sjedinjenje, protek vremena i otkaz, smrt dužnika ili vjerovnika</a:t>
            </a: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punjenje – prestanak ugovora valjanim ispunjenjem dužne činidbe od strane dužnika</a:t>
            </a: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žnik mora ispuniti obvezu u roku, a ako on nije određen vjerovnik može tražiti odmah ispunjenje obveze </a:t>
            </a: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jesto ispunjenja se određuje ugovorom ili zakonom, a ako ono nije određeno nenovčane obveze se ispunjavaju u mjestu u kojem dužnik ima sjedište (prebivalište), a kod novčanih obveza u mjestu u kojem vjerovnik ima sjedište (prebivališ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Raskid ugovora zbog neispunjenja</a:t>
            </a:r>
            <a:r>
              <a:rPr b="0" lang="hr-HR" sz="2000" spc="-1" strike="noStrike">
                <a:solidFill>
                  <a:srgbClr val="ffffff"/>
                </a:solidFill>
                <a:latin typeface="Tahoma"/>
              </a:rPr>
              <a:t> – jednostrana izjava vjerovnika dužniku da zbog dužnikovog neispunjenja ugovora smatra kako je među njima njihov valjano sklopljen ugovor presta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d ugovora s fiksnim rokom ako dužnik ne ispuni obvezu u roku, ugovor se raskida po samom zakonu ako su stranke izričito predvidjele njegov raskid zbog neodržanja roka ili je to bitan sastojak ugovo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o rok nije bitan sastojak, određuje se naknadni rok za ispunjenje, osim ako je očito da dužnik neće ispuniti svoju obvezu</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činak raskida ugovora – prestanak obveznog odnosa, povrat plaćenog, naknada šte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Nemogućnost ispunjenja </a:t>
            </a:r>
            <a:r>
              <a:rPr b="0" lang="en-US" sz="2400" spc="-1" strike="noStrike">
                <a:solidFill>
                  <a:srgbClr val="ffffff"/>
                </a:solidFill>
                <a:latin typeface="Tahoma"/>
              </a:rPr>
              <a:t>– ako je ispunjenje obveze jedne ugovorne stranke postalo nemoguće zbog događaja za koje nije odgovorna nijedna stranka, gasi se i obveza druge stranke; ako jedna stranka može samo djelomično ispuniti obvezu ubog događaja za koji nisu krive stranke, druga stranka može ili raskinuti ugovor ili ugovor ostaviti na snazi i tražiti razmjerno smanjenje svoje obvez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o je do neispunjenja obveze jedne ugovorne strane došlo krivnjom druge strane, obveza prve stranke se gasi</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Raskid ili izmjena ugovora zbog promijenjenih okol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Prijeboj (kompenzacija)</a:t>
            </a:r>
            <a:r>
              <a:rPr b="0" lang="hr-HR" sz="2400" spc="-1" strike="noStrike">
                <a:solidFill>
                  <a:srgbClr val="ffffff"/>
                </a:solidFill>
                <a:latin typeface="Tahoma"/>
              </a:rPr>
              <a:t> – tražbina vjerovnika i protutražbina dužnika se ukidaju međusobnim obračunavanjem</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tpostavke za prijeboj: istovrsnost tražbina, dospjelost; utuživost tražbina; uzajamnost stranaka</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Obnova (novacija) </a:t>
            </a:r>
            <a:r>
              <a:rPr b="0" lang="hr-HR" sz="2400" spc="-1" strike="noStrike">
                <a:solidFill>
                  <a:srgbClr val="ffffff"/>
                </a:solidFill>
                <a:latin typeface="Tahoma"/>
              </a:rPr>
              <a:t>– sporazum između vjerovnika i dužnika o presanku postojeće obveze i zamjeni s novom obvezom, tako da nova obveza ima različit predmet ili pravnu osnovu</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tpostavke za obnovu – postojanje pravovaljane stare glavne obveze; volja stranak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Otpust duga</a:t>
            </a:r>
            <a:r>
              <a:rPr b="0" lang="en-US" sz="2400" spc="-1" strike="noStrike">
                <a:solidFill>
                  <a:srgbClr val="ffffff"/>
                </a:solidFill>
                <a:latin typeface="Tahoma"/>
              </a:rPr>
              <a:t> – vjerovnik izjavljuje dužniku da neće tražiti ispunjenje obveze, a dužnik se s time suglasi</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Protek vremena i otkaz </a:t>
            </a:r>
            <a:r>
              <a:rPr b="0" lang="en-US" sz="2400" spc="-1" strike="noStrike">
                <a:solidFill>
                  <a:srgbClr val="ffffff"/>
                </a:solidFill>
                <a:latin typeface="Tahoma"/>
              </a:rPr>
              <a:t>– ugovor s određenim rokom prestaje istekom tog roka; ugovor s neodređenim trajanjem može prestati jednostranim otkazom bilo koje strank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Sjedinjenje (konfuzija) </a:t>
            </a:r>
            <a:r>
              <a:rPr b="0" lang="en-US" sz="2400" spc="-1" strike="noStrike">
                <a:solidFill>
                  <a:srgbClr val="ffffff"/>
                </a:solidFill>
                <a:latin typeface="Tahoma"/>
              </a:rPr>
              <a:t>– spajanje samostalne vjerovnikove tražbine i samostalnog dužnikovog duga kod jedne osobe koja postaje istodobno i vjerovnik i dužni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jam i zaključivanje ugovora</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jam – obvezni ugovori su dvostrani pravni poslovi koji smjeraju na zasnivanje obveznopravnog odnosa</a:t>
            </a:r>
            <a:endParaRPr b="0" lang="en-US" sz="2400" spc="-1" strike="noStrike">
              <a:solidFill>
                <a:srgbClr val="ffffff"/>
              </a:solidFill>
              <a:latin typeface="Tahoma"/>
            </a:endParaRPr>
          </a:p>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nuda – akt kojim bilo koja od budućih ugovornih strana inicira postanak ugovora (prijedlog ugovora učinjen određenoj osobi koji sadrži sve bitne sastojke budućeg ugovora); neformalni akt, osim ako se za ugovor traži određena forma</a:t>
            </a:r>
            <a:endParaRPr b="0" lang="en-US" sz="2400" spc="-1" strike="noStrike">
              <a:solidFill>
                <a:srgbClr val="ffffff"/>
              </a:solidFill>
              <a:latin typeface="Tahoma"/>
            </a:endParaRPr>
          </a:p>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pća ponuda – upućena neodređenom broju osoba</a:t>
            </a:r>
            <a:endParaRPr b="0" lang="en-US" sz="2400" spc="-1" strike="noStrike">
              <a:solidFill>
                <a:srgbClr val="ffffff"/>
              </a:solidFill>
              <a:latin typeface="Tahoma"/>
            </a:endParaRPr>
          </a:p>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nuda traje određeno vrijeme koje je u njoj određeno (obično 8 dana), a moguć je njezin opoziv ako je on stigao ponuđenom prije ponude ili istodobno s ponudo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eaeaea"/>
                </a:solidFill>
                <a:latin typeface="Tahoma"/>
              </a:rPr>
              <a:t>Izvanugovorne obveze</a:t>
            </a: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stanak na temelju pravnih činjenica ili stanja na koje pravo veže postanak obveznog odnosa bez obzira na volju sudionika</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ste izvanugovornih obveza:</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Jednostrana izjava volje</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govornost za štetu</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tjecanje bez osnove</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lovodstvo bez naloga</a:t>
            </a:r>
            <a:endParaRPr b="0" lang="en-US" sz="2800" spc="-1" strike="noStrike">
              <a:solidFill>
                <a:srgbClr val="ffffff"/>
              </a:solidFill>
              <a:latin typeface="Tahoma"/>
            </a:endParaRPr>
          </a:p>
          <a:p>
            <a:pPr marL="542160" indent="-54216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potreba tuđe stvari ili obavljanje poslova u tuđu korist</a:t>
            </a:r>
            <a:endParaRPr b="0" lang="en-US" sz="2800" spc="-1" strike="noStrike">
              <a:solidFill>
                <a:srgbClr val="ffffff"/>
              </a:solidFill>
              <a:latin typeface="Tahoma"/>
            </a:endParaRPr>
          </a:p>
          <a:p>
            <a:pPr marL="542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Jednostrana izjava volje – javno obećanje nagrade; vrijednosni papir</a:t>
            </a:r>
            <a:endParaRPr b="0" lang="en-US" sz="3200" spc="-1" strike="noStrike">
              <a:solidFill>
                <a:srgbClr val="ffffff"/>
              </a:solidFill>
              <a:latin typeface="Tahoma"/>
            </a:endParaRPr>
          </a:p>
          <a:p>
            <a:pPr marL="298440" indent="-298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dgovornost za štetu – obveznopravni odnos na temelju kojeg počinitelj štete imao obvezu nadoknaditi štetu oštećenom, a on je ovlašten zahtijevati naknadu štete</a:t>
            </a:r>
            <a:endParaRPr b="0" lang="en-US" sz="3200" spc="-1" strike="noStrike">
              <a:solidFill>
                <a:srgbClr val="ffffff"/>
              </a:solidFill>
              <a:latin typeface="Tahoma"/>
            </a:endParaRPr>
          </a:p>
          <a:p>
            <a:pPr marL="298440" indent="-298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govorna i izvanugovorna odgovornost za šte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etpostavke odgovornosti za štetu:</a:t>
            </a:r>
            <a:endParaRPr b="0" lang="en-US" sz="2200" spc="-1" strike="noStrike">
              <a:solidFill>
                <a:srgbClr val="ffffff"/>
              </a:solidFill>
              <a:latin typeface="Tahoma"/>
            </a:endParaRPr>
          </a:p>
          <a:p>
            <a:pPr marL="560520" indent="-560520">
              <a:lnSpc>
                <a:spcPct val="80000"/>
              </a:lnSpc>
              <a:spcBef>
                <a:spcPts val="55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Subjekti – štetnik i oštećeni</a:t>
            </a:r>
            <a:endParaRPr b="0" lang="en-US" sz="2200" spc="-1" strike="noStrike">
              <a:solidFill>
                <a:srgbClr val="ffffff"/>
              </a:solidFill>
              <a:latin typeface="Tahoma"/>
            </a:endParaRPr>
          </a:p>
          <a:p>
            <a:pPr marL="560520" indent="-560520">
              <a:lnSpc>
                <a:spcPct val="80000"/>
              </a:lnSpc>
              <a:spcBef>
                <a:spcPts val="55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Štetna radnja – čin ili propust štetnika koji uzrokuje štetu oštećenom (građanski delikt i povreda ugovornog odnosa)</a:t>
            </a:r>
            <a:endParaRPr b="0" lang="en-US" sz="2200" spc="-1" strike="noStrike">
              <a:solidFill>
                <a:srgbClr val="ffffff"/>
              </a:solidFill>
              <a:latin typeface="Tahoma"/>
            </a:endParaRPr>
          </a:p>
          <a:p>
            <a:pPr marL="560520" indent="-560520">
              <a:lnSpc>
                <a:spcPct val="80000"/>
              </a:lnSpc>
              <a:spcBef>
                <a:spcPts val="55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Šteta – štetnom radnjom uzrokovana povreda nečijeg subjektivnog prava i interesa; materijalna (na imovini, obična šteta i izmakla dobit) i nematerijalna šteta (nanošenje boli, straha, povreda časti, poslovnog ugleda)</a:t>
            </a:r>
            <a:endParaRPr b="0" lang="en-US" sz="2200" spc="-1" strike="noStrike">
              <a:solidFill>
                <a:srgbClr val="ffffff"/>
              </a:solidFill>
              <a:latin typeface="Tahoma"/>
            </a:endParaRPr>
          </a:p>
          <a:p>
            <a:pPr marL="560520" indent="-560520">
              <a:lnSpc>
                <a:spcPct val="80000"/>
              </a:lnSpc>
              <a:spcBef>
                <a:spcPts val="55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zročnost – uzročna veza između štetne radnje i štete; obveza oštećenog da dokaže uzročnost</a:t>
            </a:r>
            <a:endParaRPr b="0" lang="en-US" sz="2200" spc="-1" strike="noStrike">
              <a:solidFill>
                <a:srgbClr val="ffffff"/>
              </a:solidFill>
              <a:latin typeface="Tahoma"/>
            </a:endParaRPr>
          </a:p>
          <a:p>
            <a:pPr marL="560520" indent="-560520">
              <a:lnSpc>
                <a:spcPct val="80000"/>
              </a:lnSpc>
              <a:spcBef>
                <a:spcPts val="55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otupravnost – radnja protivna pravnoj normi; isključenje odgovornosti u slučaju krajnje nužde, nužne obrane, dopuštene samopomoći i pristanka oštećenog</a:t>
            </a:r>
            <a:endParaRPr b="0" lang="en-US" sz="2200" spc="-1" strike="noStrike">
              <a:solidFill>
                <a:srgbClr val="ffffff"/>
              </a:solidFill>
              <a:latin typeface="Tahoma"/>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riteriji utvrđivanja odgovornosti za štet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ubjektivna odgovornost – kriterij krivnje; kriterij dokazane krivnje (teret dokaza na oštećenom) i kriterij pretpostavljene krivnje (teret dokaza na štetnik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Objektivna odgovornost – kriterij uzročnosti; dokazivanje uzročnosti između štete i štetne radnje, nije potrebno dokazivati krivnj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lučaj – štetan događaj koji se ne može pripisati krivnji određene osobe; ako je šteta nastala slučajem, snosi je onaj kod kojeg se dogodila; u slučaju objektivne odgovornosti postoji odgovornost štetnika i za slučaj, a kod subjektivne odgovornosti nema te odgovornosti  </a:t>
            </a:r>
            <a:endParaRPr b="0" lang="en-US" sz="2200" spc="-1" strike="noStrike">
              <a:solidFill>
                <a:srgbClr val="ffffff"/>
              </a:solidFill>
              <a:latin typeface="Tahoma"/>
            </a:endParaRPr>
          </a:p>
          <a:p>
            <a:pPr marL="335880" indent="-3358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Viša sila – događaj zbog kojeg je nastupila šteta, a potječe od nekog uzroka koji se nalazi izvan stvari i čije se djelovanje nije moglo predvidjeti, izbjeći ili ukloniti; isključenje odgovornosti za štetu u slučaju više sile</a:t>
            </a:r>
            <a:endParaRPr b="0" lang="en-US" sz="2200" spc="-1" strike="noStrike">
              <a:solidFill>
                <a:srgbClr val="ffffff"/>
              </a:solidFill>
              <a:latin typeface="Tahoma"/>
            </a:endParaRPr>
          </a:p>
          <a:p>
            <a:pPr marL="335880" indent="-3358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pravljanje štete – naknada materijalne štete: naturalna restitucija (povrat u prijašnje stanje), naknada štete u novčanom ekvivalentu; naknada nematerijalne štete: satisfakcija</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tjecanje bez osnove – jedna osoba stječe imovinu na račun druge osobe bez pravne osnove, odnosno na osnovi nekog ugovora, ali pravna osnova poslije otpadne; odnos osiromašenog i obogaćenog, osiromašeni može tužbom protiv obogaćenog tražiti povrat neosnovano stečenog</a:t>
            </a:r>
            <a:endParaRPr b="0" lang="en-US" sz="2800" spc="-1" strike="noStrike">
              <a:solidFill>
                <a:srgbClr val="ffffff"/>
              </a:solidFill>
              <a:latin typeface="Tahoma"/>
            </a:endParaRPr>
          </a:p>
          <a:p>
            <a:pPr marL="329040" indent="-3290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lovodstvo bez naloga – izvanugovorni obvezni odnos koji nastaje kad se netko nepozvan i bez naloga miješa u poslove druge osobe, obavljajući ih za tuđi rač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kupoprodaji</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jam – ugovor kojim se prodavatelj obvezuje da stvar koju prodaje preda kupcu, kako bi kupac stekao pravo vlasništva, a kupac se obvezuje platiti cijenu prodavatelju</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Dvostranoobvezni, naplatni, konsenzualni ugovor</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bjekt kupoprodaje mogu biti stvari i prava (npr. tražbine)</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blik ugovora – neformalni ugovor, pisana forma propisana za ugovor o prodaji nekretnine, i prodaji s obročnim otplatama</a:t>
            </a:r>
            <a:endParaRPr b="0" lang="en-US" sz="22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ijelaz rizika – mogućnost slučajne propasti ili oštećenja stvari, rizik prelazi s prodavatelja na kupca u trenutku predaje stvari kupcu</a:t>
            </a:r>
            <a:r>
              <a:rPr b="0" lang="hr-H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Bitni elementi ugovora o kupoprodaji:</a:t>
            </a:r>
            <a:endParaRPr b="0" lang="en-US" sz="2200" spc="-1" strike="noStrike">
              <a:solidFill>
                <a:srgbClr val="ffffff"/>
              </a:solidFill>
              <a:latin typeface="Tahoma"/>
            </a:endParaRPr>
          </a:p>
          <a:p>
            <a:pPr marL="609480" indent="-609480">
              <a:lnSpc>
                <a:spcPct val="80000"/>
              </a:lnSpc>
              <a:spcBef>
                <a:spcPts val="55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Stvar – određena (po količini) ili odrediva; ako je stvar propala u trenutku sklapanja ugovora, on ne stvara nikakve učinke, a ako je djelomično propala, kupac može raskinuti ili tražiti sniženje cijene; moguća prodaja buduće stvari</a:t>
            </a:r>
            <a:endParaRPr b="0" lang="en-US" sz="2200" spc="-1" strike="noStrike">
              <a:solidFill>
                <a:srgbClr val="ffffff"/>
              </a:solidFill>
              <a:latin typeface="Tahoma"/>
            </a:endParaRPr>
          </a:p>
          <a:p>
            <a:pPr marL="609480" indent="-609480">
              <a:lnSpc>
                <a:spcPct val="80000"/>
              </a:lnSpc>
              <a:spcBef>
                <a:spcPts val="55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Cijena – vrijednost izražena u novcu; određena (fiksni iznos) ili odrediva cijena; propisana cijena; razumna cijena kod trgovačkih ugovora ako cijena nije određena ili odrediva;  tekuća cijena (cijena utvrđena službenom evidencijom na tržištu mjesta prodavatelja u vrijeme kada je trebalo doći do ispunjenja); određivanje cijene od strane trećega</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506520" indent="-5065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veze ugovornih strana:</a:t>
            </a:r>
            <a:endParaRPr b="0" lang="en-US" sz="2800" spc="-1" strike="noStrike">
              <a:solidFill>
                <a:srgbClr val="ffffff"/>
              </a:solidFill>
              <a:latin typeface="Tahoma"/>
            </a:endParaRPr>
          </a:p>
          <a:p>
            <a:pPr marL="506520" indent="-506520">
              <a:lnSpc>
                <a:spcPct val="90000"/>
              </a:lnSpc>
              <a:spcBef>
                <a:spcPts val="70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veze prodavatelja – </a:t>
            </a:r>
            <a:endParaRPr b="0" lang="en-US" sz="2800" spc="-1" strike="noStrike">
              <a:solidFill>
                <a:srgbClr val="ffffff"/>
              </a:solidFill>
              <a:latin typeface="Tahoma"/>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1. predaja stvari (ugovoreno mjesto, mjesto sjedišta/prebivališta prodavatelja, mjesto gdje se stvar nalazi ako je to poznato ugovarateljima u trenutku sklapanja ugovora; predaja prijevozniku; predaja isprave kojom se može raspolagati robom (skladišnica, teretnica, tovarni list); ugovoreno vrijeme ili razumni rok));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a:t>
            </a:r>
            <a:r>
              <a:rPr b="0" lang="en-US" sz="1900" spc="-1" strike="noStrike">
                <a:solidFill>
                  <a:srgbClr val="ffffff"/>
                </a:solidFill>
                <a:latin typeface="Tahoma"/>
              </a:rPr>
              <a:t>odgovornost za nedostatke (odgovornost za materijalne nedostatke prodane stvari - nedostaci u kvaliteti ili količini; odgovornost za nedostatke u kvaliteti koji su postojali u trenutku prelaska rizika na kupca; vidljivi i skriveni nedostaci; materijalni nedostaci postoje: 1) ako stvar nema svojstva za redovitu upotrebu ili za promet, 2) ako stvar nema svojstva za posebnu upotrebu zbog koje je kupac pribavlja, a to je bilo poznato ili moralo biti poznato prodavatelju, 3) ako stvar nema svojstva koja su izričito ili prešutno ugovorena, 4) kada prodavatelj preda stvar koja ne odgovara uzorku ili modelu, 5) ako stvar nema svojstva koja inače imaju stvari iste vrste te ih kupac može opravdano očekivati uzimajući u obzir reklame, 6) ako je stvar nepravilno montirana, a montaža je dio ugovora, 7) ako je nepravilna montaža posljedica nedostataka u uputama o montaži; ako kupac pravodobno obavijesti prodavatelja o nedostacima, on može: uklanjanje nedostataka ili predaju stvari bez nedostataka, sniženje cijene ili raskinuti ugovor)</a:t>
            </a:r>
            <a:endParaRPr b="0" lang="en-US" sz="1900" spc="-1" strike="noStrike">
              <a:solidFill>
                <a:srgbClr val="ffffff"/>
              </a:solidFill>
              <a:latin typeface="Tahoma"/>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hvat – pozitivno očitovanje volje strane kojoj je poslana ponu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hvatom nastaje ugovor te on mora odgovarati sadržaju ponude (u protivnom radi se o protuponudi), mogućnost opoziva prihvat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enutak sklapanja (perfekcije) ugovora – trenutak nastanka ugovora i međusobnih obveza ugovornih stranak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zmeđu prisutnih stranaka ugovor se smatra sklopljenim u trenutku kad ponuđeni prihvati ponudu ponuditelja za sklapanje ugovora; između odstutnih stranaka ugovor se sklapa putem pisma, telegrama, e-maila, a ugovor jer sklopljen kad ponuditelj primi izjavu ponuđenog da prihvaća ponudu (trenutak primitka prihvata ponude od strane ponuditel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ffffff"/>
                </a:solidFill>
                <a:latin typeface="Tahoma"/>
              </a:rPr>
              <a:t>Jamstvo za ispravnost prodane stvari (garancija) –odgovornost prodavatelja i proizvođača za ispravnost prodane stvari tijekom trajanja jamstvenog roka; obveza popravka ili zamjene stvari; pravo na naknadu štete nastalu zbog nemogućnosti upotrebe stvari tijekom popravka; produljenje jamstvenog roka u slučaju manjeg popravka, a u slučaju većeg popravka ili zamjene stvari jamstveni rok počinje iznova teći; u slučaju ako se popravak ne obavi u razumnom roku, kupac ima pravo na raskid ugovora ili sniženje cijene te na naknadu štete </a:t>
            </a:r>
            <a:endParaRPr b="0" lang="en-US" sz="1900" spc="-1" strike="noStrike">
              <a:solidFill>
                <a:srgbClr val="ffffff"/>
              </a:solidFill>
              <a:latin typeface="Tahoma"/>
            </a:endParaRPr>
          </a:p>
          <a:p>
            <a:pPr marL="329040" indent="-3290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ffffff"/>
                </a:solidFill>
                <a:latin typeface="Tahoma"/>
              </a:rPr>
              <a:t> </a:t>
            </a:r>
            <a:r>
              <a:rPr b="0" lang="hr-HR" sz="1900" spc="-1" strike="noStrike">
                <a:solidFill>
                  <a:srgbClr val="ffffff"/>
                </a:solidFill>
                <a:latin typeface="Tahoma"/>
              </a:rPr>
              <a:t>Odgovornost za pravne nedostatke (zaštita od evikcije) – slučaj kada na prodanoj stvari postoji neko pravo treće osobe koje isključuje, umanjuje ili ograničava pravo kupca, a za to kupac nije znao niti je na to pristao; obveza kupca da u razumnom roku izvijesti prodavatelja o pravnom nedostatku i zatraži njegovo otklanjanje; prava kupca na raskid ugovora ili na sniženje cijene te na naknadu štete; prava kupca se gase po isteku 1 godine; moguće ugovorom ograničiti ili isključiti ovu odgovornost </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Obveze kupca –</a:t>
            </a:r>
            <a:endParaRPr b="0" lang="en-US" sz="2800" spc="-1" strike="noStrike">
              <a:solidFill>
                <a:srgbClr val="ffffff"/>
              </a:solidFill>
              <a:latin typeface="Tahoma"/>
            </a:endParaRPr>
          </a:p>
          <a:p>
            <a:pPr marL="578880" indent="-5788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plata cijene – u vrijeme i na mjestu određenom ugovorom; inače u mjestu predaje stvari, a ako to nije potrebno onda u prebivalištu ili sjedištu prodavatelja</a:t>
            </a:r>
            <a:endParaRPr b="0" lang="en-US" sz="2800" spc="-1" strike="noStrike">
              <a:solidFill>
                <a:srgbClr val="ffffff"/>
              </a:solidFill>
              <a:latin typeface="Tahoma"/>
            </a:endParaRPr>
          </a:p>
          <a:p>
            <a:pPr marL="578880" indent="-5788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uzimanje stvari – omogućavanje predaje i odnošenje stvari; pravo prodavatelja da skine ugovor ako kupac neopravdano odbije preuzeti stvar te osnovano posumnja da kupac neće platiti cijenu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poprodaje s posebnim pogodbama – kupoprodaja s pravom prvokupa, kupnja na pokus, kupoprodaja po uzorku ili modelu, kupoprodaja sa specifikacijom (naknadno određenje oblika, mjere i drugih pojedinosti stvari), kupoprodaja s pridržajem prava vlasništva, kupoprodaja s obročnom otplatom cije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komisiji</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jam – ugovor kojim se komisionar obvezuje obaviti uz proviziju jedan ili više poslova u svoje ime i za račun komitenta; on ima pravo na proviziju i onda kada ona nije ugovoren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upsidijarna primjena pravila o ugovoru o nalogu</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ste komisije – komisija kupnje; komisija prodaje; del credere komis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klapanje ugovora pod uvjetima različitim od naloga – ako komisionar sklopi posao pod nepovoljnijim uvjetima od onih iz naloga, a to nije smio, odgovara komitentu za štetu te nadoknađuje razliku; komitent može odbiti sklopljeni posao ako odmah obavijesti komisionara, osim ako komisionar pokaže spremnost da odmah isplati razliku i nadoknadi štetu; ako je ugovor sklopljen pod povoljnijim uvjetima, postignuta korist pripada komitentu</a:t>
            </a:r>
            <a:endParaRPr b="0" lang="en-US" sz="1700" spc="-1" strike="noStrike">
              <a:solidFill>
                <a:srgbClr val="ffffff"/>
              </a:solidFill>
              <a:latin typeface="Tahoma"/>
            </a:endParaRPr>
          </a:p>
          <a:p>
            <a:pPr marL="343080" indent="-343080">
              <a:lnSpc>
                <a:spcPct val="80000"/>
              </a:lnSpc>
              <a:spcBef>
                <a:spcPts val="4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rodaja robe prezaduženoj osobi – komisionar odgovara komitentu za štetu ako je prodao robu osobi za čiju je prezaduženost znao ili je mogao znati</a:t>
            </a:r>
            <a:endParaRPr b="0" lang="en-US" sz="1700" spc="-1" strike="noStrike">
              <a:solidFill>
                <a:srgbClr val="ffffff"/>
              </a:solidFill>
              <a:latin typeface="Tahoma"/>
            </a:endParaRPr>
          </a:p>
          <a:p>
            <a:pPr marL="343080" indent="-343080">
              <a:lnSpc>
                <a:spcPct val="80000"/>
              </a:lnSpc>
              <a:spcBef>
                <a:spcPts val="4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Kad komisionar kupuje robu komitenta ili mu prodaje svoju robu – komisionar kojem je povjereno da proda ili kupi robu koja kotira na burzi ili tržištu može uz dozvolu komitenta zadržati robu za sebe kao kupac, ili je isporučiti kao prodavatelj, po cijeni u vrijeme izvršenja povjerenog posla (pretvorba komisije u kupoprodaju); ako se burzovna (tržišna) cijena i cijena koju odredi komitent ne podudaraju, komisionar-prodavatelj ima pravo na nižu od te dvije cijene, a komisionar-kupac je dužan platiti višu cijenu </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Obveze komisionara:</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1. Čuvanje robe s pozornošću dobrog gospodarstvenika, kao i odgovornost za slučajnu propast ili oštećenje robe ako je nije osigurao, a to je trebao učiniti po nalogu;</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2. Obveza komisionara da pregleda robu pri primitku od prijevoznika i o tome bez odgode obavijesti komitenta, kao i o vidljivim nedostacima, inače odgovara za štetu komitentu;</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3. Obveza komisionara da obavještava komitenta o promjenama na robi koje dovode do smanjenja njene vrijednosti, a u slučaju hitnoće i njezina prodaja na najpovoljniji način;</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4. Obveza komisionara da obavijesti komitenta o osobi s kojom je sklopio ugovor, osim ako se radi o prodaji pokretnih stvari u komisionoj prodavaonici;</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5. Obveza polaganja računa bez odgode i predaje svega što je primio na temelju ugovora;</a:t>
            </a:r>
            <a:endParaRPr b="0" lang="en-US" sz="1700" spc="-1" strike="noStrike">
              <a:solidFill>
                <a:srgbClr val="ffffff"/>
              </a:solidFill>
              <a:latin typeface="Tahoma"/>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6. Odgovornost komisionara za ispunjenje obveze iz ugovora sa suugovarateljem ako je tako posebno ugovoreno; pravo na povećanu proviziju</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e komitenta:</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a da plati proviziju kad bude ispunjen posao što ga je komisionar poduzeo; ako za neispunjenje nije kriv ni komisionar ni komitent, komisionar ima pravo na naknadu; visina provizije se određuje ugovorom ili tarifom; naknada troškova komisionara; plaćanje predujma komisionaru</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ložno pravo komisionara na stvarima koje mu je predao komitent</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itent može zahtijevati ispunjenje tražbine iz posla koje je komisionar sklopio s trećim i za njegov račun tek pošto mu ih komisionar ustupi; komitent ima položaj izlučnog vjerovnika u slučaju otvaranja stečaja nad komisionarom; vjerovnici komisionara ne mogu provesti ovrhu na stvarima koje je komisionar stekao za račun komitenta  </a:t>
            </a:r>
            <a:endParaRPr b="0" lang="en-US" sz="2000" spc="-1" strike="noStrike">
              <a:solidFill>
                <a:srgbClr val="ffffff"/>
              </a:solidFill>
              <a:latin typeface="Tahoma"/>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trgovinskom zastupanj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jam – ugovor kojim se zastupnik obvezuje da će za vrijeme trajanja ugovora pregovarati sa trećim osobama i sklapanju ugovora u ime i za račun nalogodavca te da će, ako je to ugovoreno, sklapati ugovore s trećim osobama u ime i za račun nalogodavca, a nalogodavac se obvezuje da će zastupniku za svaki ugovor koji sklopi platiti proviziju; mogućnost da nalogodavac na istom području ima za istu vrstu posla više zastupnika</a:t>
            </a:r>
            <a:endParaRPr b="0" lang="en-US" sz="1800" spc="-1" strike="noStrike">
              <a:solidFill>
                <a:srgbClr val="ffffff"/>
              </a:solidFill>
              <a:latin typeface="Tahoma"/>
            </a:endParaRPr>
          </a:p>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stupnik ne može bez pristanka nalogodavca istodobno na istom području i za istu vrstu poslova raditi za drugog nalogodavca</a:t>
            </a:r>
            <a:endParaRPr b="0" lang="en-US" sz="1800" spc="-1" strike="noStrike">
              <a:solidFill>
                <a:srgbClr val="ffffff"/>
              </a:solidFill>
              <a:latin typeface="Tahoma"/>
            </a:endParaRPr>
          </a:p>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Formalni ugovor (pisani oblik)</a:t>
            </a:r>
            <a:endParaRPr b="0" lang="en-US" sz="1800" spc="-1" strike="noStrike">
              <a:solidFill>
                <a:srgbClr val="ffffff"/>
              </a:solidFill>
              <a:latin typeface="Tahoma"/>
            </a:endParaRPr>
          </a:p>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stupnik može tražiti izdavanje punomoći od nalogodavca</a:t>
            </a:r>
            <a:endParaRPr b="0" lang="en-US" sz="1800" spc="-1" strike="noStrike">
              <a:solidFill>
                <a:srgbClr val="ffffff"/>
              </a:solidFill>
              <a:latin typeface="Tahoma"/>
            </a:endParaRPr>
          </a:p>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stupnik ne može bez posebnog ovlaštenja zahtijevati i primati ispunjenje tražbine za svog nalogodavca</a:t>
            </a:r>
            <a:endParaRPr b="0" lang="en-US" sz="1800" spc="-1" strike="noStrike">
              <a:solidFill>
                <a:srgbClr val="ffffff"/>
              </a:solidFill>
              <a:latin typeface="Tahoma"/>
            </a:endParaRPr>
          </a:p>
          <a:p>
            <a:pPr marL="332640" indent="-3326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bveza zastupnika da daje izjave radi očuvanja prava nalogodavca suugovaratelju te poduzimati potrebne mjere osiguranj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Obveze zastupnika:</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Briga o interesima nalogodavca (pozornost urednog i savjesnog gospodarstvenika, postupanje po uputama)</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Obavještavanje nalogodavca o stanju na tržištu, ispunjenju svojih obveza, trećim osobama s kojima pregovara i o sklopljenim ugovorima u njegovo ime i za njegov račun</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Postupanje po uputama</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Čuvanje tajni nalogodavca</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Vraćanje stvari koje mu je predao nalogodavac nakon prestanka ugovora</a:t>
            </a:r>
            <a:endParaRPr b="0" lang="en-US" sz="2100" spc="-1" strike="noStrike">
              <a:solidFill>
                <a:srgbClr val="ffffff"/>
              </a:solidFill>
              <a:latin typeface="Tahoma"/>
            </a:endParaRPr>
          </a:p>
          <a:p>
            <a:pPr marL="609480" indent="-609480">
              <a:lnSpc>
                <a:spcPct val="80000"/>
              </a:lnSpc>
              <a:spcBef>
                <a:spcPts val="524"/>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Del credere odgovornost</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Obveze nalogodavca:</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Suradnja nalogodavca sa zastupnikom  u skladu s načelom savjesnosti i poštenja i s pozornošću dobrog gospodarstvenika </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Davanje obavijesti zastupniku (prihvat/odbijanje ponude, neispunjenje ugovora), smanjenje opsega poslova</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laćanje provizije (za ugovore sklopljene tijekom trajanja ugovora o zastupanju, kao i one sklopljene u razumnom roku nakon prestanka ugovora), provizija se određuje ugovorom ili tarifom, odnosno uobičajena provizija</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Zastupnik stječe pravo na proviziju u trenu kad nalogodavac ispuni svoju činidbu iz ugovora između njega i treće osobe</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Obračun provizije za svaka 3 mjeseca</a:t>
            </a:r>
            <a:endParaRPr b="0" lang="en-US" sz="1900" spc="-1" strike="noStrike">
              <a:solidFill>
                <a:srgbClr val="ffffff"/>
              </a:solidFill>
              <a:latin typeface="Tahoma"/>
            </a:endParaRPr>
          </a:p>
          <a:p>
            <a:pPr marL="597240" indent="-59724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Zastupnik gubi proviziju ako ugovor između nalogodavca i treće osobe ostane neispunjen iz uzroka koji nisu na strani nalogodavca</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jesto sklapanja ugovora – među prisutnima to je mjesto u kojem su se stranke nalazile u trnu perfekcije ugovora, a među odsutnima u mjestu u kojem je ponuditelj imao svoje sjedište, odnosno prebivalište u trenutku kad je učinio ponudu</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kašnjeli prihvat ponude – ako je za kašnjenje prihvata ponude odgovoran ponuđeni, ponuditelj prestaje biti vezan svojom ponudom, a zakašnjeli prihvat smatra se kao nova ponuda ponuđenog; ako ponuđeni nije kriv za kašnjenje, ako je prihvat učinjen pravodobno, a stigao je ponuditelju nakon isteka roka za prihvat, ugovor je sklopljen ako je ponuditelj znao ili mogao znati da je izjava poslana pravodobno, osim ako je ponuditelj prvi radni dan nakon primitka prihvata ili prije primitka prihvata izjavio da se ne smatra vezanim ponudom zbog isteka ro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stupnik ima pravo na troškove samo ako je to izričito ugovoren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stupnik ima pravo zadržanja na svotama koje je naplatio za nalogodavca kao i na njegovim stvarim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govor se sklapa na neodređeno vrijeme (prešutno nastavljanje ugovora na određeno vrijeme pretvara ga u ugovor na neodređeno vrijem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tkaz ugovora (otkazni rok: 1 godina trajanja – 1 mjesec roka, ako je duži od 5 godina, otkazni rok iznosi 6 mjeseci)</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Raskid ugovora iz važnih razloga (neispunjenje obveze ili promijenjene okolnosti)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avo zastupnika i na posebnu naknadu nakon prestanka ugovora, uz uvjet da je traži u roku od 1 godin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gućnost da se zastupniku zabrani ili ograniči obavljanje trgovinskog zastupanja nakon prestanka ugovora i to najviše 2 godine i uz plaćanje posebne naknad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posredovanju</a:t>
            </a: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jam – ugovor kojim se posrednik obvezuje dovesti u vezu s nalogodavcem osobu koja bi s njim pregovarala o sklapanju ugovora, a nalogodavac se obvezuje da isplati proviziju, ako ugovor bude sklopljen</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upsidijarna primjena odredbi o ugovoru o djelu</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srednik nije ovlašten primati ispunjenja iz ugovora koji je sklopljen njegovim posredovanjem za nalogodavca (potrebna posebna pisana punomoć)</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poziv naloga u bilo koje doba</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alogodavac nije dužan sklopiti ugovor, ali odgovara za štetu posredniku ako je postupio nesavjesno</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e posrednik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a tražiti priliku za sklapanje ugovora (pozornost dobrog gospodarstvenika, posredovanje u pregovorima i nastojanje da se sklopi ugovor)</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a obavještavanja o svim okolnostima značajnim za sklapanje posl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govornost posrednika prema obje ugovorne strane između kojih je posredovao ako je posredovao za poslovno nesposobnu osobu ili za osobu za koju je znao ili morao znati da neće ispuniti obvezu iz ugovora, kao i odgovornost prema nalogodavcu ako obavijesti treću osobu o sadržaju naloga, pregovorima ili uvjetima sklopljenog ugovora bez odobrenj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a vođenja posredničkog dnevnika i izdavanja posredničkog lis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e nalogodavca:</a:t>
            </a:r>
            <a:endParaRPr b="0" lang="en-US" sz="2400" spc="-1" strike="noStrike">
              <a:solidFill>
                <a:srgbClr val="ffffff"/>
              </a:solidFill>
              <a:latin typeface="Tahoma"/>
            </a:endParaRPr>
          </a:p>
          <a:p>
            <a:pPr marL="591120" indent="-5911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laćanje provizije (ugovor, tarifa, običaji, sud), posrednik stječe pravo na proviziju u trenutku sklapanja ugovora za koji je posredovao, osim ako je drugačije ugovoreno; ako posreduje za obje strane, od svake može tražiti samo polovicu provizije, odnosno troškova</a:t>
            </a:r>
            <a:endParaRPr b="0" lang="en-US" sz="2400" spc="-1" strike="noStrike">
              <a:solidFill>
                <a:srgbClr val="ffffff"/>
              </a:solidFill>
              <a:latin typeface="Tahoma"/>
            </a:endParaRPr>
          </a:p>
          <a:p>
            <a:pPr marL="591120" indent="-5911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vo na naknadu troškova samo ako je tako ugovoreno</a:t>
            </a:r>
            <a:endParaRPr b="0" lang="en-US" sz="2400" spc="-1" strike="noStrike">
              <a:solidFill>
                <a:srgbClr val="ffffff"/>
              </a:solidFill>
              <a:latin typeface="Tahoma"/>
            </a:endParaRPr>
          </a:p>
          <a:p>
            <a:pPr marL="591120" indent="-591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Gubitak prava na proviziju ako protivno ugovoru ili intresima nalogodavca radi za drugu stran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otpremi (špediciji)</a:t>
            </a:r>
            <a:endParaRPr b="1" lang="en-US" sz="4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jam – ugovor kojim se otpremnik obvezuje da radi prijevoza stvari sklopi, u svoje ime, a za račun nalogodavatelja, ugovor o prijevozu i druge ugovore potrebne za izvršenje prijevoza te obaviti ostale uobičajene poslove i radnje, a nalogodavatelj se obvezuje isplatiti određenu naknadu</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tpremnik može nastupati i kao zastupnik nalogodavatelja, ako je tako ugovoreno</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dustanak od ugovora – nalogodavatelj može po svojoj volji odustati od ugovora, uz obvezu da nadoknadi otpremniku sve troškove što ih je do tada imao i isplati razmjerni dio naknade za dotadašnji rad</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Supsidijarna primjena odredbi ZOO-a o komisiji i trgovinskom zastupanju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e otpremnika:</a:t>
            </a:r>
            <a:endParaRPr b="0" lang="en-US" sz="2400" spc="-1" strike="noStrike">
              <a:solidFill>
                <a:srgbClr val="ffffff"/>
              </a:solidFill>
              <a:latin typeface="Tahoma"/>
            </a:endParaRPr>
          </a:p>
          <a:p>
            <a:pPr marL="603360" indent="-603360">
              <a:lnSpc>
                <a:spcPct val="8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a otpremnika da upozori nalogodavatelja na nedostatke u nalogu, osobito ako dovode do većih troškova ili štete</a:t>
            </a:r>
            <a:endParaRPr b="0" lang="en-US" sz="2400" spc="-1" strike="noStrike">
              <a:solidFill>
                <a:srgbClr val="ffffff"/>
              </a:solidFill>
              <a:latin typeface="Tahoma"/>
            </a:endParaRPr>
          </a:p>
          <a:p>
            <a:pPr marL="603360" indent="-603360">
              <a:lnSpc>
                <a:spcPct val="8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pozorenje o nedostacima u pakiranju ili pripremi za prijevoz stvari, a ako bi čekanjem da ih otkloni nalogodavatelj nastala šteta, obveza da ih otkloni sam otpremnik</a:t>
            </a:r>
            <a:endParaRPr b="0" lang="en-US" sz="2400" spc="-1" strike="noStrike">
              <a:solidFill>
                <a:srgbClr val="ffffff"/>
              </a:solidFill>
              <a:latin typeface="Tahoma"/>
            </a:endParaRPr>
          </a:p>
          <a:p>
            <a:pPr marL="603360" indent="-603360">
              <a:lnSpc>
                <a:spcPct val="8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tupanje sukladno interesima nalogodavca i s pozornošću dobrog gospodarstvenika, obavještavanje o oštećenjima na stvari i drugim okolnostima te poduzimanje mjera radi očuvanja prava prema trećim osob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 </a:t>
            </a:r>
            <a:r>
              <a:rPr b="0" lang="hr-HR" sz="2100" spc="-1" strike="noStrike">
                <a:solidFill>
                  <a:srgbClr val="ffffff"/>
                </a:solidFill>
                <a:latin typeface="Tahoma"/>
              </a:rPr>
              <a:t>Obveza otpremnika da postupa po uputama nalogodavatelja; obveza da traži nove upute, a ako nema vremena ili je to nemoguće pora postupiti vodeći računa o interesima nalogodavatelja; obavijest o odstupanju od naloga; odgovornost i za štetu nastalu višom silom, ako je odstupio od uputa, osim ako dokaže da bi šteta nastala i da je postupio po uputama; određenje instradacije, ako to nije učinio nalogodavatelj</a:t>
            </a:r>
            <a:endParaRPr b="0" lang="en-US" sz="2100" spc="-1" strike="noStrike">
              <a:solidFill>
                <a:srgbClr val="ffffff"/>
              </a:solidFill>
              <a:latin typeface="Tahoma"/>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5) Odgovornost otpremnika za izbor trećih osoba (moguće ugovaranje del credere odgovornosti); otpremnik odgovara za rad podotpremnika, osim ako je podotpremnik određen nalogom ili je to u interesu nalogodavatelja</a:t>
            </a:r>
            <a:endParaRPr b="0" lang="en-US" sz="2100" spc="-1" strike="noStrike">
              <a:solidFill>
                <a:srgbClr val="ffffff"/>
              </a:solidFill>
              <a:latin typeface="Tahoma"/>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6) Obveza carinjenja robe i plaćanja troškova ako se roba prevozi preko granice (ugovorom moguće odrediti drugačije)</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Otpremnik može obavit samostalno prijevoz stvari, tada ima položaj prijevoznik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 Osiguranje pošiljke ako je tako ugovoreno od rizika koji su određeni ugovorom, ili uobičajenih rizik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Polaganje računa po okončanju posla ili tijekom njegovog obavljanj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e nalogodavca:</a:t>
            </a:r>
            <a:endParaRPr b="0" lang="en-US" sz="2400" spc="-1" strike="noStrike">
              <a:solidFill>
                <a:srgbClr val="ffffff"/>
              </a:solidFill>
              <a:latin typeface="Tahoma"/>
            </a:endParaRPr>
          </a:p>
          <a:p>
            <a:pPr marL="572760" indent="-572760">
              <a:lnSpc>
                <a:spcPct val="9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splata naknade (ugovor, tarifa, sud); otpremnik može tražiti naknadu kada ispuni svoje obveze iz ugovora; ako je ugovoreno da će otpremnik naplatiti tražbine od primatelja stvari, zadržava pravo naplate od nalogodavatelja, ako primatelj ne plati njegove tražbine</a:t>
            </a:r>
            <a:endParaRPr b="0" lang="en-US" sz="2400" spc="-1" strike="noStrike">
              <a:solidFill>
                <a:srgbClr val="ffffff"/>
              </a:solidFill>
              <a:latin typeface="Tahoma"/>
            </a:endParaRPr>
          </a:p>
          <a:p>
            <a:pPr marL="572760" indent="-572760">
              <a:lnSpc>
                <a:spcPct val="9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knada troškova i davanje predujma otpremniku </a:t>
            </a:r>
            <a:endParaRPr b="0" lang="en-US" sz="2400" spc="-1" strike="noStrike">
              <a:solidFill>
                <a:srgbClr val="ffffff"/>
              </a:solidFill>
              <a:latin typeface="Tahoma"/>
            </a:endParaRPr>
          </a:p>
          <a:p>
            <a:pPr marL="572760" indent="-572760">
              <a:lnSpc>
                <a:spcPct val="9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a nalogodavatelja da obavijesti otpremnika o opasnim stvarima i dragocjenost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tprema s ukupnom (fiksnom) naknadom – ugovorom određen ukupni iznos za izvršenje otpreme (naknada za otpremu, prijevoz, troškovi), tada otpremnik odgovara i za rad prijevoznika i drugih osoba kojima se poslužio</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Zbirna otprema – mogućnost da se zajedno preveze više pošiljaka različitih nalogodavatelja odjednom; zbirna otprema moguća ako nije izričito isključena; pravo otpremnika na posebnu naknadu ako postigne uštedu u vozarini za nalogodavatelja; u slučaju zbirne otpreme otpremnik odgovara za gubitak ili oštećenje stvari koje su nastale tijekom zbirne otpreme</a:t>
            </a: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Založno pravo otpremnika</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rste ugovora</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Jednostrano i dvostrano obvezni ugovori – jednostrano obvezni ugovor je onaj kod kojih je jedna stranka samo dužnik, a druga samo vjerovnik (ugovor o darovanju, ugovor o bankarskom jamstvu); dvostrano obvezni (sinalagmatični) ugovor je onaj kod kojeg su i jedan i druga stranka istovremeno i dužnik i vjerovnik</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platni (onerozni) i besplatni (lukrativni) ugovori – razlikuju se da li se za činidbu traži protučinidba (nakna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nsenzualni i realni ugovor – razlikuju se da li je ugovor nastao kada su se stranke sporazumjele o bitnim sastojcima ugovora, ili, tek nakon predaje stvari (kapa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lavni i sporedni ugovori – ugovorom se utvrđuje glavna obveza (prodaja) na koju se nadovezuju sporedne (akcesorne) obveze (jamstvo, zalo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govor o uskladištenju</a:t>
            </a: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ffffff"/>
                </a:solidFill>
                <a:latin typeface="Tahoma"/>
              </a:rPr>
              <a:t>Pojam – ugovor kojim se skladištar obvezuje da primi i čuva određenu robu i poduzima potrebne ili ugovorene mjere radi njezina očuvanja u određenom stanju te da je preda na zahtjev ostavodavatelja ili druge ovlaštene osobe, a ostavodavatelj se obvezuje da mu za to plati određenu naknadu; pri predaji robe ostavodavatelj je dužan dati potrebne obavijesti o njoj i njezinoj vrijednosti</a:t>
            </a:r>
            <a:endParaRPr b="0" lang="en-US" sz="1900" spc="-1" strike="noStrike">
              <a:solidFill>
                <a:srgbClr val="ffffff"/>
              </a:solidFill>
              <a:latin typeface="Tahoma"/>
            </a:endParaRPr>
          </a:p>
          <a:p>
            <a:pPr marL="325800" indent="-32580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ffffff"/>
                </a:solidFill>
                <a:latin typeface="Tahoma"/>
              </a:rPr>
              <a:t>Odgovornost skladištara – odgovara za štetu na robi, osim ako dokaže da je šteta prouzročena višom silom, krivnjom ostavodavatelja, manama ili prirodnim svojstvima robe te neispravnom ambalažom (pretpostavljena krivnja); obveza da upozori ostavodavatelja na mane i prirodan svojstva robe, neispravnu ambalažu čim navede nedostatke opazi ili ih je morao opaziti; obveza da proda robu bez odgode na najpovoljniji način, ako postoji opasnost od propasti ili kvarenja robe, ako to po njegovom pozivu ne može na vrijeme učiniti ostavodavatelj; stavljanje prigovora prijevozniku u slučaju oštećenja robe </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iguranje robe – osiguranje samo ako je tako izričito ugovoreno i od određenih rizika, u protivnom od uobičajenih rizik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graničenje naknade štete – odgovornost skladištara ograničena na iznos stvarne vrijednosti robe, osim ako je štetu prouzročio namjerno ili krajnjom nepažnjom</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iješanje zamjenjivih stvari – mogućnost miješanja stvari iste vrste i iste kakvoće samo uz pristanak ostavodavatelja ili ako je očito riječ o stvarima koje se mogu miješati bez nastanka štete; ako su stvari pomiješane, skladištar može na zahtjev ovlaštene osobe izdvojiti dio iz smjese bez sudjelovanja ostalih ovlaštenih osob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gled robe i uzimanje uzoraka – skladištar je dužan dozvoliti ovlaštenoj osobi pregled robe i uzimanje uzora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knada troškova i založno pravo skladištara – pravo skladištara na nagradu za rad i naknadu troškova čuvanja robe, založno pravo skladištara na predanoj robi</a:t>
            </a:r>
            <a:endParaRPr b="0" lang="en-US" sz="2400" spc="-1" strike="noStrike">
              <a:solidFill>
                <a:srgbClr val="ffffff"/>
              </a:solidFill>
              <a:latin typeface="Tahoma"/>
            </a:endParaRPr>
          </a:p>
          <a:p>
            <a:pPr marL="322200" indent="-3222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dizanje robe i prodaja nepodignute robe – pravo ostavodavatelja da podigne robu i prije ugovorenog roka; ako ostavodavatelj ne podigne robu nakon isteka ugovorenog roka ili nakon isteka 1 godine ako nije ugovoren rok, skladištar može prodati robu na javnoj dražbi za njegov račun, uz prethodnu obavijest i određivanje naknadnog roka od najmanje 8 dana za podizanje rob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dostaci pri podizanju robe - primatelj robe je dužan pregledati robu u trenutku njezina preuzimanja; ako pri preuzimanju primijeti nedostatke, primatelj je dužan na to odmah upozoriti skladištara, inače se smatra da je roba uredno primljena; o skrivenim nedostacima robe primatelj je dužan na pouzdan način obavijestiti skladištara u roku od 8 dana, računajući od dana preuzimanja robe, inače se smatra da je roba uredno primljena</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sidijarna primjena pravila o ostavi na ugovor o skladišten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kladišnica – vrijednosni papir kojim se dokazuje vlasništvo i založno pravo na uskladištenoj rob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užnost izdavanja skladišnice - skladištar koji je na temelju zakona ovlašten za robu primljenu na uskladištenje izdati skladišnicu dužan ju je izdati ostavodavatelju na njegov zahtjev</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astojci i sadržaj skladišnice - skladišnica se sastoji od priznanice i založnice; priznanica i založnica sadrže: tvrtku, naziv, odnosno ime ostavodavca, njegovo sjedište, odnosno prebivalište, tvrtku, naziv i sjedište skladištara, nadnevak i broj skladišnice, mjesto gdje se skladište nalazi, vrstu, prirodu i količinu robe, navod o iznosu do kojega je roba osigurana te ostale podatke potrebne za raspoznavanje robe i određivanje njezine vrijednosti; priznanica i založnica moraju se pozivati jedna na drug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kladišnica za dijelove robe - ostavodavatelj može zahtijevati da skladištar podijeli robu na određene dijelove i da mu za svaki dio izda posebnu skladišnicu; ako je već dobio skladišnicu za cijelu količinu robe, on može zahtijevati da skladištar podijeli robu na određene dijelove i da mu, u zamjenu za skladišnicu koju je dobio, izda posebne skladišnice za svaki pojedini dio; ostavodavatelj može zahtijevati da mu skladištar izda skladišnice samo za jedan dio zamjenljive robe koji je ostavio kod njeg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ava imatelja skladišnice - imatelj skladišnice ima pravo zahtijevati da mu se preda roba označena u njoj; on može raspolagati robom označenom u skladišnici prenošenjem skladišnic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renošenje priznanice i založnice - priznanica i založnica mogu se prenositi indosamentom, zajedno ili odvojeno; pri svakom prijenosu na njima mora biti ubilježen datum; na zahtjev primatelja priznanice ili založnice, prijenos na njega prepisat će se u registar skladišta, gdje će se ubilježiti i njegovo sjedište, odnosno prebivalište</a:t>
            </a:r>
            <a:endParaRPr b="0" lang="en-US" sz="1900" spc="-1" strike="noStrike">
              <a:solidFill>
                <a:srgbClr val="ffffff"/>
              </a:solidFill>
              <a:latin typeface="Tahoma"/>
            </a:endParaRPr>
          </a:p>
          <a:p>
            <a:pPr marL="343080" indent="-34308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ravo imatelja priznanice</a:t>
            </a:r>
            <a:r>
              <a:rPr b="1" lang="en-US" sz="1900" spc="-1" strike="noStrike">
                <a:solidFill>
                  <a:srgbClr val="ffffff"/>
                </a:solidFill>
                <a:latin typeface="Tahoma"/>
              </a:rPr>
              <a:t> - p</a:t>
            </a:r>
            <a:r>
              <a:rPr b="0" lang="en-US" sz="1900" spc="-1" strike="noStrike">
                <a:solidFill>
                  <a:srgbClr val="ffffff"/>
                </a:solidFill>
                <a:latin typeface="Tahoma"/>
              </a:rPr>
              <a:t>rijenos priznanice bez založnice daje primatelju pravo zahtijevati predaju robe samo ako isplati založnicu, ili položi skladištaru za imatelja založnice iznos koji mu treba biti isplaćen na dan dospjelosti tražbine; imatelj priznanice bez založnice može zahtijevati da se roba proda, ako se postignutom cijenom može isplatiti iznos na koji ima pravo imatelj založnice, s tim da se ostvareni višak preda njemu; kad je riječ o zamjenljivim stvarima, imatelj priznanice bez založnice može zahtijevati da mu skladištar preda jedan dio robe pod uvjetom da položi skladištaru za račun imatelja založnice odgovarajući iznos u novcu</a:t>
            </a:r>
            <a:endParaRPr b="0" lang="en-US" sz="1900" spc="-1" strike="noStrike">
              <a:solidFill>
                <a:srgbClr val="ffffff"/>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va imatelja založnice</a:t>
            </a:r>
            <a:r>
              <a:rPr b="1" lang="en-US" sz="2000" spc="-1" strike="noStrike">
                <a:solidFill>
                  <a:srgbClr val="ffffff"/>
                </a:solidFill>
                <a:latin typeface="Tahoma"/>
              </a:rPr>
              <a:t> - p</a:t>
            </a:r>
            <a:r>
              <a:rPr b="0" lang="en-US" sz="2000" spc="-1" strike="noStrike">
                <a:solidFill>
                  <a:srgbClr val="ffffff"/>
                </a:solidFill>
                <a:latin typeface="Tahoma"/>
              </a:rPr>
              <a:t>rijenos založnice bez priznanice daje primatelju založno pravo na robi; pri prvom prijenosu na založnici moraju biti ubilježeni tvrtka, naziv, odnosno ime vjerovnika, njegovo poslovno sjedište, odnosno prebivalište, iznos njegove tražbine, računajući i kamate, i dan dospijevanja; prvi primatelj založnice dužan je bez odgađanja prijaviti skladištaru da je na njega izvršen prijenos založnice, a skladište je dužno prepisati taj prijenos u svoj registar i na samoj založnici zabilježiti da je prijepis izvršen; bez obavljanja navedenih radnji založnica se ne može dalje prenositi indosamentom; ako založnica ne sadrži iznos tražbine založnog vjerovnika, smatra se da je tražbina osigurana u visini cjelokupne vrijednosti robe navedene u njoj</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otest zbog neisplate i prodaja robe - imatelj založnice bez priznanice, kojem ne bude isplaćena u roku tražbina osigurana založnicom, dužan je, pod prijetnjom gubitka prava na isplatu, podići protest prema Zakonu o mjenici; imatelj založnice koji je podigao protest može nakon proteka 8 dana od dospjelosti tražbine zahtijevati prodaju založene robe, a isto pravo pripada i prenositelju koji je isplatio imatelju založnice tražbinu osiguranu založnicom; od iznosa postignutog prodajom izdvaja se iznos potreban za podmirenje troškova prodaje, tražbina skladištara iz ugovora o uskladištenju i ostalih njegovih tražbina nastalih u vezi s ostavljenom robom, zatim se isplaćuje osigurana tražbina imatelja založnice, a ostatak pripada imatelju priznanice.</a:t>
            </a:r>
            <a:endParaRPr b="0" lang="en-US" sz="1800" spc="-1" strike="noStrike">
              <a:solidFill>
                <a:srgbClr val="ffffff"/>
              </a:solidFill>
              <a:latin typeface="Tahoma"/>
            </a:endParaRPr>
          </a:p>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htjev isplate od prenositelja založnice - imatelj založnice može zahtijevati isplatu od prenositelja tek ako nije mogao postići potpuno namirenje prodajom založene robe; taj zahtjev mora biti podignut u roku određenom u Zakonu o mjenici za zahtjev prema indosantima, koji počinje teći od dana prodaje robe; imatelj založnice gubi pravo zahtijevati isplatu od prenositelja ako ne bude zahtijevao prodaju robe u roku od 30 dana od protes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enovani i neimenovani ugovori – da li su ugovori normirani ili nisu (učestalost pojave u prometu, tipizirani sadržaj, poseban naziv)</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ugovor i glavni ugovor – predugovorom se preuzima obveza kasnijeg sklapanja glavnog ugovora te sadrži bitne sastojke budućeg glavnog ugovora</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ni i neformalni ugovori – razlikovanje s obzirom na posebnu formu sklapanja ugov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redstva za pojačanje ugovora</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obno i stvarno pojačanje ugovora</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Jamstvo</a:t>
            </a:r>
            <a:r>
              <a:rPr b="0" lang="hr-HR" sz="2400" spc="-1" strike="noStrike">
                <a:solidFill>
                  <a:srgbClr val="ffffff"/>
                </a:solidFill>
                <a:latin typeface="Tahoma"/>
              </a:rPr>
              <a:t> – ugovor kojim se jamac obvezuje prema vjerovniku da će ispuniti pravovaljanu i dospjelu obvezu glavnog dužnika ako je ovaj ne bi ispunio</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rakteristike jamstva – pisana forma, akcesornost; opseg jamstva odgovara opsegu obveze dužnika; supsidijarnost jamstva; solidarnost jamstva (jamac-platac); subrogacija ( na jamca koji je podmirio obvezu prelazi tražbina vjerovnika); pravo regresa</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djamstvo – jamstvo koje se daje za obvezu nekog drugog jamc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Ugovorna kazna</a:t>
            </a:r>
            <a:r>
              <a:rPr b="0" lang="hr-HR" sz="2400" spc="-1" strike="noStrike">
                <a:solidFill>
                  <a:srgbClr val="ffffff"/>
                </a:solidFill>
                <a:latin typeface="Tahoma"/>
              </a:rPr>
              <a:t> </a:t>
            </a:r>
            <a:r>
              <a:rPr b="1" i="1" lang="hr-HR" sz="2400" spc="-1" strike="noStrike">
                <a:solidFill>
                  <a:srgbClr val="ffffff"/>
                </a:solidFill>
                <a:latin typeface="Tahoma"/>
              </a:rPr>
              <a:t>(penal)</a:t>
            </a:r>
            <a:r>
              <a:rPr b="0" lang="hr-HR" sz="2400" spc="-1" strike="noStrike">
                <a:solidFill>
                  <a:srgbClr val="ffffff"/>
                </a:solidFill>
                <a:latin typeface="Tahoma"/>
              </a:rPr>
              <a:t> – ugovorom određena novčana svota ili neka druga materijalna korist koju će dužnik platiti ako ne ispuni svoju obvezu iz glavnog ugovora ili zakasni s njenim ispunjenjem</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rakteristike ugovorne kazne – isti oblik kao i za ugovor; akcesornost; perfekcija (pravovaljana od trenutka kada su se stranke sporazumjele); sloboda u utvrđivanju visine ugovorne kazne; ugovara se samo za nenovčane obveze; vjerovnik ima pravo izbora između ispunjenja obveze ili plaćanja ugovorne kaz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Zatezne kamate</a:t>
            </a:r>
            <a:r>
              <a:rPr b="0" lang="hr-HR" sz="2000" spc="-1" strike="noStrike">
                <a:solidFill>
                  <a:srgbClr val="ffffff"/>
                </a:solidFill>
                <a:latin typeface="Tahoma"/>
              </a:rPr>
              <a:t> – novčani iznos koji pored glavnice dužnik duguje vjerovniku ako zakasni s ispunjenjem novčane obveze; iznos zateznih kamata se određuje zakonom ili ugovorom; zabrana anatocizma</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Kapara</a:t>
            </a:r>
            <a:r>
              <a:rPr b="0" lang="hr-HR" sz="2000" spc="-1" strike="noStrike">
                <a:solidFill>
                  <a:srgbClr val="ffffff"/>
                </a:solidFill>
                <a:latin typeface="Tahoma"/>
              </a:rPr>
              <a:t> – novčani iznos ili neka druga zamjenjiva stvar koju u trenutku sklapanja ugovora jedan stranka daje drugoj u znak da je ugovor sklopljen i kao osiguranje njegovog ispunjenja</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rakteristike kapare – kapara čini konsenzualni ugovor realnim ugovorom; ako se ugovor ispuni, kapara se vraća ili uračunava u cijenu; ako je za neispunjenje kriva stranka koja je dala kaparu, ona je gubi, ili druga stranka može tražiti ispunjenje ugovora i naknadu štete, a ako je za neispunjenje odgovorna stranka koja je primila kaparu, druga stranka može tražiti ispunjenje ugovora i naknadu štete ili tražiti vraćanje dvostruke kapar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2:01:32Z</dcterms:created>
  <dc:creator>Dionis</dc:creator>
  <dc:description/>
  <dc:language>en-US</dc:language>
  <cp:lastModifiedBy>SAlebic</cp:lastModifiedBy>
  <dcterms:modified xsi:type="dcterms:W3CDTF">2007-04-19T06:04:53Z</dcterms:modified>
  <cp:revision>16</cp:revision>
  <dc:subject/>
  <dc:title>Trgovačko pravo - ugovori</dc:title>
</cp:coreProperties>
</file>