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D71-0BF1-4C5A-A208-B05573E5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3F7-0579-4917-83AD-8D0500F2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A9F-1026-4C6A-B51F-FDF846C3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6AE-D135-46EA-96CC-0BF81B6D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CC74-9280-4CBA-9C7B-D6782DD4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BCA0-A302-4245-B6A2-A0F17020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EF75-685B-4EF0-B1BA-2DC81D89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ED27-2221-4CF6-9DA9-B419C3C2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DB87-D9F4-4238-9ECB-2BEEBBBB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530F-FF57-4C2C-9604-9F673929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368C-5B91-4B61-B8F5-EDDB9923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A19-F1B8-49C2-BBA3-F5EF46EC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B8DF-CF9C-4B86-AF8C-558E8B21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D3DE-0EAD-42E8-B284-6BA47C75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677E-A859-4F11-AB93-D28C8C0C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C727-5FCA-4CD3-B9C0-EAC062FE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5D45-59B6-47DD-A62E-8A6CF8DC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434-2A68-41FC-8034-BA310270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21B-0E8C-4E5B-9685-E91F0259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344-247E-4A0D-8315-CB123B9B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1AF-513E-4949-83EA-E94CB850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52D-223A-41A8-9A02-9F8DCE13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A3A-86D8-4AD5-84CC-FE3DCF2B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BB5-CFFA-4E9F-B060-425C26B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3E1E-C207-4866-A331-1AC04C114E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44D9-D1D1-4EF8-B904-8C656E89A29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oničko društvo – pojam, dion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dluka o izdavanju dionic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- o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luku o izdavanju dionica donose glavna skupština ili osnivači društv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u skladu sa statutom; o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lukom o izdavanju dionica utvrđuju se: 1. tvrtka izdavatelja dionica, 2. ukupni iznos na koji se izdaju dionice i broj dionica, 3. nominalni iznosi dionica,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ko se izdaju dionice s nominalnim iznosom,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4. oznaka da dionice glase na donositelja ili na ime,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5. izdaju li se uz izdavanje isprava o dionici ili kao nematerijalizirani vrijednosni papiri,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 vrijeme upisa dionica, 7. način upisa dionica, 8. kod koga se, u kojem roku i na koji način uplaćuju dionice, 9. u kojemu se roku vraćaju uplaćena sredstva ako se odustane od izdavanja dionica, 10. vrsta i rod dionica, 11. redoslijed ostvarenja prvenstva iz povlaštenih dionica ako se one izdaju u više serij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p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d uvjetima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opisan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 Zakonom o tržištu vrijdnosnih papir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statutom društva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e određuj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d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ruštvo izdaj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sprave o dionicama ili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dionice u nematerijaliziranom obliku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materijalizirani vrijednosni papiri (čl. 124-133. ZTVP) - nematerijalizirani vrijednosni papir je elektronički zapis na računu vrijednosnih papira u kompjutorskom sustavu središnje depozitarne agencije kojim se njegov izdavatelj obvezuje vlasniku ispuniti obvezu sadržanu u nematerijaliziranom vrijednosnom papiru; u javnoj ponudi mogu se izdavati samo nematerijalizirani vrijednosni papiri; nematerijalizirani vrijednosni papiri koji unutar iste vrste i istog roda daju ista prava u pravnom prometu su zamjenjivi bez ograničenja, tako da bilo koja obveza može biti ispunjena prijenosom bilo kojeg vrijednosnog papira iste vrste i istog roda, pa vjerovnik ne može potraživati pojedinačno određene nematerijalizirane vrijednosne papir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 računima nematerijaliziranih vrijednosnih papira vode se podaci o vrstama, rodovima, količinama, stvarnim pravima i nosiocima tih prava, ograničenjima stvarnih prava, te povijesti upisa nematerijaliziranih vrijednosnih papira; račun nematerijaliziranih vrijednosnih papira može glasiti na jednu osobu, na više osoba koje mogu biti vlasnici, odnosno suvlasnici nematerijaliziranih vrijednosnih papira (zajednički račun) i na banku skrbnik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tni sastojci nematerijaliziranog vrijednosnog papira - iznimno od odredbi općih i posebnih zakona kojima se propisuju bitni sastojci pojedinih vrsta vrijednosnih papira, kada ti vrijednosni papiri imaju oblik nematerijaliziranoga vrijednosnog papira tada ne sadrže serijski i kontrolni broj, niti potpise ovlaš­tenih osob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me pripada pravo iz vrijednosnog papira - potraživanje iz nematerijaliziranog vrijednosnog papira pripada njegovom vlasniku; vlasnik nematerijaliziranog vrijednosnog papira je osoba na čije ime glasi račun vrijednosnih papira kod središnje depozitarne agencije na kojem je ubilježen nematerijalizirani vrijednosni papir; iznimno, kada banka skrbnik drži nematerijalizirane vrijednosne papire za tuđi račun, odvojeno od vlastite imovine, vlasnikom tih nematerijaliziranih vrijednosnih papira smatra se osoba za koju ih skrbnik drž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lasništvo nematerijaliziranih vrijednosnih papira - vlasništvo i prava koja proizlaze iz nematerijaliziranog vrijednosnog papira stječu se njegovim prijenosom s računa nematerijaliziranih vrijednosnih papira prenositelja, na račun nematerijaliziranih vrijednosnih papira stjecatelja, na temelju valjanog pravnog posla kojemu je cilj stjecanje vlasništva, odluke suda, odnosno druge nadležne vlasti, nasljeđivanja i na temelju zakona; vlasništvo i prava koja proizlaze iz nematerijaliziranog vrijednosnog papira stječu se u trenutku njegova upisa na račun nematerijaliziranih vrijednosnih papira stjecatelja ili banke skrbnika koja drži nematerijalizirani vrijednosni papir za račun stjecatelja; isto vrijedi i za  prestanak vlasništv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aložno pravo na nematerijaliziranim vrijednosnim papirima - založno pravo na nematerijaliziranom vrijednosnom papiru stječe se odgovarajućim upisom tog prava na računu nematerijaliziranih vrijednosnih papira na temelju valjanoga pravnog posla, sudske odluke ili zakona; neovisno o pravnom temelju prestanka, založno pravo na nematerijaliziranom vrijednosnom papiru prestaje u trenutku njegovog brisan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Prijeboj, namira i preknjižbe nematerijaliziranih vrijednosnih papira - prijenos vlasništva nematerijaliziranog vrijednosnog papira na temelju transakcije sklopljene na burzi ili uređenom javnom tržištu provodi se u postupku prijeboja i namire; stjecanje i prestanak vlasništva i drugih prava nad nematerijaliziranim vrijednosnim papirom na temelju valjanih pravnih poslova sklopljenih izvan burze i uređenoga javnog tržišta, na temelju odluke suda, odnosno druge nadležne vlasti, nasljeđivanja i na temelju zakona provodi se odgovarajućim upisima u elektroničke zapise u postupku preknjižb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Dostupnost podataka iz depozitorija - vlasnik nematerijaliziranih vrijednosnih papira,  skrbnička banka, izdavatelj nematerijaliziranih vrijednosnih papira, svaki dioničar na zahtjev, HANFA, pravosudna i upravna tijela na temelju zahtjeva i u okviru ovlaštenja, te treće osobe koje dokažu pravni interes imaju pravo uvida u podatke iz depozitorija nematerijaliziranih vrijednosnih papira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bveznost obavještavanja - Središnja depozitarna agencija je obvezna na način i u opsegu propisanom svojim pravilima obavještavati: izdavatelje nematerijaliziranih vrijednosnih papira o nematerijaliziranim vrijednosnim papirima koje su izdali i o vlasnicima tih vrijednosnih papira, vlasnike o stanju i promjenama na njihovom računu nematerijaliziranih vrijednosnih papira, članove o bitnim podacima o poslovima s nematerijaliziranim vrijednosnim papirima koje su poduzeli za svoj ili za račun nalogodavca; Središnja depozitarna agencija izrađuje i dostavlja HANFA-i mjesečno izvješće o radu u roku i sa sadržajem koje propisuje HANFA; izdavatelji nematerijaliziranih vrijednosnih papira obvezni su središnju depozitarnu agenciju izvijestiti o svim promjenama koje se odnose na nematerijalizirane vrijednosne papire i ostvarivanje prava iz vrijednosnih papi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Depozitorij nematerijaliziranih dionica - dioničarom koji ima dionicu u obliku nematerijaliziranoga vrijednosnog papira smatra onaj dioničar čija se takva dionica nalazi na njegovom računu nematerijaliziranih vrijednosnih papira u središnjoj depozitarnoj agenciji, niti je njihov prijenos moguće uvjetovati vinkulacij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am dioničkog društv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oničko društvo je trgovačko društvo u kojemu članovi (dioničari) sudjeluju s ulozima u temeljnom kapitalu podijeljenom na dionice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; 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oničko društvo može imati i samo jednog dioniča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snivač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- o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nivači društva su dioničari koji usvoje statut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; k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d sukcesivnog osnivanja osnivači su i dioničari čiji ulozi nisu u novcu, iako ne sudjeluju u usvajanju statuta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; 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atut društva mora usvojiti najmanje jedna osob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meljni kapital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- 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meljni kapital i dionice,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osim onih bez nominalnog iznosa moraju glasiti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na nominalne iznose izražene u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unama; najniži iznos temeljnog kapitala je 200.000,00 kun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ajniži nominalni iznos dionic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- društvo može izdati dionice s nominalnim iznosom ili dionice bez tog iznosa; nominalni iznos dionice ne može biti manji od 10,00 kun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štava je dionica čiji je nominalni iznos manji od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10,00 kun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(i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zdavatelji takvih dionica solidarno odgovaraju imateljima za štetu koja im je pričinjena izdavanjem dionic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); nominalni iznosi dionica koji su veći od 10,00 kuna članka moraju glasiti na iznose koji su višekratnici iznos od 10,00 kuna; dionice bez nominalnog iznosa sudjeluju u temeljnom kapitalu društva u jednakom dijelu; iznos temeljnog kapitala koji otpada na jednu dionicu ne može biti manji od 10,00 kuna; udio u temeljnom kapitalu određuje se kod dionica s nominalnim iznosom odnosom njihova nominalnog iznosa i nominalnog iznosa tog kapitala, a kod dionica bez nominalnog iznosa brojem dionica; 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onica je nedjelj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znos za koji se izdaju dionic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- 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onice se ne mogu izdati za iznos koji je manji od najnižeg iznosa temeljnoga kapital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onice se ne mogu izdati za iznos koji je niži od nominalnog iznosa,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odnosno iznosa temeljnog kapitala koji otpada na pojedinu dionicu bez nominalnog iznosa (al pari); 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pušteno je izdavanje dionica za viši iznos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od dijela temeljnog kapitala koji na njih otpada (super pari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on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44800" y="2068560"/>
            <a:ext cx="558792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Vrste dionica s obzirom na koga glase - d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onice mogu glasiti na donositelja ili na ime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; d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onica mora glasiti na ime ako se izdaje prije uplate punog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iznosa za koji se izdaje te kada se izdaje kao nematerijalizirani vrijednosni papir; i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znos djelomične uplate mora se naznačiti na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ispravi o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dionici,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 a ako se dionica izdaje kao nematerijalizirani vrijednosni papir, upisati na računu vrijednosnih papira u kompjutorskom sustavu Središnje depozitarne agencije na kome je dionica elektronički zapisana; u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statutu društva može se odrediti da se dioničaru na njegov zahtjev dionica koja glasi na ime zamijeni za dionicu koja glasi na donositelja ili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obratno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Privremenice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 - d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oničarima se prije potpune uplate dionica mogu izdati potvrde o udjelima (privremenice)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 koje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oraju glasiti na ime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; n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 privremenice primjenjuju se odredbe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o najnižem nominalnom iznosu dioni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Vrste dionica s obzirom na sadržaj prava - p</a:t>
            </a:r>
            <a:r>
              <a:rPr b="0" lang="en-GB" sz="1900" spc="-1" strike="noStrike">
                <a:solidFill>
                  <a:srgbClr val="ffffff"/>
                </a:solidFill>
                <a:latin typeface="Tahoma"/>
              </a:rPr>
              <a:t>o sadržaju prava koja daju dionice mogu biti redovne i povlaštene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 dionice; r</a:t>
            </a:r>
            <a:r>
              <a:rPr b="0" lang="en-GB" sz="1900" spc="-1" strike="noStrike">
                <a:solidFill>
                  <a:srgbClr val="ffffff"/>
                </a:solidFill>
                <a:latin typeface="Tahoma"/>
              </a:rPr>
              <a:t>edovne dionice su dionice koje imatelju daju: 1. pravo glasa u glavnoj skupštini društva, 2. pravo na isplatu dijela dobiti društva (dividenda), 3. pravo na isplatu dijela ostatka likvidacijske, odnosno stečajne mase društva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; p</a:t>
            </a:r>
            <a:r>
              <a:rPr b="0" lang="en-GB" sz="1900" spc="-1" strike="noStrike">
                <a:solidFill>
                  <a:srgbClr val="ffffff"/>
                </a:solidFill>
                <a:latin typeface="Tahoma"/>
              </a:rPr>
              <a:t>ovlaštene dionice su dionice koje imatelju daju neka povlaštena prava, npr. pravo na dividendu u unaprijed utvrđenom novčanom iznosu ili u postotku od nominalnog iznosa dionice, pravo prvenstva pri isplati dividende, isplati ostatka likvidacijske, odnosno stečajne mase i druga prava u skladu sa zakonom i statutom društva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Tahoma"/>
              </a:rPr>
              <a:t>Povlaštena dionica može biti kumulativna i participativna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 dionica; ku</a:t>
            </a:r>
            <a:r>
              <a:rPr b="0" lang="en-GB" sz="1900" spc="-1" strike="noStrike">
                <a:solidFill>
                  <a:srgbClr val="ffffff"/>
                </a:solidFill>
                <a:latin typeface="Tahoma"/>
              </a:rPr>
              <a:t>mulativna povlaštena dionica daje imatelju dionice, u skladu s odlukom o izdavanju dionica, pravo naplate kumuliranih neisplaćenih dividendi prije isplate dividendi imateljima redovnih dionica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; p</a:t>
            </a:r>
            <a:r>
              <a:rPr b="0" lang="en-GB" sz="1900" spc="-1" strike="noStrike">
                <a:solidFill>
                  <a:srgbClr val="ffffff"/>
                </a:solidFill>
                <a:latin typeface="Tahoma"/>
              </a:rPr>
              <a:t>articipativna povlaštena dionica daje imatelju dionice, u skladu s odlukom o izdavanju dionica, pravo da pored određene dividende naplati i dividendu koja pripada imateljima redovnih dionica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odovi dionic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- 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onice koje daju ista prava čine rod dionic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ravo glas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- 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vaka dionica daje pravo glasa u skupštini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b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z prava glasa mogu se izdati samo povlaštene dionic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ali u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kupni iznos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temeljnog kapitala koji se odnosi na takve dionice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 može preći polovinu iznosa temeljnog kapitala društv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z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branjeno je izdavanje dionica koje za isti iznos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temeljnog kapitala koji se na njih odnosi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daju različito pravo glasa u skupštini društv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astojci dionic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- 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onica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koja nije izdana u nematerijaliziranom obliku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mora imati sljedeće sastojke: 1. oznaku da je dionica i njezin nominalni iznos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ako društvo izdaje dionice s nominalnim iznoso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2. oznaku vrste i roda dionice,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3. tvrtku i sjedište izdavatelja dionice, 4. tvrtku, odnosno ime osobe na koju glasi dionica na ime ili naznaku da glasi na donositelja, 5. datum izdavanja i broj dionice,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6. faksimil potpisa statutom ovlaštenih osoba izdavatelja dionic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; dionice izdane u nematerijaliziranom obliku ne sadrže broj ni faksimil potpisa ovlaštene osobe izdavatel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ijelovi isprave o dionic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- i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rava o dionici sastoji se od tri dijel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lašt dionice mora sadržavati sve sastojk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opisane ZTD-om za dionicu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kuponski arak za naplatu dividend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aki kupon za naplatu dividende mora sadržavati ove sastojke: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redni broj kupona za naplatu dividende,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b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roj dionice na koju se kupon odnosi na temelju koje se isplaćuje dividend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 c)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vrtku izdavatelja dionic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 d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faksimil potpisa statutom ovlaštenih osoba izdavatelja dionic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alon s kojim imatelj dionice ostvaruje pravo na nove kuponske arke ako su iskorišteni svi kuponi za isplatu dividend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; 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lon mora sadržavati broj dionice na koju se odnos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16360" y="620640"/>
            <a:ext cx="381636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2:49:41Z</dcterms:created>
  <dc:creator>Dionis</dc:creator>
  <dc:description/>
  <dc:language>en-US</dc:language>
  <cp:lastModifiedBy>SAlebic</cp:lastModifiedBy>
  <dcterms:modified xsi:type="dcterms:W3CDTF">2007-04-19T06:48:23Z</dcterms:modified>
  <cp:revision>6</cp:revision>
  <dc:subject/>
  <dc:title>Dioničko društvo</dc:title>
</cp:coreProperties>
</file>