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F888-E670-4C69-95A6-F0C008D1C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8593-336A-43D3-B9D1-F4A310379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752C-2C4C-44B3-9C7A-62B2C9DBF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57E0-00D3-4DDB-836F-49451748C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9332E-DCA3-4530-BA2C-2938BF43B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AACD1-D1E0-4BFB-B00D-6EEDE012E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AD01E-4332-4133-A1BE-4EF5477C5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E77AD-4ED5-4267-A95A-4C3DC1F22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F7EFF-AFC0-4DE5-BF23-B1E62569E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3FB43-FEED-4909-B381-4D2438034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A2A12-B688-4240-BF35-45077485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FFCE-97B6-49EF-91F2-6A3E88D95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1FD3E-21A3-407F-99D0-3BF609C1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C5183-99E4-4FC6-A586-84704C459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C6B0F-5D05-450D-A705-A254B4DAD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ED448-6C66-42B4-BD43-90517C4F8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509D5-A2C6-4F65-8A21-459C126AF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A190-F92C-4143-8371-D7BF65E64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64B9-1BD3-448C-A310-64C6C42B9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5ECB-135A-4007-A5F5-91AEFD3C0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5CE0-7871-4858-8FD1-9B7608088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0D6C-02E6-4B6B-80CB-6EFBDBD1A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DEAA-E140-4A61-A7D4-AB034985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64B1-E3A6-421D-A00A-2ECA01C13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58045-57A6-443D-B16B-D06030C5C8E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1D31E-5C65-4744-8DAE-5B71AAAB7D9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Osnivanje dioničkog društv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ukcesivno osnivanje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jam (čl. 195. ZTD) – osnivači usvajaju statut, preuzimaju dio dionica i upućuju javni poziv (prospekt) za upis dion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itni elementi javnog poziva za upis dionica (čl. 196. ZTD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adržaj i postupak izdavanja prospekta detaljnije uređeni Zakonom o tržištu vrijednosnih papira, nadzor nad postupkom provodi Agencija za nadzor financijskih uslug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pisivanje i uplata dionica, izvješće o osnivanju i revizija osnivanja identični kao i kod simultanog osnivanja (čl. 197. ZTD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zdavanje upisnica koje potpisuje upisnik o preuzimanju obveze uplate dionica (čl. 198. ZTD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uspjeli upis (čl. 199. ZTD) – rok za upis dionica ne može biti dulji od 3 mjeseca; ako u tom roku sve dionice nisu upisane i uplaćene, osnivači mogu sami u daljnjem roku od 15 dana upisati ili uplatiti dionice; ako to ne učine, osnivanje nije uspjelo, a upisnike treba pozvati da podignu uplaćene izno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aspoređivanje upisanih dionica (čl. 201. ZTD) – u slučaju uspjelog upisa dionica, osnivači ih moraju rasporediti u roku od 15 dana upisnici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plate dionica pripadaju društvu, a njima uprava može raspolagati nakon upisa društva u sudski registar (čl. 202. ZTD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državanje osnivačke skupštine (čl. 203. ZTD) – rok od 2 mjeseca od isteka roka za upis dionica; ako se ona ne održi u propisanom roku, smatra se da osnivanje nije uspjelo; osnivačkoj skupštini prisustvuje javni bilježnik koji vodi zapisnik; osnivačka skupština utvrđuje da li su upisane, tj. preuzete i raspoređene sve dionice te uneseni ulozi, utvrđuje troškove osnivanja na teret društva, te imenuje tijela društv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vaka dionica daje pravo na jedan glas, a odluke se donose većinom glasova, kvorum od većine svih dionica (čl. 208. ZTD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ravni odnosi između društva i dioničar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ačelo jednakog položaja svih dioničara (čl. 211. ZTD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meljna obveza dioničara je uplata iznosa na koji je izdana dionica ili da prenesu stvar ili pravo na društvo (čl. 212. ZTD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 slučaju zakašnjenja s uplatom, dioničar plaća društvu zakonsku zateznu kamatu (moguće je odrediti kamatnu stopu i statutom, kao i plaćanje ugovorne kazne)(čl. 213. ZTD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vanje naknadnog roka za uplatu dionica uz prijetnju oduzimanja dionica i uplaćenih iznosa (čl. 214. ZTD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dgovornost prednika isključenog dioničara koji je upisan u registar dionica da plati preostali dio iznosa (čl. 215. ZTD), ako se to ne učini dionica se prodaje na burz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Zabrana upisa vlastitih dionica (čl. 219. ZTD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potreba dobiti društva (čl. 220. ZTD) – zakonom propisani redoslijed ostvarene dobiti društv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. za pokriće gubitka prenesenog iz ranijih godina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. za unos u zakonske rezerve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. za unos u rezerve za vlastite dionice, ako ih je društvo steklo ili ih namjerava steći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. za unos u statutarne rezerve, ako ih društvo im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nos dodatnih iznosa dobiti u rezerve nakon utvrđenja godišnjih financijskih izvješća od strane uprave i nadzornog odbora (najviše do ½ iznosa dobiti), to se određuje statutom društva te se unos vrši dok rezerve ne dosegnu visinu od ½ temeljnog kapitala društva; to može odlučiti i gl. skupština ako ona utvrđuje godišnja financijska izvješć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l. skupština pri donošenju odluke o uporabi dobiti može odrediti i dodatne uplate u rezerv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Pravo dioničara na udio u dobiti nakon pokrića gubitaka i popunjavanja rezervi društv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Plaćanje predujma dividende (čl. 221. ZTD) – statutom se može ovlastiti uprava da isplati dioničarima predujam na ime dividende i uz suglasnost nadzornog odbor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Zakonske rezerve (čl. 222. ZTD) – u njih se mora unijeti 5 % dobiti koja je umanjena za gubitke iz prethodne godine, sve dok te rezerve zajedno s kapitalnim rezervama ne dosegnu visinu od 5 % temeljnog kapitala društva ili veći iznos određen statutom, zakonske rezerve se upotrebljavaj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1. za pokrivanje gubitka iz tekuće godine, ako se on ne pokrije iz dobiti prethodne godine niti se to može učiniti korištenjem drugih rezervi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2. za pokrivanje gubitka iz prethodne godine, ako se on ne pokrije iz dobiti tekuće godine niti se to može učiniti korištenjem drugih rezervi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Podjela dobiti (čl. 223. ZTD) – obavlja se razmjerno veličini udjela pojedinih dioničara u temeljnom kapitalu društv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Registar dionica (čl. 226. ZTD) – dioničko društvo ga vodi i u njega upisuje podatke o dionicama koje glase na ime i o njihovim imateljima, prema društvu se dioničarima smatraju samo one osobe koje su upisane u registar dion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Prijenos dionica koje glase na ime (čl. 227. ZTD) – prenose se i indosamentom, statutom je moguće predvidjeti i vinkulaciju za prijenos dionica u materijalnom obliku koje glase na ime, suglasnost daje uprav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Više ovlaštenika na dionici (čl. 228. ZTD) – svoja prava ostvaruju putem zajedničkog zastupnik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Amortizacija mjenice (čl. 230. ZTD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Vlastite dionic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Ograničenja u pogledu stjecanja vlastitih dionica od strane društve jer se time ugrožava temeljni kapital društva (svrha stjecanja, iznos, mirovanje prava, obveza otuđenja vlastitih dionica u određenim rokovima)(čl. 233. ZTD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Svrha stjecanj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. ako je stjecanje potrebno da bi se od društva otklonila teška šteta koja neposredno predstoji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2. ako dionice treba ponuditi da ih steknu zaposleni u društvu ili u nekome od društava koje je s njime povezano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3. ako se dionice stječu zato da bi se po odredbama ovoga Zakona dioničarima dala otpremnina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4. ako je stjecanje nenaplatno ili ako stjecanjem financijska institucija kupuje dionice komisiono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5. na temelju univerzalnog pravnog sljedništva ili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6. na temelju odluke glavne skupštine o povlačenju dionica po propisima o smanjenju temeljnoga kapitala društva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7. na temelju ovlasti glavne skupštine za stjecanje dionica koja vrijedi najviše 18 mjeseci i određuje najnižu i najvišu cijenu koja se može platiti za te dionice te udio temeljnog kapitala koji se odnosi na te dionice s time da ne može prijeći deseti dio spomenutog kapitala.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Na stečene dionice zajedno s postojećim vlastitim dionicama društva ne smije otpadati više od 10 % temeljnog kapitala društva te uz obvezu stvaranja rezervi za takve dioni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Uprava mora izvijestiti gl. skupštinu o razlozima i količini stjecanja vlastitih dionic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Ništavost pravnih poslova kojima društvo daje predujam, zajam ili osiguranje za stjecanje vlastitih dionica (čl. 234. ZTD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Mirovanje prava iz vlastitih dionica (čl. 235. ZTD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veza otuđenja i povlačenja vlastitih dionica (čl. 236. ZTD) – obveza otuđenja u roku od 1 godine ako su stečene protivno zakonu, a ako premašuju dopušteni iznos, višak u roku od 3 godine; ako se u navedenim rokovima ne otuđe, društvo ih mora povuć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Osnovna radnja pri osnivanju dioničkog društva je usvajanje statuta društva (čl. 173 ZTD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Izjava osnivača o usvajanju statuta dioničkog društva se daje u obliku javnobilježničke isprave; bitni elementi te isprave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1. osnivači i njihova prebivališta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ako društvo izdaje dionice s nominalnim iznosima ti iznosi, u protivnom broj dionica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, iznos za koji se izdaju i, ako se izdaju dionice više rodova, rod dionica koje preuzima svaki dioničar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3. uplaćeni iznos temeljnoga kapitala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4. izjava osnivača da prihvaćaju statut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Bitni elementi statuta dioničkog društva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1. tvrtk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i sjedišt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društva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2. predmet poslovanja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3 iznos temeljnoga kapitala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4. 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podjela temeljnog kapitala na dionice s nominalnim iznosima ili na one bez tog iznosa, kod dionica s nominalnim iznosima o tim iznosima i ukupnom broju dionica svakog nominalnog iznosa a kod dionica bez tog iznosa samo o njihovu broju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ko se izdaju dionice više rodova, rodu dionica i broju dionica svakoga roda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5. 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podaci o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tome izdaju li se dionice koje glase na donositelja ili koje glase na ime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6. broju članova uprave i nadzornog odbora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7. načinu i obliku objave priopćenja društva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8. vremenu trajanja i prestanku društva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Statutom se mogu urediti i druga pitanja, osim ako to ne isključuje Zakon, odnosno može se odstupiti od zakonskih rješenja, osim ako su ona kogentne narav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Podatke i priopćenja društva objavljuju se u “Narodnim novinama”, a statutom se mogu odrediti i druga javna glasila te elektronički informacijski mediji (Internet)(čl. 174. ZTD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Posebne pogodnosti i troškovi i naknade osnivanja koje se daju pojedinim dioničarima moraju se navesti u statutu dioničkog društva (čl. 175. ZTD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Ako ulog čine stvari i prava, potrebno ih je navesti u statutu, osobu od koje se stječu te stvari i prava i nominalni iznos, odnosno broj dionica koji se daje za ta prava i stvari (čl. 176. ZTD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rste osnivanja dioničkog društva: simultano i sukcesivno osnivan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snovna razlika se očituje u trenutku preuzimanja dionica društva koje se osni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imultano osnivanj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ojam (čl. 177. ZTD) – osnivači preuzimaju sve dionice društva, usvajaju i potpisuju statut i izjavu o osnivanju društv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euzimanje dionica  (čl. 178. ZTD) – izjava dana kod javnog bilježnika o osnivanju i preuzimanju obveze uplate dionica (određenje nominalnog iznosa/broja dionica, rodu dionica, da li glase na ime ili na donositelja, te kada će se i kako uplatiti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plata dionica (čl. 179. ZTD) – uplata u novcu ili ulaganjem stvari i prava na račun dioničkog društva; prije upisa društva u registar, potrebno je uplatiti najmanje ¼ iznosa dionice, ako se radi o ulaganju stvari i prava, oni se moraju unijeti u cjelin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menovanje prvog nadzornog odbora i revizora za prvu poslovnu godinu, čiji mandat traje do održavanja prve redovite gl. skupštine društva (čl. 180. ZTD); nadzorni odbor imenuje prvu upravu društv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Obveza osnivača da izrade pisano izvješće o osnivanju (čl. 181. ZTD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Obveza uprave i nadzornog odbora da provjere provedeno osnivanje i obveza revizora da obavi reviziju (imenuje ga sud) u slučaju (čl. 182. ZTD)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1. ako je neki član uprave ili nadzornog odbora ujedno i osnivač društva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2. ako su u osnivanju preuzete dionice za račun nekoga člana up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ve ili nadzornog odbora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3. ako je neki član up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ve ili nadzornog odbora u osnivanju dobio posebnu pogodnost ili je za osnivanje, odnosno za pripremu osnivanja dobio obeštećenje ili naknadu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4. ako je osnivanje društva bilo ulaganjem ili preuzimanjem stvari, odnosno prava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U slučaju nesuglasnosti između osnivača i revizora osnivanja, odlučuje sud (čl. 184. ZTD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ijavu za upis društva podnose svi članovi uprave i nadzornog odbora (čl. 186. ZTD); minimalni sadržaj prijave (čl. 187. ZTD); sud ispituje da li je društvo uredno osnovano i da li je prijava potpuna (čl. 188. ZTD), sud će odbiti upis u slučaju ako revizor osnivanja dade negativno mišljenje ili ako statut nema bitne elemente, ograničava ili smanjuje prava vjerovnika, te sadrži odredbe koje ga čine ništavi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ko društvo ima samo jednog dioničara, upisuju se u registar i podaci o njemu (čl. 189.a ZTD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dgovornost osnivača (čl. 191. ZTD) – solidarna odgovornost osnivača prema društvu zbog nedostataka i pogreški u postupku osnivanja, pojedini osnivač se može osloboditi odgovornosti ako nije znao ili nije mogao znati za te nedostatk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dgovornost trećih osoba (čl. 192. ZTD) te članova uprave i nadzornog odbora (čl. 193. ZTD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Zabrana izdavanja dionica i prijenosa prava sudjelovanja u društvu prije upisa društva u sudski registar (čl. 194. ZTD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stavak osnivanja društva (čl. 194.a ZTD) – obveza provedbe posebnog postupka u slučaju naknadnog sklapanja ugovora s osnivačima i dioničarima kojima društvo stječe stvari i prava (utvrđenje roka sklapanja ugovora (2. godine od upisa) i vrijednosti stvari i prava koje se stječu (1/10 temeljnog kapitala); time se sprečava izbjegavanje strogih propisa o reviziji pri osnivanju društva ulaganjem stvari i prava (suglasnost gl. skupštine i upis ugovora u sudski registar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7T17:54:49Z</dcterms:created>
  <dc:creator>Info</dc:creator>
  <dc:description/>
  <dc:language>en-US</dc:language>
  <cp:lastModifiedBy>SAlebic</cp:lastModifiedBy>
  <dcterms:modified xsi:type="dcterms:W3CDTF">2007-04-19T06:29:56Z</dcterms:modified>
  <cp:revision>5</cp:revision>
  <dc:subject/>
  <dc:title>Osnivanje dioničkog društva</dc:title>
</cp:coreProperties>
</file>