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EF1D1-ED52-4031-A6E5-0745AD420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95376-E77E-4CD5-8668-DBB3A514D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DE132-346E-45E3-A971-03BDCE413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263DB-C1EF-417B-B076-C3C90906D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6A2C7-84DE-4D62-83F8-9FAB86C70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172CA-5E0C-4FF8-8D46-D34B8C930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2E9D5-23FA-48FB-9C16-6B86CF408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98827-346D-48A9-8579-6F58A989F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2D3A5-C7B0-4A20-8C51-61F58A97F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D5A41-98FA-489C-B8F6-F7292F3A9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B87F8-8535-4F01-B5BE-201620BD5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5F4EF-1C1B-482E-88B3-B371FE33B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AA764-4489-4946-96D3-36C158DF6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B256C-ACD1-440A-87C1-914E1CEAD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B4B93-96CC-432D-BC1B-5A5FA9E06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608FEC-1D05-44EA-B94C-2F7AE4FB61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82475A-2E56-4FC7-882A-3CFB1C0655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8F51F-D207-4E97-BEAE-27DEABAEE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7FA6A-0032-48F7-BC00-64EBDE656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11523-FE45-4D87-B61E-404EB9560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9D9C4-C9E0-49AE-BD28-C94CF6EEA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704E4-9482-468E-9766-2E954102B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BDE2D-5F18-47E3-8A44-37B447350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F2FBC-BA9A-4B22-9B42-3514002C0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2DA3-6987-40D4-8469-DB10ABF9971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C1BE-5BB5-4F91-B9D2-634B3C1D6F1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zmjene statuta i povećanje temeljnog kapitala dioničkog društva</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avo prvenstva (čl. 308. ZTD) – svaki postojeći dioničar ima pravo prvenstva pri upisu novih dionica ako postavi takav zahtjev, rok za postavljanje takvog zahtjeva iznosi najmanje 14 dana; na taj način postojeći dioničari stječu dionice pod povoljnijim uvjetima te čuvaju svoje postojeće udjele u temeljnom kapitalu društva; pravo na upis novih dionica može se dati trećim osobama samo ako je očuvano pravo postojećih dioničara na upis; u glasilu društva se objavljuje iznos za koje se dionice izdaju i rok za postavljanje zahtjeva za ostvarivanje prava prvenstva; pravo prvenstva se može isključiti u cijelosti ili djelomično u odluci o povećanju temeljnog kapitala i to ¾ većinom (statutom se može propisati i veća većina i ispunjenje dodatnih pretpostavki), uz uvjet da je to isključenje uredno objavljeno; uprava podnosi gl. skupštini izvješće o razlozima za isključenje prava prvenstva; isključenjem prava prvenstva ne smatra se slučaj kada nove dionice preuzima financijska institucija uz obvezu da ih ponudi dioničarim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java za upis povećanja kapitala i konstitutivnost upisa, te njegova objava (čl. 309., 310. i 311. ZTD)</a:t>
            </a:r>
            <a:endParaRPr b="0" lang="en-US" sz="2800" spc="-1" strike="noStrike">
              <a:solidFill>
                <a:srgbClr val="ffffff"/>
              </a:solidFill>
              <a:latin typeface="Tahoma"/>
            </a:endParaRPr>
          </a:p>
          <a:p>
            <a:pPr marL="305280" indent="-3052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je upisa povećanja kapitala u sudski registar dioničari ne mogu prenositi svoja prava iz novih dionica, a dioničko društvo izdavati dionice ni privremenice (one su ništave ako su izdane prije toga), čime se sprečavaju moguće manipulacije, izdatnici takvih prijevremenih ništavih dionica je njihova solidarna odgovornost za štetu koja je nastala imateljima takvih dionica i privremenica (čl. 312. ZTD)</a:t>
            </a:r>
            <a:endParaRPr b="0" lang="en-US" sz="2800" spc="-1" strike="noStrike">
              <a:solidFill>
                <a:srgbClr val="ffffff"/>
              </a:solidFill>
              <a:latin typeface="Tahom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Uvjetno povećanje temeljnog kapitala (čl. 313-322. ZTD)</a:t>
            </a:r>
            <a:endParaRPr b="1" lang="en-US" sz="40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dlika uvjetnog povećanja kapitala je ta da se njime ne utvrđuje unaprijed iznos novih dionica koje treba izdati, budući da to ovisi o tome da li svoje pravo na upis tih uvjetnih dionica žele ostvariti osobe kojima su namijenjene te dionice</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avna skupština može donijeti odluku o uvjetnom povećanju kapitala izdavanjem novih dionica: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da bi se zamjenjive obveznice pretvorile u dionice, il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da bi se ostvarilo pravo prvenstva na upis novih dionica koje daje društvo (čl. 313. ZTD).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dluka o uvjetnom povećanju kapitala se može donijeti zbog:</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1. ostvarivanja prava vjerovnika društva na zamjenu zamjenjivih obveznica u dionice i prava prvenstva pri upisu novih dionica društva,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2. pripreme za </a:t>
            </a:r>
            <a:r>
              <a:rPr b="0" lang="hr-HR" sz="2000" spc="-1" strike="noStrike">
                <a:solidFill>
                  <a:srgbClr val="ffffff"/>
                </a:solidFill>
                <a:latin typeface="Tahoma"/>
              </a:rPr>
              <a:t>pripajanje</a:t>
            </a:r>
            <a:r>
              <a:rPr b="0" lang="en-GB" sz="2000" spc="-1" strike="noStrike">
                <a:solidFill>
                  <a:srgbClr val="ffffff"/>
                </a:solidFill>
                <a:latin typeface="Tahoma"/>
              </a:rPr>
              <a:t> više društava,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3. </a:t>
            </a:r>
            <a:r>
              <a:rPr b="0" lang="hr-HR" sz="2000" spc="-1" strike="noStrike">
                <a:solidFill>
                  <a:srgbClr val="ffffff"/>
                </a:solidFill>
                <a:latin typeface="Tahoma"/>
              </a:rPr>
              <a:t>ostvarenja prava na dionice zaposlenika i članova uprave društva ili nekog s njim povezanog društva na temelju odluke glavne skupštin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4. davanja dionica vladajućeg društva dioničarima odnosno članovima ovisnoga društva ako je sklopljen ugovor o vođenju poslova društva ili ugovor o prijenosu dobiti ili dionica glavnoga društva dioničarima odnosno članovima priključenog društ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ominalni iznos uvjetnog kapitala ne smije prijeći polovicu, a u slučaju ostvarenja prava zaposlenika i članova uprave društva na dionice 10 %  temeljnog kapitala društva u trenutku donošenja odluke o uvjetnom povećanju kapitala društva</a:t>
            </a:r>
            <a:r>
              <a:rPr b="0" lang="en-GB" sz="2000" spc="-1" strike="noStrike">
                <a:solidFill>
                  <a:srgbClr val="ffffff"/>
                </a:solidFill>
                <a:latin typeface="Tahoma"/>
              </a:rPr>
              <a:t> </a:t>
            </a: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ko je odluka gl. skupštine protivna ovoj odredbi, ona je ništava; pravo prvenstva na upis novih dionica pored postojećih dioničara imaju i vjerovnici koji imaju zamjenjive obveznice</a:t>
            </a: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dluka o uvjetnom povećanju kapitala društva donosi se ¾ većinom, a statutom je moguće odrediti i veću većinu i ispunjenje dodatnih pretpostavki; u odluci se mora naznačiti svrha, osobe koje imaju pravo prvenstva pri upisu, iznos novih dionica ili mjerila za njegovo određenje te posebnosti vezane za zaposlenike i članove uprave društva kao ovlaštenike kod uvjetnog povećanja kapitala društva (čl. 314. ZT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guće davanje uloga u stvarima i pravima (čl. 315. ZTD), ulaganjem prava ne smatra se davanje obveznice u zamjenu za dionice, ovo se ne primjenjuje u slučaju ako se uvjetno povećanje temeljnog kapitala provodi zbog zaposlenika i članova uprave društva, odredbe su slične odredbama kod povećanja temeljnog kapitala ulozima</a:t>
            </a:r>
            <a:endParaRPr b="0" lang="en-US" sz="2400" spc="-1" strike="noStrike">
              <a:solidFill>
                <a:srgbClr val="ffffff"/>
              </a:solidFill>
              <a:latin typeface="Tahoma"/>
            </a:endParaRPr>
          </a:p>
          <a:p>
            <a:pPr marL="312120" indent="-3121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java i objava upisa odluke o uvjetnom povećanju kapitala u sudski registar (čl. 316. i 317. ZTD)</a:t>
            </a:r>
            <a:endParaRPr b="0" lang="en-US" sz="2400" spc="-1" strike="noStrike">
              <a:solidFill>
                <a:srgbClr val="ffffff"/>
              </a:solidFill>
              <a:latin typeface="Tahoma"/>
            </a:endParaRPr>
          </a:p>
          <a:p>
            <a:pPr marL="312120" indent="-3121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ištavost dionica koje su izdane prije upisa odluke o uvjetnom povećanju kapitala društva u sudski registar (čl. 318. ZTD)</a:t>
            </a:r>
            <a:endParaRPr b="0" lang="en-US" sz="2400" spc="-1" strike="noStrike">
              <a:solidFill>
                <a:srgbClr val="ffffff"/>
              </a:solidFill>
              <a:latin typeface="Tahoma"/>
            </a:endParaRPr>
          </a:p>
          <a:p>
            <a:pPr marL="312120" indent="-3121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avo upisa se ostvaruje pisanom izjavom (čl. 319. ZT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rava može izdati uvjetne dionice samo zbog svrhe određene u odluci gl. skupštine i nakon što se uplati puni iznos koji proizlazi iz odluke (čl. 320. ZTD) </a:t>
            </a:r>
            <a:endParaRPr b="0" lang="en-US" sz="3200" spc="-1" strike="noStrike">
              <a:solidFill>
                <a:srgbClr val="ffffff"/>
              </a:solidFill>
              <a:latin typeface="Tahoma"/>
            </a:endParaRPr>
          </a:p>
          <a:p>
            <a:pPr marL="305280" indent="-3052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meljni kapital je povećan izdavanjem dionica (čl. 321. ZTD)</a:t>
            </a:r>
            <a:endParaRPr b="0" lang="en-US" sz="3200" spc="-1" strike="noStrike">
              <a:solidFill>
                <a:srgbClr val="ffffff"/>
              </a:solidFill>
              <a:latin typeface="Tahoma"/>
            </a:endParaRPr>
          </a:p>
          <a:p>
            <a:pPr marL="305280" indent="-3052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veza prijave izdanih uvjetnih dionica po okončanju poslovne godine registarskom sudu (čl. 322. ZTD) </a:t>
            </a:r>
            <a:endParaRPr b="0" lang="en-US" sz="3200" spc="-1" strike="noStrike">
              <a:solidFill>
                <a:srgbClr val="ffffff"/>
              </a:solidFill>
              <a:latin typeface="Tahoma"/>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dobreni temeljni kapital (čl. 323-327. ZTD)</a:t>
            </a: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dobreni temeljni kapital predstavlja pojednostavljeni postupak povećanja temeljnog kapitala društva u odnosu na redovito povećanje, gdje uprava donosi samostalno odluku o povećanju temeljnog kapitala; ono omogućava brzu reakciju uprave na prilike koje se javljaju u poslovanju; ova ovlast uprave je vremenski i kvantitativno (najviši iznos odobrenog kapitala) ograničena te uprava mora pribaviti suglasnost nadzornog odbora za izdavanje novih dionica</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tutom se može ovlastiti uprava da u roku od najviše 5 godina od upisa društva u sudski registar izdavanjem novih dionica uz uplate uloga poveća temeljni kapital do određenog nominalnog iznosa (čl. 323. ZTD); ovlast upravi se može dati i izmjenom statuta za vrijeme od najviše 5 godina od upisa izmjene statuta u sudski registar, o čemu odluku donosi gl. skupština ¾ većinom (statutom je moguće odrediti i veću većinu te ispunjenje dodatnih pretpostavk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minalni iznos odobrenog kapitala ne smije preći polovicu nominalnog iznosa temeljnog kapitala društva u vrijeme davanja ovlasti, a nove dionice se mogu izdati samo uz suglasnost nadzornog odbora; statutom se može odrediti da se nove dionice izdaju zaposlenima (naknadna mogućnost da i zaposlenici postanu dioničari društva u kojem rade)</a:t>
            </a:r>
            <a:endParaRPr b="0" lang="en-US" sz="2000" spc="-1" strike="noStrike">
              <a:solidFill>
                <a:srgbClr val="ffffff"/>
              </a:solidFill>
              <a:latin typeface="Tahoma"/>
            </a:endParaRPr>
          </a:p>
          <a:p>
            <a:pPr marL="305280" indent="-3052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dgovarajuća primjena odredbi o upisu, pravu prvenstva na nove dionice, prijavi i objavi upisa odluke o odobrenom kapitalu u sudski registar, te zabrani izdavanja prijevremenih dionica propisanih kod redovitog povećanja temeljnog kapitala društva (čl. 324. ZTD)</a:t>
            </a:r>
            <a:endParaRPr b="0" lang="en-US" sz="2000" spc="-1" strike="noStrike">
              <a:solidFill>
                <a:srgbClr val="ffffff"/>
              </a:solidFill>
              <a:latin typeface="Tahoma"/>
            </a:endParaRPr>
          </a:p>
          <a:p>
            <a:pPr marL="305280" indent="-3052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rava odlučuje o sadržaju prava iz dionica i o uvjetima za izdavanje dionica i isključenju prava prvenstva, ako to nije određeno u ovlasti za povećanje temeljnog kapitala, uz suglasnost nadzornog odbora; mogućnost izdavanja novih povlaštenih dionica bez prava glasa na temelju ovlasti za odobreni temeljni kapital, ako je uprava na to ovlaštena statutom (čl. 325. ZTD)</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ve dionice se mogu izdavati za uloge u stvarima ili pravima samo ako je to predviđeno u ovlasti uprave (čl. 326. ZTD)</a:t>
            </a:r>
            <a:endParaRPr b="0" lang="en-US" sz="3200" spc="-1" strike="noStrike">
              <a:solidFill>
                <a:srgbClr val="ffffff"/>
              </a:solidFill>
              <a:latin typeface="Tahoma"/>
            </a:endParaRPr>
          </a:p>
          <a:p>
            <a:pPr marL="305280" indent="-3052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 slučaju ako su prije upisa društva u sudski registar sklopljeni ugovori o unosu stvari ili prava za odobreni temeljni kapital, statutom se moraju utvrditi uvjeti za izdavanje dionica za takve udjele (čl. 327. ZT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zmjene statuta društva</a:t>
            </a: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dredbe statuta mogu se mijenjati samo na temelju odluke glavne skupštine (čl. 301. ZTD), gl. skupština može ovlastiti nadzorni odbor da uskladi tekst statuta</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dluka o izmjeni statuta donosi se ¾ većinom, a statutom je moguće odrediti i veću većinu i dodatne pretpostavke</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o se izmjenom statuta zadire u postojeće odnose između različitih rodova dionica, potrebna je posebna suglasnost onih dioničara koji imaju rod dionica na čiju štetu ide izmjena statuta, oni svoju suglasnost donose na posebnoj skupštini ili u odvojenom glasovanju na gl. skupštin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Povećanje temeljnog kapitala iz sredstava društva (čl. 328-340. ZTD)</a:t>
            </a:r>
            <a:endParaRPr b="1" lang="en-US" sz="36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di se o nominalnom povećanju temeljnog kapitala društva bez dodatnih uplata društvu, već se vlastiti izvori sredstava društva pretvaraju u temeljni kapital (tzv. gratis dionice)</a:t>
            </a: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dluku o pretvorbi kapitalne dobiti, rezervi i zadržane dobiti u temeljni kapital društva donosi glavna skupština ¾ većinom (statutom je moguće predvidjeti i drugačiju većinu, kao i ispunjenje dodatnih pretpostavki)(čl. 328. ZTD)</a:t>
            </a: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dluka o povećanju temeljnog kapitala donosi se nakon utvrđenja računa dobiti i gubitka za proteklu poslovnu godinu i na temelju godišnjih financijskih izvješća (mora ih pregledati revizor); društvo s dionicama bez nominalnog iznosa može povećati temeljni kapital bez izdavanja novih dionica kao u odluci gl. skupštine opiše način na koji je to obavljen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apitalna dobit i rezerve koje se pretvaraju u temeljni kapital moraju biti prikazane u financijskim izvješćima; rezerve se mogu pretvoriti ako prelaze 5 % iznosa temeljnog kapitala društva (statutom je moguće odrediti i veći dio); ako je u računu dobiti i gubitka prikazan gubitak društva, nije moguća pretvorba kapitalne dobiti i rezervi, već ona služe za pokriće gubitaka; namjenske rezerve se smiju pretvoriti samo ako je to u skladu s njihovom svrhom (čl. 329. ZTD)</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dluka o povećanju temeljnog kapitala mora se upisati u sudski registar (čl. 331. ZTD); konstitutivnost upisa (čl. 332. ZTD)</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avo na dionice imaju postojeći dioničari razmjerno njihovim dotadašnjim udjelima u temeljnom kapitalu; u slučaju ako raspodjelom novih dionica pojedini dioničar stekne dio nove dionice, iz dijela dionice ne može ostvarivati prava, ali ga može prenositi i nasljeđivati (čl. 334. ZTD)</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bjava poziva za preuzimanje dionica (čl. 335. ZTD) – poziv vrijedi 1 godinu, a nakon toga društvo prodaje nepreuzete dionice na burzi za račun ovlaštenik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 povećanju kapitala sudjeluju i vlastite dionice te djelomično uplaćene dionice, povećanje se obavlja povećanjem nominalnog iznosa dionica ili izdavanjem novih dionica (čl. 336. ZTD)</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ve dionice sudjeluju u dobiti za cijelu poslovnu godinu u kojoj je donesena odluka o povećanju temeljnog kapitala, osim ako je drugačije odlučeno u odluci gl. skupštine (čl. 338. ZTD)</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abrana izdavanja dionica i privremenica prije upisa odluke gl. skupštine o povećanju temeljnog kapitala u sudski registar (čl. 340. ZT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Izdavanje zamjenjivih obveznica i obveznica s promjenjivom kamatom (čl. 341. ZTD) – odluku o izdavanju obveznica koje vjerovnicima daju pravo da iz zamjene za dionice ili pravo prvenstva pri upisu dionica, kao i one koje pravo vjerovnika stavljaju u vezu s pravom dioničara u dobiti donosi gl. skupština ¾ većinom (statutom je moguće odrediti i drugačiju većinu i ispunjenje dodatnih pretpostavki); također je moguće upravi dati ovlast za izdavanje zamjenjivih obveznica i to najviše za 5 godina, odluku o izdavanju zamjenjivih obveznica potrebno je upisati u sudski registar te je objaviti; isto vrijedi i za užitnička prava (posebno pravo na sudjelovanje u dobiti društva; užitnice daju samo imovinska prava dioničarima ili nedioničarima); dioničari imaju pravo prvenstva pri stjecanju zamjenjivih obveznica, dividendnih obveznica i užitnica na njihov zahtjev (čl. 341. ZTD)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ijenos imovine društva (čl. 301.a ZTD) – uprava načelno ima slobodu u vođenju poslova društva, ali u slučaju ako bi sklopila određene ugovore koji bi mogli biti štetni za dioničare, bit će dužna pribaviti suglasnost gl. skupštine (npr. sklapanje ugovora kojim se imovina društva prenosi na većinskog dioničar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TD zahtijeva od uprave da pribavi suglasnost gl. skupštine u slučaju sklapanja ugovora kojim se društvo obvezuje prenijeti cijelu imovinu ili imovinu čija je vrijednost veća od ¼ temeljnog kapitala ako to predstavlja značajnu strukturnu promjenu društva, osim u slučaju pripajanja, spajanja ili podjele društv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l. skupština odluku donosi ¾ većinom, a statutom je moguće odrediti i veću većinu u ispunjenje dodatnih pretpostavki </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bveza objave takvog ugovora u poslovnim prostorijama društva i davanja uvida svim dioničarim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ko prijenosom imovine dolazi do prestanka društva, prijavi za upis nastupanja razloga za prestanak društva prilaže se i ugovor ovjeren od javnog bilježnik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ko se dioničarima nameću dodatne obveze, potrebno je pribaviti suglasnost svih dioničara na koje se takva odluka donosi, isto se traži i u slučaju ako se radi o prijenosu dionica koje glase na ime i privremenica za koje se traži suglasnost društva (vinkulacija), odluka mora biti jednoglasna (čl. 302. ZTD)</a:t>
            </a:r>
            <a:endParaRPr b="0" lang="en-US" sz="2000" spc="-1" strike="noStrike">
              <a:solidFill>
                <a:srgbClr val="ffffff"/>
              </a:solidFill>
              <a:latin typeface="Tahoma"/>
            </a:endParaRPr>
          </a:p>
          <a:p>
            <a:pPr marL="329040" indent="-3290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pis izmjene statuta u sudski registar (čl. 303. ZTD) – prijavi za upis izmjene statuta mora se priložiti potpuni tekst statuta koji je ovjeren od javnog bilježnika, a koji potvrđuje autentičnost učinjenih izmjena; ako je za izmjenu potrebno odobrenje nadležnog državnog tijela, potrebno je priložiti i njegovu odluku; ako se izmjena statuta ne odnosi na bitne elemente koji se upisuju u sudski registar, dovoljno je pozvati se na isprave pohranjene u registru; ako se izmjena odnosi na podatke koji se moraju objaviti, objavljuje se i izmjena statuta; upis izmjene statuta ima konstitutivni učinak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ovećanje temeljnog kapitala dioničkog društva</a:t>
            </a:r>
            <a:endParaRPr b="1" lang="en-US" sz="40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 osnivanju dioničkog društva u statutu se određuje iznos temeljnog kapitala, njegovoj podjeli na dionice s nominalnim iznosima i njihovom broju, rodovima i broju dionica svakog roda; svaka naknadna promjena temeljnog kapitala društva zahtijeva izmjenu statuta društva</a:t>
            </a:r>
            <a:endParaRPr b="0" lang="en-US" sz="2400" spc="-1" strike="noStrike">
              <a:solidFill>
                <a:srgbClr val="ffffff"/>
              </a:solidFill>
              <a:latin typeface="Tahoma"/>
            </a:endParaRPr>
          </a:p>
          <a:p>
            <a:pPr marL="312120" indent="-31212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ećanje temeljnog kapitala – odluka o povećanju temeljnog kapitala se donosi u slučaju kada društvo treba dodatna novčana sredstva koja pribavlja izvana, a koja su potrebna za širenje opsega poslovanja; drugi mogući oblik pribavljanja kapitala je uzimanje kredita kada dioničko društvo ulazi u dužničko-vjerovnički odnos (tuđi kapital), izdavanjem obveznica</a:t>
            </a: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rste povećanja temeljnog kapitala:</a:t>
            </a:r>
            <a:endParaRPr b="0" lang="en-US" sz="2400" spc="-1" strike="noStrike">
              <a:solidFill>
                <a:srgbClr val="ffffff"/>
              </a:solidFill>
              <a:latin typeface="Tahoma"/>
            </a:endParaRPr>
          </a:p>
          <a:p>
            <a:pPr marL="560520" indent="-560520">
              <a:lnSpc>
                <a:spcPct val="80000"/>
              </a:lnSpc>
              <a:spcBef>
                <a:spcPts val="601"/>
              </a:spcBef>
              <a:buClr>
                <a:srgbClr val="ffffcc"/>
              </a:buClr>
              <a:buSzPct val="7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ektivno povećanje kapitala (izdavanjem novih dionica temeljem dodatnih uplata)</a:t>
            </a:r>
            <a:endParaRPr b="0" lang="en-US" sz="2400" spc="-1" strike="noStrike">
              <a:solidFill>
                <a:srgbClr val="ffffff"/>
              </a:solidFill>
              <a:latin typeface="Tahoma"/>
            </a:endParaRPr>
          </a:p>
          <a:p>
            <a:pPr marL="560520" indent="-560520">
              <a:lnSpc>
                <a:spcPct val="80000"/>
              </a:lnSpc>
              <a:spcBef>
                <a:spcPts val="601"/>
              </a:spcBef>
              <a:buClr>
                <a:srgbClr val="ffffcc"/>
              </a:buClr>
              <a:buSzPct val="7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minalno povećanje kapitala (povećanje kapitala iz vlastitih sredstava društva)</a:t>
            </a:r>
            <a:endParaRPr b="0" lang="en-US" sz="2400" spc="-1" strike="noStrike">
              <a:solidFill>
                <a:srgbClr val="ffffff"/>
              </a:solidFill>
              <a:latin typeface="Tahoma"/>
            </a:endParaRPr>
          </a:p>
          <a:p>
            <a:pPr marL="560520" indent="-5605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ektivno povećanje kapitala:</a:t>
            </a:r>
            <a:endParaRPr b="0" lang="en-US" sz="2400" spc="-1" strike="noStrike">
              <a:solidFill>
                <a:srgbClr val="ffffff"/>
              </a:solidFill>
              <a:latin typeface="Tahoma"/>
            </a:endParaRPr>
          </a:p>
          <a:p>
            <a:pPr marL="560520" indent="-560520">
              <a:lnSpc>
                <a:spcPct val="8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ećanje kapitala ulozima (čl. 304. ZTD)</a:t>
            </a:r>
            <a:endParaRPr b="0" lang="en-US" sz="2400" spc="-1" strike="noStrike">
              <a:solidFill>
                <a:srgbClr val="ffffff"/>
              </a:solidFill>
              <a:latin typeface="Tahoma"/>
            </a:endParaRPr>
          </a:p>
          <a:p>
            <a:pPr marL="560520" indent="-560520">
              <a:lnSpc>
                <a:spcPct val="8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vjetno povećanje kapitala (čl. 313. ZTD)</a:t>
            </a:r>
            <a:endParaRPr b="0" lang="en-US" sz="2400" spc="-1" strike="noStrike">
              <a:solidFill>
                <a:srgbClr val="ffffff"/>
              </a:solidFill>
              <a:latin typeface="Tahoma"/>
            </a:endParaRPr>
          </a:p>
          <a:p>
            <a:pPr marL="560520" indent="-560520">
              <a:lnSpc>
                <a:spcPct val="80000"/>
              </a:lnSpc>
              <a:spcBef>
                <a:spcPts val="601"/>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dobreni kapital (čl. 323. ZTD)</a:t>
            </a:r>
            <a:endParaRPr b="0" lang="en-US" sz="2400" spc="-1" strike="noStrike">
              <a:solidFill>
                <a:srgbClr val="ffffff"/>
              </a:solidFill>
              <a:latin typeface="Tahoma"/>
            </a:endParaRPr>
          </a:p>
          <a:p>
            <a:pPr marL="560520" indent="-5605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minalno povećanje kapitala : mogućnost pretvorbe zadržanih dobitaka, ostalih rezervi i kapitalnih rezervi društva u temeljni kapital društva, koju mora potvrditi reviz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ovećanje temeljnog kapitala ulozima (čl. 304-312. ZTD)</a:t>
            </a:r>
            <a:endParaRPr b="1" lang="en-US" sz="40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dluka o povećanju temeljnog kapitala ulozima donosi se 3/4 većinom, a statutom je moguće odrediti i drugačija većina (moguće i manja), a ako se radi o izdavanju povlaštenih dionica bez prava glasa može se odrediti samo veća većina, kao i ispunjenje dodatnih pretpostavki; povećanje temeljnog kapitala ulozima moguće je samo izdavanjem novih dionica</a:t>
            </a:r>
            <a:endParaRPr b="0" lang="en-US" sz="2400" spc="-1" strike="noStrike">
              <a:solidFill>
                <a:srgbClr val="ffffff"/>
              </a:solidFill>
              <a:latin typeface="Tahoma"/>
            </a:endParaRPr>
          </a:p>
          <a:p>
            <a:pPr marL="318960" indent="-3189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 slučaju ako je društvo izdalo više rodova dionica, za izdavanje novih dionica potrebna je posebna suglasnost dioničara svakog roda dionica (održava se posebna skupština ili odvojeno glasovanje na gl. skupštini)</a:t>
            </a:r>
            <a:endParaRPr b="0" lang="en-US" sz="2400" spc="-1" strike="noStrike">
              <a:solidFill>
                <a:srgbClr val="ffffff"/>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 slučaju ako se kao ulog daju stvari i prava, u odluci o povećanju kapitala ona se moraju navesti, kao i osobe ulagatelja te broj dionica koje dobivaju za te uloge, ako se tako ne postupi bez učinka su ugovori o unosu stvari i prava; ako se u sudski registar upiše povećanje kapitala ulaganjem stvari i prava, a ona nisu određena u odluci, niti su objavljena, povećanje kapitala je valjano; obveza provedbe revizije vrijednosti stvari i prava (čl. 305. ZTD)</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dluka o povećanju temeljnog kapitala ulozima upisuje se u sudski registar, a u prijavi za upis se moraju navesti ulozi u dotadašnjem kapitalu koji nisu uplaćeni, kao i razlog njihove neuplate, odluci se prilaže i izvješće revizora u slučaju ulaganja stvari i prava (čl. 306. ZT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čin upisivanja novih dionica (čl. 307. ZTD) – nove dionice upisuju se putem pisane izjave (upisnice) koja identificira osobu upisnika, broj i rod novih dionica, vrstu i opis uloga (stvari, prava) kao i rok u kojem valja i obvezuje upisnica; upisnicom se upisnik obvezuje preuzeti i uplatiti dionice; ako je povećanje kapitala upisano u registar, a upisnik je ostvarivao dioničarska prava ili ispunjavao obveze na temelju upisnica, ne može se pozivati na ništavost ili neobveznost upisnice; upisnica se ne primjenjuje u slučaju primjene odredbi Zakona o tržištu vrijednosnih papira (ZTVP se ne primjenjuje na izdavanje dionica pri osnivanju dioničkog društv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08:46:29Z</dcterms:created>
  <dc:creator>Dionis</dc:creator>
  <dc:description/>
  <dc:language>en-US</dc:language>
  <cp:lastModifiedBy>SAlebic</cp:lastModifiedBy>
  <dcterms:modified xsi:type="dcterms:W3CDTF">2007-04-19T06:41:07Z</dcterms:modified>
  <cp:revision>11</cp:revision>
  <dc:subject/>
  <dc:title>Povećanje i smanjenje temeljnog kapitala dioničkog društva</dc:title>
</cp:coreProperties>
</file>