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BB0-5864-4A34-B15F-41500C6F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0E3-38DB-4E50-AF8D-9960DF2E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2A8-600E-4DBC-B18D-2C040E99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279-9DBD-47BC-83E0-89F11C67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6E23-96D4-4A21-8A2D-3403F0F0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E05-84BC-48E2-B50C-D1063BBC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8C64-2FE6-4079-B058-74E1A0D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C97-5B1D-4DCA-9648-9982C04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5A8-3ADE-4E92-8909-420B0DB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C1E-D65A-4042-A722-C1B3D8D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52D-2C5D-4EA7-A1ED-1EF3449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334-9ECC-42FE-BB8B-916F7B1B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867-5C50-4612-8C56-45AC824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2B2-5F0F-40B2-A905-2FA3250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E57-2920-4A76-A6DB-7359385F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CB83-7593-4FF5-B0C1-81C1E4B8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34E3-EF1A-4419-9CB1-0C464BD0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6E5-B86D-4885-8C78-6CDB204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73C-F0F5-4028-8680-44E6090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C5F-50A7-4BEE-A527-AB832B18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153-EB9B-4C53-954C-C3D6D27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127-8B03-44FD-8AB9-E19A50C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F68-74CC-4826-8769-4EB696F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FAC-0AFB-4624-A292-8E55FCA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81E-65D5-495E-A156-84F22F4356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C2A-96CB-46BD-BA6B-0CBA65384A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aeaea"/>
                </a:solidFill>
                <a:latin typeface="Tahoma"/>
              </a:rPr>
              <a:t>Prestanak dioničkog društva – Europsko dioničko društvo (Societas Europae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štita vjerovnika (čl. 379. ZTD) – podjela imovine društva dioničarima tek po proteku 1 godine od dana kada je treći put objavljen poziv vjerovnicima da prijave tražbine; u slučaju ako neki vjerovnik ne prijavi svoje tražbine, dugovani iznos treba pohraniti kod suda, a stvari u javno skladište na razdoblje od 6 mjeseci; ako se i u tom razdoblju ne namiri vjerovnik bez krivnje društva, provodi se javna prodaja, a ostvareni iznos se predaje općini na čijem području je sjedište društva; vjerovnici čije tražbine nisu bile poznate društvu, a nisu ih pravovremeno prijavili, mogu tražiti njihovo podmirenje samo iz imovine koja nije podijeljena dioničarima; ako se radi o spornim tražbinama, imovina društva se može dijeliti između dioničara, ako je vjerovniku sporne tražbine dano osiguranje za naknadno namirenje; dioničar koji ima tražbine prema društvu koje ne proizlaze iz njegovog članstva u društvu ima isti položaj kao i vjerovn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djela imovine (čl. 380. ZTD) – likvidatori na temelju odluke o podjeli imovine moraju podijeliti dioničarima imovinu u roku od 30 dana od dana donošenja odluke na način određen statutom; imovina se dijeli razmjerno sudjelovanju dionica u temeljnom kapitalu; ako ulozi nisu uneseni u istom omjeru za sve dionice, nadoknađuje se ono što je uloženo, a ostalo se dijeli razmjerno sudjelovanju dionica u temeljnom kapitalu; ako imovina nije dostatna za povrat uloženog, gubitak snose dioničari razmjerno sudjelovanju dionica u temeljnom kapital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avo na naknadu i nagradu likvidatora (čl. 381. ZTD) – naknada troškova i nagrada za rad na teret društva; nju određuje gl. skupština, a u slučaju spora sud; isplate naknade i nagrade se obavlja nakon podmirenja tražbina vjerovnika , a prije podjele imovine dioničarima; moguće i prijevremene isplate ako to ne oštećuje vjerovnik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končanje likvidacije (čl. 382. ZTD) – nakon podjele imovine dioničarima likvidatori podnose gl. skupštini zaključna likvidacijska financijska izvješća i izvješće o provedenoj likvidaciji; likvidatori podnose sudu prijavu za upis brisanja društva u sudski registar i dokaz o prihvaćanju zaključnih likvidacijskih financijskih izvješća i izvješća o provedenoj likvidaciji; prestanak društva brisanjem; čuvanje poslovnih knjiga i isprava društva u sudskom registru; mogućnost nastavka postupka likvida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dgovornost likvidatora za štetu (čl. 383. ZTD) – nakon brisanja društva iz sudskog registra, nije moguće pobijati radnje likvidatora, ali vjerovnici mogu tražiti od njih naknadu štete; ograničenje odgovornosti likvidatora na iznos nagrade za rad uvećan za 5 puta; ako to nije dovoljno za naknadu štete, za nju odgovaraju solidarno svi dioničari do visine isplaćene imovine društva; prema dioničarima likvidator odgovara po općim pravilima o odgovornosti za štetu; zahtjevi za naknadu štete zastaruju u roku od 1 godine od brisanja društva iz sudskog registra; solidarna odgovornost likvidat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stavljanje društva (čl. 384. ZTD) – ako društvo prestaje zbog proteka vremena ili na temelju odluke gl. skupštine, gl. skupština može do podjele imovine dioničarima donijeti odluku o nastavljanju društva; odluka o tome se donosi ¾ većinom (statutom je moguće odrediti i veću većinu te ispunjenje dodatnih pretpostavki); isto vrijedi i u slučaju otvaranja stečajnog postupka, ali se on obustavi na prijedlog društva ili ga se zaključi nakon pravomoćnosti rješenja o potvrdi stečajnog plana ili se otkloni razlog za brisanje društva koje je naloženo odlukom suda; konstitutivni učinak upisa odluke o nastavljanju društva u sudski regist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ištavost društva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(čl. 384.a-384.c ZT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nkcija za određene nepravilnosti i nedostatke vezane uz dioničko društvo koji su bitni za njegovi identifikaciju, upis u sudski registar i formiranje temeljnog kapita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žba za utvrđenje ništavosti (čl. 384.a ZTD) – tužba za utvrđenje ništavosti može se podnijeti zbog: ako se u statutu društva odnosno u izjavi o preuzimanju dionica pri njegovu osnivanju ne navode tvrtka društva, visina temeljnog kapitala, ulozi u društvo, predmet poslovanja ili su odredbe o predmetu poslovanja ništave ili nisu poštovani propisi o najmanjoj dopuštenoj uplati dionica niti propisi o uvjetima i postupku za upis u sudski registar; ovlast za podnošenje tužbe ima svaki dioničar, svaki član uprave i svaki član nadzornog odb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o se nedostatak može ukloniti, tužba se može podići tek nakon što ovlaštenik za podizanje tužbe zatraži od društva da ukloni nedostatak, a ono to ne učini u roku od 3 mjese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žba se mora podići kod nadležnog suda u roku od 3 godine od dana upisa društva u sudski registar, odgovarajuća primjena odredbi zakona o tužbi za pobijanje odluka gl. skupšt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rava društva mora javno ovjerenu presliku tužbe dostaviti registarskom sudu bez odgode od dana kada je podignuta, a sud koji je donio presudu dostavit će je registarskom sudu u roku od 15 dana od dana njezine pravomoćnosti; registarski sud upisuje u sudski registar zabilježbu spora, a ništavost društva nakon što mu se dostavi pravomoćna presuda; ako je tužba odbijena, briše se zabilježba s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ostatak statuta koji se odnosi na predmet poslovanja može se otkloniti izmjenom statuta (čl. 384.b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činak upisa ništavosti u sudski registar (čl. 384.c ZTD) – nakon upisa ništavosti u sudski registar provodi se likvidacija društva;  ništavost upisa ne utječe na pravne poslove poduzete u njegovo ime; dioničari koji nisu u potpunosti uplatili dionice dužni su to učiniti u mjeri koliko je potrebno da se podmire obveze društva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aeaea"/>
                </a:solidFill>
                <a:latin typeface="Tahoma"/>
              </a:rPr>
              <a:t>Europsko dioničko društvo (Societas Europae- SE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ve ideje za uspostavu Europskog dioničkog društva (SE) nastaju 1959. godine (Ulmer, Sanders), Europska Komisija 1970. godine donosi prvi Prijedlog Uredbe o Europskom dioničkom društvu, koji je prihvaćen i objavljen 1975. godine, poteškoće u usvajanju konačnog teksta Uredbe, osobito u pogledu pitanja suodlučivanja radni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8.10. 2001. godine usvojena Uredba o Statutu Europskog dioničkog društva i Smjernica koja dopunjuje Statut Europskog dioničkog društva u vezi sa suodlučivanjem radni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Svrha ustanovljavanja SE je uspostava trgovačkog društva s jedinstvenim pravnim položajem na unutarnjem tržištu EU koji će olakšati prekogranične poslovne aktivnosti i olakšati prijenos sjedišta društva iz jedne u drugu držav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novna obilježja Europskog dioničkog društva (SE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oničko društvo osnovano na području EU s vlastitom pravnom osobnošću (čl. 1. Uredb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alni temeljni kapital 120.000,00 eura (mogući i viši kapital ako nacionalni propisi određuju tako za npr., banke, osiguravajuća društva i sl.)(čl. 4. Uredbe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irano sjedište SE na području EU u istoj državi članici u kojoj se nalazi i njegovo stvarno sjedište; nije moguć prijenos registriranog sjedišta bez prijenosa stvarnog sjedište čime se otežava mobilnost SE; primjena teorije stvarnog sjedišta (promjena mjerodavnog prava)(čl. 7. Uredb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.    Uređen postupak za prijenos sjedišta društva; odluku donosi gl. skupština; zaštita vjerovnika i dioničara; nemogućnost prijenosa sjedišta u slučaju otvaranja postupka ukidanja, likvidacije ili stečaja nad SE (čl. 8. Uredbe)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5.    Pravni izvori za SE: odredbe Uredbe, odredbe statuta SE, nacionalni pravni propisi (usklađeni i neusklađeni), koji se primjenjuju na dionička društva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6.    Objava odluka o osnivanju i prestanku SE i prijenosu sjedišta u službenim novinama EU; upis SE u sudski registar one države članice u kojoj je smješteno sjedište SE (čl. 12-14. Uredbe)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čini osnivanja SE (čl. 2. Uredbe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uzijom (spajanjem, pripajanjem) 2 ili više dioničkih društava iz najmanje 2 različite države članice EU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snivanjem holding društva, gdje su osnivači društva kapitala iz najmanje 2 različite države članice EU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snivanjem društva-kćeri, gdje su osnivači trgovačka društva iz najmanje 2 različite države članice EU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oblikovanjem dioničkog društva u SE, koje je najmanje 2 godine imalo društvo-kćer u drugoj državi članici EU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stojeće SE osniva društvo-kćer u obliku S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stupke statusnih promjena, osnivanja i fuzije dijelom uređuje Uredba, a dijelom nacionalni propis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azlozi za prestanak dioničkog društva (čl. 367. ZTD)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 istek vremena određenog u statutu, ako je društvo bilo osnovano na određeno vrijem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 odluka glavne skupštine koja se mora donijet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¾ većinom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meljnog kapitala zastupljenog na glavnoj skupštini društva pri donošenju odluke, ako se statutom za to ne traži veća većina ili ispunjenje dodatnih pretpostavk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 pravomoćna odluk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egistarsko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suda kojom s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dređuje brisanje društva po službenoj dužnost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 pripajanje društva drugome društvu i spajanje s drugim društvom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dluka stečajnog suca o otvaranju i zaključenju stečajnog postupka na temelju članka 63. stavak 1. Stečajnog zakon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 provođenje stečajnog postupk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 ukidanje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tarnje ustrojstvo SE – mogućnost izbora između monističkog ili dualističkog sustava statutom SE (čl. 38. Uredbe); pravni položaj tijela SE uređen dijelom odredbama Uredbe, a dijelom nacionalnim propisima država-članica, te statutom SE; mandat članova tijela ne smije biti duži od 6 godina (čl. 46. Uredbe); gl. skupština SE (primjena nacionalnih propisa države članice u kojoj SE ima registrirano sjediš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 izradu godišnjih financijskih izvješća mjerodavni nacionalni propisi države članice u kojoj SE ima registrirano sjedište (čl. 61. Ured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 prestanak, likvidaciju i stečaj SE mjerodavni nacionalni propisi države članice u kojoj SE ima registrirano sjedište (čl. 63. Uredb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jernica o suodlučivanju radnika u SE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jome je uređeno sporno pitanje participacije radnika u tijelima SE (pravo izbora vlastitih predstavnika radnika u upravnim i nadzornim tijelima društva); njome se utvrđuje mjerodavnost nacionalnih propisa one države članice u kojoj SE ima registrirano sjedište; vođenje pregovora o modelu suodlučivanja radnika između uprave i radnika SE, pri čemu je za postupak mjerodavno pravo države članice u kojoj SE ima registrirano sjedište; države članice imaju obvezu utvrditi standardna pravila za suodlučivanje radnika koja se primjenjuju u slučaju ako se uprava i radnici SE tako dogovore u pregovorima, ili ne postignu sporazum o modelu suodlučivanja (standardna pravila predviđaju radnička predstavnička tijela s pravom na obaviještenost i konzultacije); ako postoji više oblika suodlučivanja u trgovačkim društvima koja sudjeluju u osnivanju SE izabire se onaj oblik koji je najpovoljniji za radnik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oničko društvo koje nema imovine može prestati brisanjem iz sudskog registra na prijedlog nadležnog tijela porezne uprave ili po službenoj dužnosti; trgovački sud briše društvo iz sudskog registra po službenoj dužnosti ako ono u razdoblju od 3 uzastopne godine ne ispuni svoju obvezu objave svojih godišnjih financijskih izvješća s prilozima niti ih dostavi u roku od 6 mjeseci nakon što mu sud priopći namjeru brisanja, a društvo ne učini vjerojatnim da ima imovinu; u tom slučaju se ne provodi likvidacija društva, a ako se naknadno utvrdi postojanje imovine provodi se postupak likvidacije, likvidatore imenuje sud na prijedlog zainteresiranih osoba; sud dostavlja obavijest o namjeri brisanja upravi društva po propisima o dostavi i ostavlja im primjereni rok za prigovore, moguće odrediti i objavu te obavijes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atutom je moguće odrediti i druge slučajeve prestan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o odluku o prestanku donosi gl. skupština, ona se prijavljuje radi upisa u sudski registar, a ako je donosi sud, upisuje se po službenoj dužnosti (čl. 368. Z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o se prijava ne podnese, sud će uputiti ponovni poziv uz upozorenje da će po proteku dodatnog roka to učiniti on po službenoj dužnosti i imenovati likvidat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luka o prestanku se objavljuje u Narodnim novinam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kvidacijski postupa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vrha provedbe postupka likvidacije je razrješenje svih postojećih pravnih odnosa društva (naplata tražbina prema trećima i plaćanje dugova prema trećima), unovčenje imovine društva i vraćanje ostatka likvidacijske mase dioničarima društva, kada nastanu razlozi za prestanak društv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ko se nad društvom ne otvori stečajni postupak, provodi se postupak likvidacije, osim u slučaju pripajanja i spajanja društva, ili ako društvo nema imovine; na društvo se do zaključenja likvidacije primjenjuju propisi koji se primjenjuju i na društvo koje nije u likvidaciji, osim ako to nije u suprotnosti s odredbama o likvidaciji i njezinom svrhom (čl. 369. ZTD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kon upisa odluke o otvaranju likvidacije upiše u sudski registar, u tvrtku društva se stavlja naznaka “u likvidaciji” (čl. 370. ZT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stupak likvidacije provode članovi uprave kao likvidatori (čl. 371. ZTD); statutom ili odlukom gl. skupštine za likvidatore se mogu imenovati druge osobe koje ispunjavaju zakonske uvjete za člana uprave, likvidator može biti i pravna osob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njinski dioničari koji imaju dionice koje čine 5 % temeljnog kapitala ili iznos od 4.000.000,00 kuna (moraju učiniti vjerojatnim da du najmanje 3 mjeseca imatelji dionica u društvu) i nadzorni odbor mogu postaviti zahtjev sudu da imenuje ili opozove likvidatore kada postoje za to važni razlozi; likvidatori koje imenuje sud imaju pravo na naknadu troškova i nagradu za rad, a ako društvo i likvidatori ne postignu sporazum, o tome odlučuje su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lavna skupština može opozvati likvidatore u svako doba (osim onih koje je imenovao su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psidijarna primjena odredbi ZTD-a o upravi na likvidato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pis imenovanih likvidatora i njihovih ovlasti u sudski registar (čl. 372. ZT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zivanje vjerovnika za prijavu tražbina (čl. 373. ZTD) – uz upućivanje na prestanak društva, upućuje se i poziv vjerovnicima da prijave svoje tražbine; poziv se objavljuje triput u razmacima od 15-30 dana u glasilu društva, uz naznaku da vjerovnici prijave svoje tražbine u roku od 6 mjeseci od posljednje objave poziv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veze likvidatora (čl. 374. ZTD) – okončanje tekućih poslova, naplata tražbina, unovčenje imovine društva, podmirenje vjerovnika; mogućnost ulaženja u nove poslove; likvidatori imaju položaj uprave, a nadgleda ih nadzorni odbor; na njih se ne primjenjuje zabrana konkurencije; podaci na poslovnim papirima društva u likvidacij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lasti likvidatora (čl. 375. ZTD) – zastupaju društvo; skupno zastupanje, osim ako je drugačije određeno statutom ili odlukom suda; statutom ili odlukom suda moguće je odrediti pojedinačnog likvidatora koji samostalno ili skupno s prokuristom zastupa društvo, to može odrediti i nadzorni odbor, ako je ovlašten na to statutom ili odlukom gl. skupštine; raspodjela određenih poslova između likvidatora koji su ovlašteni skupno zastupati društvo; nije moguće ograničiti ovlasti likvidatora na zastupa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zrada početnih likvidacijskih financijskih izvješća (čl. 376. ZTD) – obveza likvidatora da izrade početna likvidacijska financijska izvješća i izvješće o stanju društva; gl. skupština odlučuje o utvrđenju početnih likvidacijskih financijskih izvješća, davanju razrješnice likvidatorima i članovima nadzornog odbora; sud može odlučiti da nije potrebno provesti reviziju tih izvješća, ako to ne zahtijevaju interesi vjerovnika i dioniča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ustava likvidacije i pokretanje stečaja (čl. 377. ZTD) – ako likvidatori na temelju prijavljenih tražbina da imovina društva nije dostatna za podmirenje tražbina vjerovnika, moraju obustaviti likvidacijski postupak i predložiti provedbu stečajnog postup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zvješće o provedbi likvidacije i prijedlog za diobu (čl. 378. ZTD) – nakon podmirenja dugova društva, likvidatori imaju obvezu izraditi izvješće o provedenoj likvidaciji i prijedlog o podjeli imovine, ako u odluci o prestanku društva nije određeno drugačije; izvješće i prijedlog prihvaća tijelo koje je donijelo odluku o prestanku društva (gl. skupština, sud); ako gl. skupština prihvaća izvješće i prijedlog pa se ne sastane nakon dva poziva, ili bude nepodobna za odlučivanje smatra se da su izvješće i prijedlog prihvaćeni kako su predložen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1:05:02Z</dcterms:created>
  <dc:creator>Dionis</dc:creator>
  <dc:description/>
  <dc:language>en-US</dc:language>
  <cp:lastModifiedBy>SAlebic</cp:lastModifiedBy>
  <dcterms:modified xsi:type="dcterms:W3CDTF">2007-04-19T06:19:29Z</dcterms:modified>
  <cp:revision>6</cp:revision>
  <dc:subject/>
  <dc:title>Prestanak dioničkog društva</dc:title>
</cp:coreProperties>
</file>