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370-3C41-4737-A0A3-572BCAC4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75B-FC3D-479C-BC47-E57A28E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419-C581-48E2-A3EC-C4F8BF47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7EB-5F14-419B-B24F-03DE3775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7F72-A7D2-4428-BEF8-E5FEC8D2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A01-62F2-4588-BC71-2048266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D1CC-6458-4BD2-A900-C3F6C29B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4491-F591-4661-BAD2-C6EBE7D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420F-B530-40A4-BED2-C6321C2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C0D2-AA58-4F16-B60E-FF9DE8F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286D-41F8-4CFE-AE9C-6C0A1B4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A46-2EF7-47B8-9961-37D1133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D03-4510-4904-A00A-64D9204D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E2D-A0BD-48A4-970D-3733B595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BF62-2398-4EE5-8E09-BF513204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E94F-ADBE-4FD0-AA90-641277A6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8D1-B2E0-4716-8E75-2200CE65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7F4-8A2B-4238-80A9-0033BC40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E47-CA16-4D75-9BAF-1E5D902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817-780E-4F84-A6AB-A936C38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EA7-2BD1-4017-A046-BBB04AD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30E-7356-4A43-8697-1EBBD88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0EA-2DA2-4144-85D3-50E7F5DA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1F7-D84A-4DD1-BBDF-73A0888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350-1D81-4840-AA13-AB7A055C52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615F-4E37-47F7-A196-ADC38B7539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jela dioničkog društ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rava, nadzorni odbor, glavna skupšt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rada izvješća koja se podnose nadzornom odboru o tijeku poslovanja i stanju društva najmanje jednom godišnje (čl. 250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a uprave da u slučaju pojave gubitaka sazove glavnu skupštinu, u slučaju pojave insolventnosti ili prezaduženosti da zatraži otvaranje stečajnog postupka (najkasnije u roku od 3 tjedna) i da ne obavlja plaćanja (čl. 251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astavljanje godišnjih financijskih izvješća i izvješća o stanju društva i njihovo utvrđenje zajedno s nadzornim odborom te podnošenje prijedloga odluke o upotrebi dobiti (čl. 300.a-300.d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azivanje i utvrđenje dnevnog reda gl. skupštine (čl. 277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prava – dužna pozornost i odgov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a članova uprave da vode poslove društva s pozornošću urednog i savjesnog gospodarstvenika i da čuvaju poslovne tajne društva (čl. 252. st. 1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lanovi uprave koji povrijede svoje obveze odgovaraju društvu solidarno za nastalu štetu, teret dokaza o primjeni dužne pozornosti pada na članove uprave (čl. 252. st. 2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guće oslobođenje od odgovornosti ako se radnja temelji na odluci gl. skupštine; društvo se može odreći zahtjeva za naknadu štete ili o tome sklopiti nagodbu po proteku 3 godine od nastanka zahtjeva uz uvjet da se s time suglasi gl. skupština i da se tome ne protive manjinski dioničari koji drže dionice koje čine najmanje 10 % temeljnog kapitala društva (čl. 252. st. 4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htjev za naknadu štete postavlja društvo na temelju odluke gl. skupštine ili na zahtjev manjinskih dioničara (čl. 273.a st. 1. ZTD); u tu svrhu gl. skupština može imenovati posebnog zastupnika (čl. 273.a st. 2. ZTD); u slučaju ako gl. skupština ne postavi zahtjev u roku od 6 mjeseci od održavanja gl. skupštine, manjinski dioničari (oni koji drže dionice koje čine 5 % temeljnog kapitala ili iznos od najmanje 4.000.000,00 kuna) mogu zahtijevati od suda imenovanje posebnog zastupnika ako postoji osnovana sumnja da je društvu nepoštenim djelovanjem ili grubom povredom zakona/statuta pričinjena št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htjev za naknadu štete mogu postaviti i vjerovnici društva ako se ne mogu namiriti iz imovine društva, u slučaju grube povrede dužne pozornosti člana društva (čl. 252. st. 5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htjevi za naknadu štete zastarijevaju u roku od 5 godina (čl. 252. st. 6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Uprava - zabrana konkurencije i sukobi intere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brana konkurencije (čl. 248. ZTD) - član uprave ne može bez suglasnosti nadzornog odbora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a svoj ni za tuđi račun obavljati poslove koji ulaze u predmet poslovanj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 može biti član uprave ni nadzornog odbora u drugome društvu koje se bavi poslovima iz predmeta poslovanj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 može u prostorijama društva obavljati poslove za svoj niti za tuđi rač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ne može biti član trgovačkoga društva koji osobno odgovara za obveze tog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komplementar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ko se ono bavi poslovima iz predmeta poslovanja društv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ko član uprave postupi protivno zabrani konkurencije, društvo od njega može tražiti naknadu štete ili da dopusti da se sklopljeni pravni poslovi za svoj račun smatraju sklopljenima za račun društva, a one koje je sklopio za tuđi račun, da primljene iznose prenese na društvo ili mu ustupi zahtjeve za naplatu (čl. 248. st. 2. ZT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avanje kredita članovima uprave i prokuristima (čl. 249. ZTD) – društvo može dati kredit članu uprave, prokuristu i članovima njihovih užih obitelji samo na temelju odluke nadzornog odbora, a ugovor o kreditu se mora sklopiti u roku od 3 mjeseca od davanja odobrenja, tako se postupa i u slučaju kredita u odnosima između vladajućeg i ovisnog društva; ako je kredit dan bez suglasnosti postoji obveza vraćanja bez odg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klapanje ugovora sa samim sobom (čl. 41. st. 3. ZTD) – član uprave i p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okurist ne mo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g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ez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uglasnosti nadzornog odbora ili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osebne ovlast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adržane u statut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uštva nastupati kao druga ugovorna strana i s društvom sklapati ugovore u svoje ime i za svoj račun, u svoje im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 za račun drugih osoba, ili u ime i za račun drugih osob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prava – naknade za r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knade za rad članova uprave (čl. 247. ZTD) – naknade za rad članova uprave određuje nadzorni odbor sukladno poslovima koje obavlja član uprave i njegovoj uspješnosti te stanju društva; nadzorni odbor može te naknade primjereno smanjiti ako se naknadno bitno pogoršaju prilike društva, uz pravo člana uprave na raskid ugovora u tom sluč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jelovanje članova uprave u dobiti društva (čl. 246. ZTD) – varijabilni dio naknade za rad članova uprave ovisan o uspješnosti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zorni odbor – sastav i imenovan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Broj članova nadzornog odbora (čl. 254.) – najmanje 3 člana, a moguće je statutom odrediti i veći broj, ali uvijek neparan, najveći broj članova nadzornog odbora ovisan o iznosa temeljnog kapitala društva (do 12.000.000,00 kuna, 9 članova; do 20.000.000,00 kuna, 15 članova; preko 80.000.000,00 kuna, 21 čl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redstavnik radnika u nadzornom odboru (čl. 166. Zakona o radu) - u trgovačkom društvu u kojem je zaposleno više od 200 radnika, u trgovačkom društvu u kojem se kao dioničar, odnosno član pojavljuje Republika Hrvatska ili jedinice lokalne i područne (regionalne) samouprave s udjelom on najmanje 25 % temeljnog kapitala društva i u javnim ustanovama, neovisno o broju radnika u tom društvu, odnosno ustanovi jedan član nadzornog odbora, odnosno drugog odgovarajućeg tijela, mora biti predstavnik radnika, predstavnika radnika imenuje i opoziva radničko vijeće, odnosno radni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 člana nadzornog odbora može se imenovati samo fizička osoba koja ima punu poslovnu sposobnost, a statutom je moguće odrediti uvjete koje ona mora ispunjavati (čl. 255. st. 1. ZT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 člana nadzornog odbora ne može se imenovat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lan uprave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lan nadzornog odbora u deset društa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lan uprave društva koje je ovisno u odnosu na dioničko 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lan uprave drugog društva kapitala u čijem se nadzornom odboru nalazi član uprave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soba koja ne ispunjava uvjete iz članka 239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stavka 2.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TD (kažnjavanje za određena kaznena djela i izricanje mjere sigurnosti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Član nadzornog odbora ne može biti istodobno i član uprave, trajni zamjenik člana uprave, prokurist ni punomoćnik društva (čl. 261. st. 1. ZT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menovanje i izbor članova nadzornog odbora (čl. 256. ZTD) – članove nadzornog odbora izabire gl. skupština društva, a statutom je moguće predvidjeti da određeni dioničari imenuju određeni broj članova nadzornog odbora, i to najviše 1/3 ukupnog broja članova nadzornog odbora; pravo imenovanja mogu imati određeni dioničari ili imatelji određenih dionica (dionice koje glase na ime i za čiji je prijenos potrebna vinkulacij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ijedlog za izbor članova nadzornog odbora podnosi prethodni nadzorni odbor ili dioničari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menovanje članova nadzornog odbora od strane suda (čl. 257. ZTD) – sud imenuje nedostajuće članove nadzornog odbora za valjano odlučivanje na zahtjev uprave, člana nadzornog odbora ili dioniča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andat članova nadzornog odbora (čl. 258. ZTD) – najviše 4 godine uz mogućnost reizb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oziv članova nadzornog odbora (čl. 259. ZTD) – gl. skupština opoziva člana nadzornog odbora prije isteka mandata odlukom koju donosi ¾ većinom, a imenovanog člana onaj dioničar koji ga je imenovao; opoziv može obaviti i sud na zahtjev nadzornog odbora ili manjinskih dioničara (oni koji imaju dionice koje čine 10 % temeljnog kapitala) kada za to postoje važni razlozi (čl. 260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tavka člana nadzornog odbora (čl. 260.a ZTD) – pisana ostavka podnosi se upravi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prava i predsjednik nadzornog odbora prijavljuju svaku promjenu sastava nadzornog odbora na upis u sudski registar bez odgode (čl. 262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novni sustavi unutarnjeg ustrojst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nistički sustav: upravni odbor, glavna skupština (USA, G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alistički sustav: uprava, nadzorni odbor, glavna skupština (D, HR, S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ješoviti sustav: mogućnost izbora između monističkog i dualističkog sustava (F, Societas Europa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zorni odbor - ovla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dležnosti nadzornog odbora (čl. 263. ZTD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) nadzor rada uprav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) pregled i ispitivanje poslovnih knjiga i isprava društva, blagajne, vrijednosnih papira i drugih stvar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c) davanje naloga revizoru za ispitivanje godišnjih financijskih izvješć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) podnošenje izvješća o obavljenom nadzoru glavnoj skupštini društva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) sazivanje gl. skupštine društv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f) davanje suglasnosti za obavljanje određenih poslova ako je tako određeno statutom ili odlukom nadzornog odbora (ako nadzorni odbor uskrati suglasnost, uprava je može zatražiti od gl. skupštine koja odnosi odluku s većinom od ¾ danih glaso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stupanje društva prema članovima uprave (čl. 268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dzorni odbor ne može sudjelovati u vođenju poslova društva, ali može na razdoblje od najviše 1 godine imenovati određenog svojeg člana za zamjenika člana uprave koji nedostaje ili ne može obavljati svoju funkciju (čl. 261. st. 2. ZTD) pri čemu mu miruje funkcija u nadzornom odbo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čin rada nadzornog odbora (čl. 264-267. ZTD) – nadzorni odbor izabire svojeg predsjednika i zamjenika predsjednika, mogućnost imenovanja posebnih komisija koje pomažu nadzornom odboru u donošenju odluka i nadzoru nad njihovom provedbom, sjednice nadzornog odbora saziva njegov predsjednik na zahtjev njegovih članova ili uprave društva, sjednicama mogu prisustvovati samo članovi nadzornog odbora i članovi uprave društva, odluke se donose većinom glasova, ako statutom nije određeno drugač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a ustanovljavanja revizorskog odbora u trgovačkim društvima od od javnog interesa  (čl. 27. i 28. Zakona o reviziji) - trgovačka društva od javnog interesa (trgovačka društva uvrštena na burzi u prvoj kotaciji ili kotaciji javnih dioničkih društava, banke i druge financijske institucije, trgovačka društva od posebnog državnog interesa čiji temeljni kapital prelazi 300.000.000,00 kuna prema Odluci Vlade Republike Hrvatske o popisu trgovačkih društava od posebnog državnog interesa) imaju obvezu imenovati revizorski odbor koji se sastoji od članova nadzornog odbora i članova imenovanih od nadzornog odbora, a koji pomaže nadzornom odboru u nadzoru nad postupkom financijskog izvještavanja i provedbom revizije godišnjih financijskih i konsolidiranih izvještaja, te prati neovisnost vanjskog revizora i daje preporuke skupštini za njegov iz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adzorni odbor – dužna pozornost i odgovornost, sukobi interesa i naknada za rad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užna pozornost i odgovornost (čl. 272. ZTD) – isto što i za članove uprave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 članove nadzornog odbora se ne primjenjuju odredbe o zabrani konkuren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slučaju sklapanja ugovora između člana nadzornog odbora i društva izvan njegove funkcije člana nadzornog odbora, treba pribaviti suglasnost nadzornog odbora (čl. 270. ZTD), kao i u slučaju kada društvo daje kredite članovima nadzornog odbora i članovima njihove uže obitelji (čl. 271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knada za rad članova nadzornog odbora određuje se statutom društva, a može je odobriti i gl. skupština, naknada se može odrediti i u obliku sudjelovanja u dobiti društva (čl. 269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nistički susta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66680" y="1981080"/>
            <a:ext cx="7542000" cy="4113360"/>
            <a:chOff x="1066680" y="1981080"/>
            <a:chExt cx="7542000" cy="4113360"/>
          </a:xfrm>
        </p:grpSpPr>
        <p:cxnSp>
          <p:nvCxnSpPr>
            <p:cNvPr id="115" name="_s79883"/>
            <p:cNvCxnSpPr>
              <a:stCxn id="116" idx="0"/>
              <a:endCxn id="117" idx="2"/>
            </p:cNvCxnSpPr>
            <p:nvPr/>
          </p:nvCxnSpPr>
          <p:spPr>
            <a:xfrm flipV="1">
              <a:off x="4837320" y="3625560"/>
              <a:ext cx="792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79878"/>
            <p:cNvSpPr/>
            <p:nvPr/>
          </p:nvSpPr>
          <p:spPr>
            <a:xfrm>
              <a:off x="1066680" y="1981080"/>
              <a:ext cx="7542000" cy="1645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Upravni odbor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Izvršni (CEO,CFO) i neizvršni članovi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79880"/>
            <p:cNvSpPr/>
            <p:nvPr/>
          </p:nvSpPr>
          <p:spPr>
            <a:xfrm>
              <a:off x="1066680" y="4449240"/>
              <a:ext cx="7542000" cy="1645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Glavna skupština</a:t>
              </a:r>
              <a:endParaRPr b="0" lang="en-US" sz="4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ualistički susta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66680" y="1981080"/>
            <a:ext cx="7542000" cy="4114080"/>
            <a:chOff x="1066680" y="1981080"/>
            <a:chExt cx="7542000" cy="4114080"/>
          </a:xfrm>
        </p:grpSpPr>
        <p:cxnSp>
          <p:nvCxnSpPr>
            <p:cNvPr id="120" name="_s81935"/>
            <p:cNvCxnSpPr>
              <a:stCxn id="121" idx="0"/>
              <a:endCxn id="122" idx="2"/>
            </p:cNvCxnSpPr>
            <p:nvPr/>
          </p:nvCxnSpPr>
          <p:spPr>
            <a:xfrm flipV="1">
              <a:off x="4837320" y="4552200"/>
              <a:ext cx="7920" cy="5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81931"/>
            <p:cNvCxnSpPr>
              <a:stCxn id="122" idx="0"/>
              <a:endCxn id="124" idx="2"/>
            </p:cNvCxnSpPr>
            <p:nvPr/>
          </p:nvCxnSpPr>
          <p:spPr>
            <a:xfrm flipV="1">
              <a:off x="4837320" y="3009600"/>
              <a:ext cx="7920" cy="5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" name="_s81926"/>
            <p:cNvSpPr/>
            <p:nvPr/>
          </p:nvSpPr>
          <p:spPr>
            <a:xfrm>
              <a:off x="1066680" y="1981080"/>
              <a:ext cx="7542000" cy="1028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Uprava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81928"/>
            <p:cNvSpPr/>
            <p:nvPr/>
          </p:nvSpPr>
          <p:spPr>
            <a:xfrm>
              <a:off x="1066680" y="3523680"/>
              <a:ext cx="7542000" cy="1028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Nadzorni odbor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81934"/>
            <p:cNvSpPr/>
            <p:nvPr/>
          </p:nvSpPr>
          <p:spPr>
            <a:xfrm>
              <a:off x="1066680" y="5066640"/>
              <a:ext cx="7542000" cy="1028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Glavna skupština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prava – sastav  i imenovan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roj članova uprave određen statutom ( 1 član ili više, u slučaju više članova jedan se imenuje predsjedniko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lan uprave može biti samo fizička osoba koje je potpuno poslovno sposobna i nije kažnjena za određena kaznena djela ili joj je izrečena mjera sigurnosti zabrane obavljanja zanimanja (čl. 239. ZTD), dodatni uvjeti se propisuju statutom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lanove uprave i predsjednika imenuje nadzorni odbor na razdoblje od najviše 5 godina, uz mogućnost ponovnog imenovanja (čl. 244. st. 1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dzorni odbor može opozvati svoju odluku o imenovanju člana uprave i predsjednika uprave zbog važnih razloga (npr. gruba povreda dužnosti, nesposobnost za uredno obavljanje poslova, izglasavanje nepovjerenja na glavnoj skupštini)(čl. 244. st. 2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gućnost davanja pisane ostavke predsjednika i člana uprave nadzornom odboru (čl. 244.a Z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menovanje članova uprave od strane suda u hitnim slučajevima na zahtjev zainteresirane strane, sve dok se ne imenuje član uprave na način propisan statutom društva (čl. 255. Z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bveza podnošenja prijave o promjeni sastava uprave i ovlasti za zastupanje (čl. 245.a Z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6400" y="320400"/>
            <a:ext cx="73994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prava - ovla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ođenje poslova društva (čl. 240. ZTD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8040" indent="-518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 vlastitu odgovornos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8040" indent="-518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no se primjenjuje skupno vođenje, ali se statutom može odrediti drugačij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8040" indent="-518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 slučaju podjele glasova u upravi, odlučujući glas ima predsjednik uprave, osim ako je drugačije određeno statut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8040" indent="-518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nošenje poslovnika o radu upr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stupanje društva (čl. 241. ZTD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rava poduzima sve pravne radnje zastupanja u poslovima, pred sudom i tijelima vla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no se primjenjuje skupno zastupanje, ali se statutom može odrediti drugačij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ije moguće ograničiti ovlast uprave da zastupa društ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prema i provedba odluka glavne skupštine (čl. 243. ZTD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 zahtjev gl. skupštine priprema odluke i opće akte koje donosi gl. skupšti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prema ugovore koji se sklapaju uz suglasnost gl. skupštin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vedba odluka gl. skupšt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15:49Z</dcterms:created>
  <dc:creator>Info</dc:creator>
  <dc:description/>
  <dc:language>en-US</dc:language>
  <cp:lastModifiedBy>Dionis</cp:lastModifiedBy>
  <dcterms:modified xsi:type="dcterms:W3CDTF">2006-04-21T11:29:34Z</dcterms:modified>
  <cp:revision>7</cp:revision>
  <dc:subject/>
  <dc:title>Tijela dioničkog društva</dc:title>
</cp:coreProperties>
</file>