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9BD-4714-453D-8B51-0E7D1D8F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291-431D-40CC-AD0F-1EFBB62F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55D-8A2B-4786-887F-B4FA5C31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88E-B07D-454F-B9DA-0DE416E1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108C-7C5E-4E80-9A1E-A0B409B8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831A-6B52-4696-80C8-AC8E560F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802C-E4A8-41D9-BFF0-B2C65B0C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56B0-7224-4395-BFE1-FBCFF709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8BA8-217C-4711-A2DC-8D0A78BC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A817-C1FC-4565-9622-4A555D3D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6D96-F4CF-41CF-8656-D6E34D5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0BE-2FDA-4EEA-8132-51A8DFF7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7BBD-9868-449E-BE1D-1957BF74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D3C9-ACEB-48A4-830B-72E6848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1709-E1FC-44EE-918D-F3E7F759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0C25-5CED-414E-B986-0578AEE0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D10F-0D57-4BCC-BF22-2E17EE3F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E1C-3334-4EA1-96C2-61CE369F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332-DB26-4F5D-B4CA-E02EC68C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256-68CA-4166-AE3A-50489479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DE0-08A4-4F8D-BD5E-4D1F13E2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969-B2D4-4AC7-A405-E3FECEF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2D8-FC62-4DDC-A8AA-7F009FB2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2A6-7C6A-464A-B393-E4D2849A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7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0A37-9FFC-41D7-91D7-7A4BA0B59C6E}" type="slidenum">
              <a:rPr b="0" lang="hr-H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FF65-3DAC-441B-962D-B9B53421AF7C}" type="slidenum">
              <a:rPr b="0" lang="hr-H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Povezana društva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vladavajući utjecaj može nastati kao posljed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stojanj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ćinsko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udjelovanj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 jednog trgovačkog društva u drugom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porazum o suradnji 2 ili više manjih trgovačkih društava koja zajedno imaju vladajući položaj u ovisnom društv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ombinacija različitih okol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posredno i posredno (višestruka ovisnost) prevladavajući utjec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visnost postoji kad jedno društvo može utjecati na sastav tijela drugog društva, pri čemu je dovoljno da utječe samo na financiranje poslovanja ovisnog društva te ono mora biti trajnije nar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00"/>
                </a:solidFill>
                <a:latin typeface="Tahoma"/>
              </a:rPr>
              <a:t>Koncern i koncernsko društvo (čl. 476. ZTD)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ko se vladajuće i jedno ili više ovisnih društava objedine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jedinstvenim vođenjem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d strane vladajućega društva, ona čine koncern, a pojedinačna društva su društva koncer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rste koncerna – vertikalni / horizontalni; ugovorni / faktični; centralizirani / decentraliziran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oncern može nastat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snivanje novog društva i prijenos dijela imovine i djelatnosti društva-osnivač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uzimanje dionica/udjela u drugom društvu od strane trgovačkog dru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klapanje ugovora o vođenju poslova dru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kon presumira nastanak koncerna u sljedećim slučajevima: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k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l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nj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ugovor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 vođenju poslova društva (čl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479.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ZTD), priključenje društv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čl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503.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ZT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postojanje odnosa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isno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 vladajuće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društv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jam jedinstvenog vođenja – vođenje poslova više trgovačkih društava od strane istih osoba radi postizanja jednog nadređenog cjelovitog poduzetničkog interesa i to jedinstvenim organiziranjem i financiranjem djelatnosti trgovačkih društ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00"/>
                </a:solidFill>
                <a:latin typeface="Tahoma"/>
              </a:rPr>
              <a:t>Društva s uzajamnim udjelima (čl. 477. ZTD)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ruštva s uzajamnim udjelima su društva kapitala sa sjedištem u Republici Hrvatskoj koja su povezana tako da svako društvo ima više od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5 %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udjela u drugome društv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Za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zračunavanje i uračunavanje udjela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imjenjuju se odredbe čl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474. st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2. i 4.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TD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esumpcija postojanja odnosa između vladajućeg i ovisnog društva u slučaju postojanja jednostranog ili uzajamnog većinskog udjela ili neposrednog ili posrednog vladajućeg utjeca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tojanje uzajamnih udjela može ugroziti načelo očuvanja temeljnog kapitala i dovesti do osamostaljivanja uprava društa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oga se propisuje obveza obavještavanja o stjecanju kvalificiranih udjela (čl. 478. ZTD) te se ograničava korištenje prava iz takvih udjela (čl. 511. ZT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bveza obavještavanja (čl. 478. ZTD) - č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 jedno društvo stekne više od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5 %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dionica ili udjela u nekom društvu kapitala sa sjedištem u Republici Hrvatskoj mora o tome bez odgađanja pismeno obavijestiti to društvo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, kao i u slučaju stjecanja većinskog sudjelovanja (više od 50 % udjela), te slučajevima prestanka postojanja kvalificiranih udj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tjecanje, odnosno otpuštanje se moraju objaviti i u glasilu druš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ok se ne ispuni obveza obavještavanja nije moguće ostvarivati prava iz stečenih udj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Uračunavanje udjela – kao udjeli koji pripadaju društvu koje ima obvezu obavještavanja uračunavaju se i udjeli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koje društvo, od njega ovisno društvo ili netko tko ih drži za njegov račun ili za račun društva koje je od njega ovisno može tražiti da mu se prenesu,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te oni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za čije preuzimanje je u obvezi društvo, neko društvo koje je ovisno o njemu ili netko tko djeluje za račun društva ili društva koje je o njemu ovisno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Ograničenje prava (čl. 511. ZTD) -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ko društvo kapitala i neko drugo takvo društvo imaju udjele jedno u drugome, mogu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 ako su im oni poznati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koristiti prava iz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takvih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udjela najviše do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25 %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svih udjela drugoga društva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; spomenuto ograničenje vrijedi od trenutka primitka obavijesti o uzajamnim udjelima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od drugog društva odnosno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od trenutka kada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u postojanje međusobnih udjela postane pozna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00"/>
                </a:solidFill>
                <a:latin typeface="Tahoma"/>
              </a:rPr>
              <a:t>Poduzetnički ugovori – vrste (čl. 479. i 480. ZTD)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govor kojim društvo kapitala podvrgava vođenje poslova društva drugome društvu jest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ugovor o vođenju poslova druš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govor kojim se takvo društvo obvezuje da će drugome društvu prenijeti cijelu svoju dobit jest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ugovor o prijenosu dobiti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; ovim ugovorom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matra se i ugovor kojim se društvo kapitala obvezuje da će svoje poduzeće voditi za račun drugoga društv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(ugovor o vođenju vlastitog poduzeća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stali poduzetnički ugovori (čl. 480. ZTD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 obvezuju da će svoju dobit ili dobit pojedinih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ijelova svoga poduzeća (svojih pogona)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 potpunosti ili djelomično udružiti s dobiti drugih društava ili pojedinih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ijelova poduzeća (pogona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ih društava radi podjele zajedničke dobiti (</a:t>
            </a:r>
            <a:r>
              <a:rPr b="0" i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ugovor o zajednici dobiti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 obvezuju da će dio svoje dobiti ili dobiti pojedinih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ijelova svog poduzeća (pogona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 potpunosti ili djelomično prenijeti nekom drugom (</a:t>
            </a:r>
            <a:r>
              <a:rPr b="0" i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ugovor o djelomičnom prijenosu dobiti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bvezuju da će svoje poduzeće ili dio svoga poduzeća (pogon) dati u zakup drugom (</a:t>
            </a:r>
            <a:r>
              <a:rPr b="0" i="1" lang="hr-HR" sz="2000" spc="-1" strike="noStrike" u="sng">
                <a:solidFill>
                  <a:srgbClr val="ffffff"/>
                </a:solidFill>
                <a:uFillTx/>
                <a:latin typeface="Tahoma"/>
              </a:rPr>
              <a:t>ugovor o zakupu poduzeća ili pogon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) ili da će svoje poduzeće ili dio svoga poduzeća prepustiti da ga drugi vodi u svoje ime i za svoj račun (</a:t>
            </a:r>
            <a:r>
              <a:rPr b="0" i="1" lang="hr-HR" sz="2000" spc="-1" strike="noStrike" u="sng">
                <a:solidFill>
                  <a:srgbClr val="ffffff"/>
                </a:solidFill>
                <a:uFillTx/>
                <a:latin typeface="Tahoma"/>
              </a:rPr>
              <a:t>ugovor o prepuštanju poduzeća ili pogon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cc00"/>
                </a:solidFill>
                <a:latin typeface="Tahoma"/>
              </a:rPr>
              <a:t>Poduzetnički ugovori – sklapanje, izmjena i prestanak (čl. 481-486. ZTD)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Sklapanje poduzetničkog ugovor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1. Suglasnost skupštine društva koje se obvezuje na karakterističnu činidbu (3/4 većina ili veća + dodatne pretpostavke; ako se radi o ugovoru o vođenju poslova društva ili o prijenosu dobiti, potrebna je i suglasnost skupštine drugog društva kapitala; pisani oblik ugovora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2. Uprava svakog društva čija skupština mora odobriti poduzetnički ugovor sastavlja izvješće o pravnim i gospodarskim razlozima sklapanja poduzetničkog ugovora, te primjerenosti naknade ili otpremnine i načinu njezinog određivanja (moguće i zajedničko izvješće) (čl. 481. ZTD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Povezana društva – pojam i svrha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vno samostalna trgovačka društva koja su međusobno povezana kapitalom ili poduzetničkim ugovor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z toga slijedi razlikovanje faktičnog i ugovornog konc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rvatsko pravo po uzoru na njemačko pravo sadrži posebne odredbe o povezanim društvima (tako i Slovenija, Portugal, Tajvan, Brazi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 drugim pravima se na povezana društva primjenjuju opći pravni instituti prava društava (GB, 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3. Obveza revizije poduzetničkog ugovora, a osobito primjerenosti naknade i otpremnine (revizore imenuje uprava ovisnog društva ili sud, revizija nije potrebna ako sve udjele u ovisnom društvu drži vladajuće društvo)(čl. 481.a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4. Mogućnost uvida u poduzetnički ugovor, izvješće uprave i izvješće revizora u sjedištu društva do održavanja skupštine društva koja daje suglasnost, kao i tijekom skupštine, kada ga uprava mora objasniti (čl. 481.b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5. Upis poduzetničkog ugovora u sudski registar onog društva koje se obvezalo na karakterističnu činidbu, konstitutivni učinak upisa (čl. 482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zmjena ugovora (čl. 483. ZTD) – izmjena samo uz suglasnost skupštine, primjena istog postupka kao i u slučaju sklapanja poduzetničkog ugovora; posebna suglasnost vanjskih dioničara ako se mijenjaju odredbe o naknadi ili otpremni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tkaz i raskid ugovora (čl. 484. i 485. ZTD) – odluku donosi uprava društva bez suglasnosti skupštine; pisani oblik otkaza ili raskida; posebna suglasnost vanjskih dioničara ako poduzetnički ugovor predviđa primjerenu naknadu ili otpremni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pis prestanka poduzetničkog ugovora u sudski registar (čl. 486. ZTD) – deklaratorni učin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cc00"/>
                </a:solidFill>
                <a:latin typeface="Tahoma"/>
              </a:rPr>
              <a:t>Poduzetnički ugovori – osiguranje društva i vjerovnika (čl. 487-490. ZTD)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Radi zaštite društva i vjerovnika zakon u slučaju sklapanja poduzetničkih ugovora predviđa posebne odredbe o formiranju zakonskih rezervi, najvišem iznosu prijenosa dobiti, preuzimanju gubitka ovisnog društva i zaštiti vjerovnika kogentne narav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Zakonske rezerve (čl. 487. ZTD) – obveza bržeg popunjavanja zakonskih rezervi ovisnog društva u slučaju sklapanja ugovora o prijenosu cijele dobiti ili ugovora o vođenju poslova društva; ako je sklopljen ugovor o djelomičnom prijenosu dobiti, primjena uobičajenog režima popunjavanja zakonskih rezerv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jviši iznos prijenosa dobiti (čl. 488. ZTD) – ograničenje iznosa dobiti ovisnog društva koja se prenosi na vladajuće društvo u slučaju sklapanja ugovora o prijenosu cijele dobiti ili djelomičnom prijenosu dobi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euzimanje gubitka ovisnog društva (čl. 489. ZTD) – u slučaju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kl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j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govor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o vođenju poslova društva ili o prijenosu dobiti,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vladajuće društvo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ora pokriti svaki godišnji gubitak koji nastane za vrijeme trajanja ugovora, ako ga se ne pokrije iz ostalih rezervi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oje su nastale iz dobiti ovinsog društva; 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ko j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sklopljen ugovor o zakupu pogona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ladajuće društvo mora pokriti svaki godišnji gubitak koji nastane za vrijeme trajanja ugovora, ako ugovorena protučinidba nije u visini primjerene naknad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ovisno društvo se može odreći prava na naknadu gubitka po proteku 3 godine od prestanka ugovora uz pristanak vanjskih dioničara i bez prigovora manjinskih dioničara (10 % temeljnog kapitala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štita vjerovnika (čl. 490. ZTD) – u slučaju prestanka ugovora o vođenju poslova društva ili o prijenosu dobiti, vladajuće društvo mora vjerovnicima ovisnog društva dati osiguranje, ako oni postave takav zahtjev u roku 6 mjeseci; pravo na osiguranje nemaju vjerovnici koji imaju pravo prvenstvene naplate u stečajnom postup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cc00"/>
                </a:solidFill>
                <a:latin typeface="Tahoma"/>
              </a:rPr>
              <a:t>Poduzetnički ugovori – osiguranje vanjskih dioničara (čl. 491-492. ZTD)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anjski dioničari (čl. 478.a ZTD) – u slučaju sklapanja ugovora o vođenju poslova društva ili o prijenosu dobiti, vanjski su dioničari oni dioničari ovisnog društva koji istodobno nisu i dioničari odnosno članovi vladajućeg društva; vanjski dioničar nije vladajuće društvo; to su i članovi d.o.o. ako je ono ovisno društ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anjski dioničari imaju pravo na primjerenu naknadu kojom im se nadoknađuju gubici koji nastaju uslijed izmijenjenog položaja ovisnog društva, odnosno pravo na otpremninu i istupanje iz ovisnog društ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imjerena naknada (čl. 491. ZTD) - u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ugovoru o vođenju poslova društva i o prijenosu dobiti mora se predvidjeti primjerena naknada vanjskim dioničarima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 ovisnog društva;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primjeren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a naknada nije potrebna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ko u trenutku sklapanja ugovora nema vanjskih dioničara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; p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imjerena naknada određuje se u visini godišnjih iznosa koji bi se mogli isplatiti kao predvidiva prosječna dividenda za pojedinu dionicu, odnosno udio uzimajući u obzir sadašnje i buduće stanje društva i odgovarajuće okolnosti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; ništavost ugovora kao nema primjerene naknade; ako je ona neprimjereno određena, određuje je sud na zahtjev vanjskog dioničara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koji mora podniieti u roku od 2 mjeseca od sklapanja ugovora; a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ko sud odredi primjerenu naknadu,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vladajuće društvo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može u roku od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mjeseca od pravomoćnosti odluke raskinuti ugovor, bez pridržavanja otkaznog rok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tpremnina (čl. 492. ZTD) - u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ovor o vođenju poslova društva i o prijenosu dobiti mora sadržavati obvezu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vladajućeg društv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da na zahtjev vanjskih dioničara preuzme njihove dionice, odnosno udjele u zamjenu za isplatu primjerene otpremnine koja je određena ugovorom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otpremnina se može dati u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ionic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a vladajućeg društva, i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i isplat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m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 novcu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ko se kao otpremnina daju dionic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vladajućeg društv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otpremnina se smatra primjerenom ako se dionice daju u omjeru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oji bi se davao u slučaju spajanja društava uz mogućnost doplata u novcu; 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ko ugovor ne sadržava odredbe o otpremnini ili ako se ona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eprimjeren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svaki vanjski dioničar može u roku od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jeseca od objave upisa ugovora u sudski registar zahtijevati od suda da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ju odredi; 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d će odrediti da se otpremnina isplati u novcu, ako ugovor ne predviđa stjecanje dionica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vladajućeg društv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Tahoma"/>
              </a:rPr>
              <a:t>Ovlasti i odgovornost u slučaju ovisnosti društva – ugovor o vođenju poslova društva (čl. 493-495. ZTD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avo vođenja poslova ovisnog društva (čl. 493. ZTD) -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govor o vođenju poslova društv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ovlašćuje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ladajuće društvo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a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pravi ovisnog društva d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put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ođenj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njezini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poslov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 pri čemu je moguće dati i štetne upute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ko služe interesima vladajućeg društva ili koncern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; u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ava ovisnoga društva mora slijediti upute vladajućeg društv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 a može ih odbiti ako je očito da one nisu u interesu vladajućeg društva ili koncerna; 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ko se upravi ovisnoga društva d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ju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put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eki posao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z potrebnu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uglasnost nadzornog odbor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 a odb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e dad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na vrijem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uprava to mora priopćiti vladajućemu društvu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u slučaju ako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ladajuće društvo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ponovi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putu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uglasnost nadzornog odbora više nije potrebn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ko vladajuće društvo ima nadzorni odbor, uputa se može ponoviti samo uz odobrenje tog odbo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dgovornost zakonskih zastupnika vladajućeg društva (čl. 494. ZTD) -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zakonski zastupnic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vladajućeg društva moraju pri davanju upute ovisnome društvu primijeniti pozornost urednog i savjesnog voditelja poslo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ako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ovrijede svoje obvez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zakonski zastupnici vladajućeg društva odgovaraju ovisnom društvu za naknadu štete kao solidarni dužnic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teret dokaza primjene dužne pozornosti pada na njih;ovisno 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uštvo može odustati od zahtjeva za naknadu štete ili se nagoditi po proteku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odine od nastanka prava na naknadu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uz suglasnost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vanjsk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dioničar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 i bez prigovora manjinskih dioničara (10 %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emeljnog kapital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); rok ne vrijedi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ko obveznik nije sposoban za plaćanje ili ako je radi otklanjanja ili izbjegavanja stečajnog postupka sklopio nagodbu sa svojim vjerovnicim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svaki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član društva mož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samo u korist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društva postaviti zahtjev za naknadu štet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a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vjerovnici društva, ako se ne mogu namiriti od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veza naknade štete vjerovnicima ne može se isključiti odricanjem ni nagodbom koju sklopi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visno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ruštvo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); z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htjevi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a naknadu štete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rema zakonskim zastupnicima zastaruju za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odi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vrha povezivanja trgovačkih društava jest njihovo okrupnjavanje radi mobilizacije resursa, prilagodbe tržištu i osvajanja novih tržišta; tome doprinosi i proces globalizacije gospodars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egativnosti pojave povezanih društava se očituju u monopolima na tržištu, nastanku štete za ovisna društva, njihove članove i vjerovnike te uspostava tehnološke ovisnosti ovisnih društava o vladajućim društ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imjeri povezanih društava: INA-MOL, Adris Grupa, Lu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dgovornost članova uprave i nadzornog odbora ovisnog društva (čl. 495. ZTD) – č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nov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prave i nadzornog odbora ovisnog društva odgovaraju kao solidarni dužnici, pored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konskih zastupnika vladajućeg društv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ako svojim djelovanjem povrijede svoje obvez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e (kontrola opravdanosti štetnih uputa, suglasnost nadzornog odbora i sl.); teret dokaza primjene dužne pozornosti pada na članove uprave i  nadužzornog odbora ovisnog društva; suglasnost nadzornog odbora ne isključuje o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vez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naknade štet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članova uprave ovisnog društva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e isključuje se time što se nadzorni odbor suglasio s nekom radnjom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odgovarajuća primjena odredbi o odricanju i nagodbi o zahtjevu o naknadi štet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 podnošenju zahtje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Tahoma"/>
              </a:rPr>
              <a:t>Ovlasti i odgovornost u slučaju ovisnosti društva – ostali slučajevi (ugovorna ili faktična povezanost)  (čl. 496-502. ZTD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Granice utjecaja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(čl.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496.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ZTD) -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ko nije sklopljen ugovor o vođenju poslova društva, vladajuće društvo ne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može davati štetne upute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visno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društv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osim ako se vladajuće društvo obveže da će ovisnom društvu nadoknaditi štetu koja bi mu time nastal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; a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ko se šteta ne nadoknadi u poslovnoj godini, mora se najkasnije na kraju poslovne godine u kojoj je ovisnom društvu počinjena šteta utvrditi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vrijeme i način namirenja štete; o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isnom društvu mora se osigurati pravo prvenstva pri podmirenju zahtje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zvješće uprav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visnog društv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o odnosima s povezanim društvim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(čl.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497.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ZTD) - 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ko nije sklopljen ugovor o vođenju poslova društva, uprava ovisnog društva mora u prva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jeseca poslovne godine izraditi izvješće o odnosima društva s povezanim društvim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(popis poslova poduzetih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 vladajućim društvom ili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skladu s njihovim uputama, razlozi poduzimanja radnji, mjere za uklanjanje šteta, primjerenost odštete);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zjav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o nadoknadi štet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nosi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 izvješće o stanju društv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izvješće se ne podnosi ako je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ko je između vladajućeg i ovisnog društva sklopljen ugovor o prijenosu dobi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Revizija izvješća o ovisnosti (čl. 498. ZTD) – obveza revizije ako tome podliježu godišnja financijska izvješća i izvješće o stanju ovisnog društv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spitivanje od strane nadzornog odbora ovisnog društva (čl. 499. ZTD) - u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ava mora izvješće o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visnosti i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zvješće revizora dostaviti nadzornome odboru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zorni odbor mora ispitati izvješće o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visnosti i izvješće o reviziji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 o tome izvijestiti glavnu skupštinu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kraju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svo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izvješća nadzorni odbor mora izjaviti ima li prigovora na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zvješće o ovisnosti i primjerenost naknade štete; obveza sudjelovanja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vizor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radu nadzornog odb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osebno ispitivanje (čl. 500. ZTD) - 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zahtjev nekog od dioničara ili člana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visnog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ruštva sud može odrediti da se posebno ispitaju poslovni odnosi društva s vladajućim društvom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a osobito: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ko je revizor ograničio izjavu ili ju je odbio dati,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ko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j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nadzorni odbor stav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prigovore na izjavu uprave na kraju svoga izvješća o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visnosti, 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ko je uprava izjavila da društvo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ije bilo primjereno obeštećeno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25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Odgovornost vladajućega društva i njegovih zakonskih zastupnika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(čl.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501.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ZTD) – ako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vladajuće društvo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dade štetne upute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 ovisno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 društv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u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s kojim nema ugovor o vođenju poslova društva, a da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se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štetu stvarno ne nadoknadi do kraja poslovne godine niti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se dade prednost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ovisnom društvu pri zahtjevu 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za naknadu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štet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, vladajuće društvo mora ovisnom društvu nadoknaditi svu štetu koja iz toga proizađe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; za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htjev za naknadu štete mogu pojedinačno postaviti i dioničari i članovi društva bez obzira na štetu koja im je prouzročena štetom počinjenom društvu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; uz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 vladajuć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 društv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, jamče kao solidarni dužnici i zakonski zastupnici društva, koji su 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dali štetne upute; n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ema obveze 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naknade štete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, ako bi uredan i savjestan voditelj poslova nekoga nezavisnoga društva ušao u takav pravni posao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25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Odgovornost 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tijela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ovisnog društva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(čl.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 502.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ZTD) - č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lanovi uprave ovisnog društva odgovaraju 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solidarno s zakonskim zastupnicima vladajućeg društva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 ako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povrijede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 svoje obveze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pri izradi izvješća o ovisnosti; teret dokaza dužne pozornosti pada na članove uprave; č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lanovi nadzornog odbora odgovaraju 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solidarno s zakonskim zastupnicima vladajućeg društva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ako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povrijede svoju obvezu da provjere izvješće o 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ovisnosti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o tome izvijeste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skupštinu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ovisnog društva; n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ema obveze da se nadoknadi šteta, ako se radnja temelji na zakonitoj odluci skupštine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00"/>
                </a:solidFill>
                <a:latin typeface="Tahoma"/>
              </a:rPr>
              <a:t>Priključena društva (čl. 503-510. ZTD)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iključenje predstavlja potpunu gospodarsku integraciju jednog društva kapitala u drugo, pri čemu oba zadržavaju svoju pravnu samostalnost; ono je stadij između povezanosti i fuzije društava; priključeno društvo zadržava svoju pravnu samostalnost radi očuvanja dobrog imena (good wi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rste priključenja: redovito priključenje i priključenje odlukom već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Redovito priključenje (čl. 503. ZTD) - glavna skupštin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d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.d. ili skupštin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d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.o.o. 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že donijeti odluku o priključenju društva drugome d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.d. ili d.o.o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čije je sjedište u R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(glavnom društvu), ako sve dionice društva, odnosno jedini udio u društvu drži buduće glavno društvo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tu se odluku ne primjenjuju odredbe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akona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 statuta o promjeni statut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); 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luka o priključenju je pravovaljana ako se s njome suglasi skupština budućeg glavnoga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pri čemu se ta odluka donosi ¾ većino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astupljenog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emeljnog kapitala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(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tutom se može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drediti i veća većin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i ispunjenje dodatnih pretpostavk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); omogućavanje uvida svim dioničarima i članovima društava koja sudjeluju u priključenju u odluku o priključenju, izvješće o priključenju i godišnja financijska izvješća i izvješća o stanju društva za zadnje 3 godine onih društava koja sudjeluju u priključenju, kao i tijekom trajanja skupštine; uprava mora objasniti priključenje; uprava priključenog društva mora podnijeti prijavu za upis priključenja u sudski registar u kojemu je ono upisano; konstitutivni učinak upis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riključenje odlukom većin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čl.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504.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ZTD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- 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kupština d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.d. ili d.o.o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že donijeti odluku o priključenju društva drugom d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.d. ili d.o.o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koje ima sjedište u R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i onda ako dionice društva, odnosno udio u društvu u ukupnom iznosu koji čini 95% temeljnog kapitala društva drži buduće glavno društvo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v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stite dionice i dionice koje netko drugi drži za račun društva odbijaju se od temeljnog kapitala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); odgovarajuća primjena odredbi o redovitom priključenju (čl.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503.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st. 1., 2., 6. i 7. ZTD); 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lašavanje priključenja kao točke dnevnoga reda skupštine valjano j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ko sadržava tvrtku i sjedište budućeg glavnog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i ponuda otpremnine dioničarima priključenog društva; priključenje moraju provjeriti revizori koje imenuje uprava budućeg glavnog društva, te sastaviti izvješće o reviziji i primjerenosti otpremnine; pravo uvida svih članova društava koja sudjeluju u priključenju prije i tijekom skupštine u odluku o priključenju, izvješće uprave budućeg glavnog društva o razlozima priključenja, godišnja financijska izvješća i izvješća o stanju društva svih društava koja sudjeluju u priključenju za zadnje 3 godine i izvješće o reviziji priključenja; na početku rasprave o davanju suglasnosti na priključenje, uprava ga mora objasniti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tpremnina dioničarima ili članovima priključenog društva (čl. 504.a ZTD) - upisom priključenja u sudski registar sve dionice, odnosno udjeli koje ne drži glavno društvo prelaze na to društvo; dioničari, odnosno imatelji udjela koji istupaju iz društva imaju pravo na primjerenu otpremninu (kao otpremnina se daju dionice glavnog društva ili isplate u novcu); svaki dioničar, odnosno član priključenog društva koji istupa iz društva može zahtijevati da sud odredi otpremninu, ako smatra da ona nije primjerena ili ako glavno društvo otpremninu nije uopće ponudilo u roku od 2 mjeseca od upisa priključenja u sudski registar (zbog toga se odluka o priključenju ne može pobijati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Zaštita vjerovnik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čl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505.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ZTD) -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Vjerovnicima priključenog društva mora s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dati osiguranje ako drugačije ne mogu podmiriti svoje tražbin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ako se u tu svrhu jave u roku od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mjeseci nakon objav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upisa priključenja; p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avo da se zahtijeva osiguranje nemaju vjerovnici koji u slučaju stečaja imaju prvenstveno pravo namirenja iz stečajne mas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dgovornost glavnog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čl. 506. ZTD) - 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 upisa priključenja glavno društvo odgovara vjerovnicima priključenog društva kao solidarni dužnik za obveze tog društva koje su nastale prije i koje nastanu nakon priključenj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glavno društvo može staviti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rigovore koji nisu njegovi osobni prigovori samo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ako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i ih moglo staviti i priključeno društvo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ako se radi o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zahtjev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m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za podmirenje obvez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priključenog društva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nastalih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rije priključenj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vno društvo može odbiti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pun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zahtjev vjerovnika sve dok priključeno društvo može pobijati pravni posao na temelju kojega je nastala obvez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ili ak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se vjerovnik može namiriti prijebojem protiv dospjele tražbine priključenog društv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vlasti glavnoga društva i odgovornost članova uprav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čl.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507.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ZTD) - 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vno društvo je ovlašteno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davati upute za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vođenja poslova upravi priključenog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uključujući i štetne uput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Zakonska rezer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ijenos dobit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p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euzimanje gubitk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čl. 508. ZTD) - 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 priključena društva ne primjenjuju se odredbe o stvaranju zakonske rezerve, o njez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 korištenju i o unošenju određenih iznosa u zakonsku rezervu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vno društvo je obvezno nadoknaditi svaki gubitak u računu dobiti i gubitka priključenoga društva, ako on prelazi iznose rezerv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00"/>
                </a:solidFill>
                <a:latin typeface="Tahoma"/>
              </a:rPr>
              <a:t>Povezana društva – vrste (čl. 473. ZTD)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uštva povezana kapital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uštvo s većinskim sudjelovanjem u drugom društvu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isno i vladajuće društv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uštvo koncern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uštva s uzajamnim udjel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Obavještavanje dioničara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ili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članova glavnog društva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(čl. 509. ZTD) – s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vakom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dioničaru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ili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članu glavnog društva moraju se dati obav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je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sti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 o priključenom društvu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i poslovima glavnog društva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restanak priključenj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čl. 510. ZTD) - p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iključenje prestaje: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. odlukom skupštine priključenog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. ako glavno društvo više nije d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ruštvo kapitala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a sjedištem u R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H,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3. ako glavno društvo više ne drži sve dionice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dnosno udjel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priključenog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4. prestankom glavnog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lavno društvo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mora bez odgode izvijestiti priključeno društvo da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više ne drži sve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njegove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ionice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dnosno udjele; 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 tada priključeno društvo mora bez odg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de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odnijeti prijavu za upis prestanka priključenja u sudski registar, razlog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vrijeme prestanka priključenj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z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htjevi prema ranij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lavnom društvu za podmirenje obveza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ranijeg priključenog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ruštva zastaruju za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odina od dana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bjave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upis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prestanka priključenja u sudski registar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izuzev ako zahtjevi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rema priključenom društvu ne zastaruj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u kraćem roku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); 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ko zahtjev vjerovnika dospijeva nakon dana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bjave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upis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prestanka priključenja u sudski registar, zastar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počinje teći s danom dospijeća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uštva povezana poduzetničkim ugovori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govor o vođenju poslova društva/ugovor o prijenosu dobit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tali poduzetnički ugovor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cc00"/>
                </a:solidFill>
                <a:latin typeface="Tahoma"/>
              </a:rPr>
              <a:t>Društvo s većinskim sudjelovanjem u drugom društvu (čl. 474. ZTD)</a:t>
            </a:r>
            <a:endParaRPr b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ko jedno društvo ima većinu udjela ili većinsko pravo odlučivanja u drugome pravno samostalnome društvu (većinsko sudjelovanje), smatra se da se to drugo društvo nalazi u većinskome sudjelovanju, a prvo društvo s većinskim sudjelovanjem u njem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 većinskom sudjelovanju govorimo kad jedno trgovačko društvo ima više od 50 % udjela u temeljnom kapitalu drugog trgovačkog društva, ali bi to mogao biti i niži poslovni udio (25-50 %) u određenim slučajev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zračunavanje udjela -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dio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oji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ipada jednom društvu određuje se na temelju odnosa nominalnog iznosa udjela koji mu pripada prema ukupnom temeljnom kapitalu drugog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odnosno brojem tih dionica, ako je to društvo izdalo dionice bez nominalnog iznosa (v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stite udjele društva treba odbiti od temeljnoga kapital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; s njima s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zjednačuju udjeli koji pripadaju nekom drugom tko ih drži za račun toga društv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);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j glasova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oji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 skupštini društva pripada nekom društvu određuje se prema odnosu broja glasova koje ono može koristiti na temelju udjela koji mu pripadaju, prema ukupnom broju svih glasov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(o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 ukupnog broja glasova moraju se odbiti glasovi koji pripadaju vlastitim udjelima i udjelima koje netko drugi drži za račun toga društv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računavanje udjela - k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o udjeli koji pripadaju društvu računaju se i oni udjeli koji pripadaju društvu koje je o njemu ovisno ili koje za njegov račun ili za račun društva koje je o njemu ovisno drži netko drugi, a ako društvo pripada trgovcu pojedincu i udjeli koji inače ulaze u njegovu imovin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00"/>
                </a:solidFill>
                <a:latin typeface="Tahoma"/>
              </a:rPr>
              <a:t>Ovisno i vladajuće društvo (čl. 475. ZTD)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isno društvo je pravno samostalno društvo na koje neko drugo društvo (vladajuće društvo) ima neposredno ili posredno prevladavajući utjecaj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d prevladavajućim utjecajem se podrazumijeva mogućnost vladajućeg društva da utječe na vođenje poslova i donošenje odluka u ovisnom društv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0:44:56Z</dcterms:created>
  <dc:creator>Dionis</dc:creator>
  <dc:description/>
  <dc:language>en-US</dc:language>
  <cp:lastModifiedBy>SAlebic</cp:lastModifiedBy>
  <dcterms:modified xsi:type="dcterms:W3CDTF">2007-04-19T06:29:24Z</dcterms:modified>
  <cp:revision>8</cp:revision>
  <dc:subject/>
  <dc:title>Povezana društva</dc:title>
</cp:coreProperties>
</file>