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6863D-8D83-45E7-8CDA-F7DB7666C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673BC-DDBF-430C-BF21-C5BE220D3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CE52B-9AB9-40EA-8124-66437BB33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82E7B-C7F3-448C-9A6C-03916B4C3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066C1-B417-4D2A-84FC-7259FAF21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96ABF-700F-4F2E-B9D0-B89C6FE82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CA602-BA97-4C9F-96E3-7BA10528C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D1A57-3FF2-4701-98C8-27E035D28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E383F-3311-4CE0-AC10-5913D280E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EE12A-8C3F-4DA7-9879-C5A7E40AA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AF935-E28A-40D6-BB9D-E807238E2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426FC-51D5-4E3A-9E39-6208B99E8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00C07-691E-4529-86A4-AE02D364F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EC935-9D37-4A32-A79B-7178AEA6C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8AB36-6FCD-494A-951C-242FA14E0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864B3-0DC9-4FB3-A0BE-678D89F57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48C05-7CFA-4E86-AC92-B99EB0120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44334-E4A8-4613-809D-950E4D529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9DE6-FDEF-4DF9-A8C1-D5BC14388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18364-98D3-486F-8B02-642710851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B134C-D118-47BE-8158-AA7B0C9B0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C537A-45A4-4ED6-B500-2F5524CF3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9FB85-EBD7-40B5-905A-2C9F0D3F9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A03A-8EDA-4CA3-AE9A-C142AC1B6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9764-F7F7-4ECA-8425-D9C9A4FFD67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53CB-0758-430E-9AA0-E0538390569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eaeaea"/>
                </a:solidFill>
                <a:latin typeface="Tahoma"/>
              </a:rPr>
              <a:t>Smanjenje temeljnog kapitala dioničkog društva – ništavost i pobojnost odluka glavne skupštine</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luku o smanjenu donosi gl. skupština ¾ većinom (statutom je moguće odrediti i veću većinu i dodatne pretpostavke) uz posebnu suglasnost imatelja dionica različitih rodova; smanjenje se provodi smanjenjem nominalnih iznosa dionica ili njihovim spajanjem</a:t>
            </a: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govarajuća primjena odredbi čl. 343-344. i 346-348. ZTD</a:t>
            </a: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znosi dobiveni pojednostavnjenim smanjenjem temeljnog kapitala ne smiju se isplatiti dioničarima i ne mogu se koristiti za to da ih se oslobodi od uplate uloga (čl. 350. ZTD), čime se štite vjerovnici društva</a:t>
            </a: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brana isplate dobiti dioničarima sve dok zakonske rezerve i kapitalna dobit ne dosegnu iznos od 5 % temeljnog kapitala (temeljni kapital je nominalni iznos koji proizlazi iz smanjenja kapitala ali ne manji od zakonskog minimuma) čime se financijski jača društvo i štite vjerovnici (čl. 351. st. 1. ZT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abrana isplate dividende koja bi prelazila iznos od 4 % temeljnog kapitala koji otpada na dionicu prije isteka 2 godine od proteka poslovne godine u kojoj je donesena odluka o smanjenju temeljnog kapitala (čl. 351. st. 2. ZTD); isplata preko tog iznosa je moguća ako je vjerovnicima dano osiguranje ili su im podmirene tražbine uz uvjet da su tražbine nastale prije upisa odluke o smanjenju u sudski registar i da su podnijeli zahtjev za osiguranje u roku od 6 mjeseci od objave financijskih izvješća na temelju kojeg je donesena odluka o isplati dividende; ovime se štite vjerovnici, s obzirom na činjenicu da smanjenjem temeljnog kapitala olakšava isplata dividende</a:t>
            </a: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manjenje temeljnog kapitala povlačenjem dionica</a:t>
            </a:r>
            <a:endParaRPr b="1" lang="en-US" sz="40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od ovog načina smanjenja temeljnog kapitala uvijek dolazi do promjene dioničarske strukture, budući da se povlače točno određene dionice; za nominalni iznos povučenih dionica dolazi do smanjenja temeljnog kapitala</a:t>
            </a:r>
            <a:endParaRPr b="0" lang="en-US" sz="2400" spc="-1" strike="noStrike">
              <a:solidFill>
                <a:srgbClr val="ffffff"/>
              </a:solidFill>
              <a:latin typeface="Tahoma"/>
            </a:endParaRPr>
          </a:p>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vrha ovog načina smanjenja temeljnog kapitala može biti saniranje društva, vraćanje dioničarima njihovih uplata, prijenos uplata iz temeljnog kapitala u rezerve društva, isključenje dioničara, eliminacija određenog roda dionica ili vinkuliranih dionica i sl.</a:t>
            </a:r>
            <a:endParaRPr b="0" lang="en-US" sz="2400" spc="-1" strike="noStrike">
              <a:solidFill>
                <a:srgbClr val="ffffff"/>
              </a:solidFill>
              <a:latin typeface="Tahoma"/>
            </a:endParaRPr>
          </a:p>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vlačenje dionica treba razlikovati od isključenja dioničara zbog nepravodobne uplate i stjecanja vlastitih dionica, budući da u tim slučajevima one i dalje egzistiraju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ioničko društvo može povući dionice prisilno, ako je to bilo naređeno ili dopušteno u statutu društva ili njegovoj izmejni i dopuni do koje je došlo prije preuzimanja ili upisa dionica, kao i kada se radi o vlastitim dionicama koje je steklo društvo (čl. 352. ZTD)</a:t>
            </a:r>
            <a:endParaRPr b="0" lang="en-US" sz="2400" spc="-1" strike="noStrike">
              <a:solidFill>
                <a:srgbClr val="ffffff"/>
              </a:solidFill>
              <a:latin typeface="Tahoma"/>
            </a:endParaRPr>
          </a:p>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luku o povlačenju dionica donosi gl. skupština ¾ većinom (primjena odredbi o redovnom smanjenju temeljnog kapitala); u statutu ili odluci gl. skupštine određuju se pretpostavke za prisilno povlačenje i način njegove provedbe; dioničarima pripada pravo na naknadu za povučene dionice, ali tek po proteku 6 mjeseci od objave upisa odluke o povlačenju dionica u sudski registar i uz prethodno davanje osiguranja i isplate tražbina vjerovnicima društv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redbe o redovnom smanjenju temeljnog kapitala ne primjenjuju se ako su dionice u cijelosti uplaćene te su besplatno dane na raspolaganje društvu, ili su povučene na teret dobiti ili ostalih rezervi, ili se radi o dionicama bez nominalnog iznosa te je odlukom gl. skupštine određeno da se povlačenjem dionica povećava udio preostalih dionica u temeljnom kapitalu društva; tada odluku o smanjenju temeljnog kapitala povlačenjem dionica donosi gl. skupština običnom većinom (čl. 352. st. 3. i 4. ZTD); u tim slučajevima se u kapitalnu dobit društva unose iznosi koji otpadaju na povučene dionice te se oni ne smiju isplatiti dioničarima, čime se štite vjerovnici (čl. 352. st. 5. ZTD)</a:t>
            </a:r>
            <a:endParaRPr b="0" lang="en-US" sz="2000" spc="-1" strike="noStrike">
              <a:solidFill>
                <a:srgbClr val="ffffff"/>
              </a:solidFill>
              <a:latin typeface="Tahoma"/>
            </a:endParaRPr>
          </a:p>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ko je prisilno povlačenje dionica naređeno statutom, odluku o povlačenju dionica donosi uprava društva (čl. 352. st. 6. ZTD)  </a:t>
            </a:r>
            <a:endParaRPr b="0" lang="en-US" sz="2000" spc="-1" strike="noStrike">
              <a:solidFill>
                <a:srgbClr val="ffffff"/>
              </a:solidFill>
              <a:latin typeface="Tahoma"/>
            </a:endParaRPr>
          </a:p>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isom odluke o smanjenju temeljnog kapitala u sudski registar, a ako su dionice povučene nakon toga, njihovim povlačenjem dolazi do smanjenja temeljnog kapitala; za povlačenje je dovoljno poništenje prava iz određenih dionica (čl. 353. ZTD)   </a:t>
            </a:r>
            <a:endParaRPr b="0" lang="en-US" sz="2000" spc="-1" strike="noStrike">
              <a:solidFill>
                <a:srgbClr val="ffffff"/>
              </a:solidFill>
              <a:latin typeface="Tahom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veza podnošenja prijave smanjenja temeljnog kapitala u sudski registar, prijavu smanjenja i odluke o smanjenju moguće obaviti istovremeno (čl. 354. ZT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eaeaea"/>
                </a:solidFill>
                <a:latin typeface="Tahoma"/>
              </a:rPr>
              <a:t>Ništavost i pobojnost odluka </a:t>
            </a:r>
            <a:br>
              <a:rPr sz="4000"/>
            </a:br>
            <a:r>
              <a:rPr b="1" lang="hr-HR" sz="4000" spc="-1" strike="noStrike">
                <a:solidFill>
                  <a:srgbClr val="eaeaea"/>
                </a:solidFill>
                <a:latin typeface="Tahoma"/>
              </a:rPr>
              <a:t>glavne skupštine</a:t>
            </a:r>
            <a:endParaRPr b="1" lang="en-US" sz="40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zlozi za ništavost odluka gl. skupštine (čl. 355. ZTD) – </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nepoštivanje odredbi o uvjetnom povećanju kapitala; </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nepoštivanje odredbi o sudjelovanju novih dionica u dobiti društva; </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 nepoštivanje odredbi o istodobnom upisu odluke o povećanju i smanjenju kapitala; </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 nepoštivanje odredbi o reviziji godišnjeg financijskog izvješća koje utvrđuje gl. skupština; </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 nedostaci u sazivanju gl. skupštine (ovlaštenje uprave, objava poziva), osim ako su sudjelovali svi dioničari na gl. skupštini; </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 neunošenje odluke u zapisnik na način propisan zakonom;</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 neusklađenost odluke s biti društva ili se njome vrijeđaju propisi o zaštiti interesa vjerovnika ili javni interes; </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 odluka je suprotna moralu; </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ništavost odluke na temelju presude povodom tužbe za pobijanje odluk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ogućnost konvalidacije ništave odluke (čl. 356. ZTD) – upisom odluke u sudski registar, ako nije prethodno unesena u zapisnik, ona konvalidira; na ništavost odluke se nije moguće pozivati po proteku 3 godine od njezina upisa u sudski registar zbog formalnih nedostataka u donošenju, neskladu s biti društva ili interesima vjerovnika i javnom interesu ili nemoral; ako se s odlukom suglase svi dioničari koji nisu bili uredno pozvani (poimence poznati dioničari kojima se šalje preporučeno pismo); ovo se primjenjuje i u slučaju nepravodobnog upisa odluka o povećanju i smanjenju temeljnog kapitala  </a:t>
            </a:r>
            <a:endParaRPr b="0" lang="en-US" sz="20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 ništavost se može pozivati tužbom i na bilo koji drugi način (primjena odredbi o tužbi za pobijanje); ništava odluka nema pravni učinak, osim u slučajevima kada može konvalidirati; obveza povrata društvu onoga što je stečeno na temelju ništave odluke (čl. 356. ZTD</a:t>
            </a:r>
            <a:r>
              <a:rPr b="0" lang="hr-HR"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ištavost odluke o izboru članova nadzornog odbora (čl. 358. ZTD) – razlozi za to mogu biti formalni nedostaci u donošenju odluke, pravomoćna presuda u povodu tužbe za pobijanje, njegov sastav protivan zakonu ili statutu, izbor osobe koja nije bila predložena sukladno zakonu ili statutu, izbor većeg broja članova od propisanog, ili ako izabrana osoba ne ispunjava zakonske uvjete za tu dužnost</a:t>
            </a: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ištavost odluke o usvajanju godišnjih financijskih izvješća (čl. 359. ZTD) – razlozi: sadržaj godišnjih financijskih izvješća suprotan propisima koji štite interese vjerovnika društva, neobavljanje revizije ili neovlaštena osoba koja je obavila reviziju, nepoštivanje odredbi o unosu sredstava u rezerve i korištenju sredstava iz njih; ništavost odluke o utvrđenju godišnjih financijskih izvješća uprave i nadzornog odbora, odnosno gl. skupštine dovode i do ništavosti odluke o upotrebi dobiti</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542160" indent="-54216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azlozi za pobojnost odluka gl. skupštine (čl. 360. ZTD) – </a:t>
            </a:r>
            <a:endParaRPr b="0" lang="en-US" sz="2800" spc="-1" strike="noStrike">
              <a:solidFill>
                <a:srgbClr val="ffffff"/>
              </a:solidFill>
              <a:latin typeface="Tahoma"/>
            </a:endParaRPr>
          </a:p>
          <a:p>
            <a:pPr marL="542160" indent="-542160">
              <a:lnSpc>
                <a:spcPct val="80000"/>
              </a:lnSpc>
              <a:spcBef>
                <a:spcPts val="700"/>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dluka je donesena protivno zakonu ili statutu,</a:t>
            </a:r>
            <a:endParaRPr b="0" lang="en-US" sz="2800" spc="-1" strike="noStrike">
              <a:solidFill>
                <a:srgbClr val="ffffff"/>
              </a:solidFill>
              <a:latin typeface="Tahoma"/>
            </a:endParaRPr>
          </a:p>
          <a:p>
            <a:pPr marL="542160" indent="-542160">
              <a:lnSpc>
                <a:spcPct val="80000"/>
              </a:lnSpc>
              <a:spcBef>
                <a:spcPts val="700"/>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dlukom je određeni dioničar pribavio za sebe ili trećega korist na štetu društva ili drugih dioničara (ovaj razlog je isključen ako su ostali dioničari obeštećeni)</a:t>
            </a:r>
            <a:endParaRPr b="0" lang="en-US" sz="2800" spc="-1" strike="noStrike">
              <a:solidFill>
                <a:srgbClr val="ffffff"/>
              </a:solidFill>
              <a:latin typeface="Tahoma"/>
            </a:endParaRPr>
          </a:p>
          <a:p>
            <a:pPr marL="542160" indent="-542160">
              <a:lnSpc>
                <a:spcPct val="80000"/>
              </a:lnSpc>
              <a:spcBef>
                <a:spcPts val="700"/>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ko se odluka pobija zbog uskraćenog davanja obavijesti, ovaj razlog nije relevantan ako gl. skupština ili dioničari izjave da ta uskrata nije utjecala na donošenje odluke</a:t>
            </a:r>
            <a:endParaRPr b="0" lang="en-US" sz="2800" spc="-1" strike="noStrike">
              <a:solidFill>
                <a:srgbClr val="ffffff"/>
              </a:solidFill>
              <a:latin typeface="Tahoma"/>
            </a:endParaRPr>
          </a:p>
          <a:p>
            <a:pPr marL="542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manjenje temeljnog kapitala dioničkog društva</a:t>
            </a:r>
            <a:endParaRPr b="1" lang="en-US" sz="40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zlozi za smanjenje temeljnog kapitala mogu biti:</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manjenje pasive društva, budući da se temeljni kapital iskazuje u pasivi (ako je pasiva veća od aktive)</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manjenje temeljnog kapitala radi oslobađanja sredstava koja će se staviti u rezerve društva ili će se isplatiti dioničarima (u slučaju ako su pasiva i aktiva jednake)</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lakšanje isplate dividende ili oslobođenje od obveze uplate neuplaćenog dijela preuzetih dionica</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mogućavanje podjele dioničkog društva</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todobno smanjenje i povećanje temeljnog kapitala u slučaju smanjenja iznosa temeljnog kapitala ispod zakonskog minimuma, radi pokrivanja gubitaka ili smanjenje prava dioničara</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gućnost naknadne potvrde pobijane odluke (čl. 361. ZTD) – ne može se pobijati odluka koju je gl. skupština potvrdila novom odlukom, a ta nova odluka se ne pobija u propisanom roku ili je tužba za pobijanje te odluke pravomoćno odbijena; mogućnost da tužitelj koji ima pravni interes traži privremenu ništavost odluke do donošenja nove odluk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vlaštenje za pobijanje odluke (čl. 362. ZTD) – dioničar koji je  sudjelovao na gl. skupštini i izjavio protivljenje u zapisnik; dioničar koji nije sudjelovao na gl. skupštini zbog pogrešne zabrane da sudjeluje, neurednog sazivanja gl. skupštine ili nevaljane objave predmeta odlučivanja; svaki dioničar u slučaju zloupotrebe prava glasa određenog dioničara; uprava društva, svaki član uprave ili nadzornog odbora kao bi se provedbom odluke počinila kažnjiva, nezakonita ili štetna radnj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žba za pobijanje (čl. 363. ZTD) – tužba se mora podići u roku od 30 dana od donošenja odluke (ako je tužitelj prisustvovao gl. skupštini rok teče od prvog dana nakon zaključenja gl. skupštine, a ako nije prisustvovao od prvog dana nakon što je mogao saznati za odluku); tužba se podiže protiv društva koje zastupaju uprava i nadzorni odbor (ako tužbu podnese neku član uprave ili nadzornog odbora, društvo zastupa nadzorni odbor ili uprava); spajanje više postupaka koji se vode o pobijanju i hitnost postupka; objava tužbe i ročišta u glasilu društva; sud može privremenom mjerom zaustavit primjenu sporne odluke ako društvu može nastati nepopravljiva šte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dređivanje vrijednosti predmeta spora (čl. 363.a ZTD) – sud može odrediti da tužitelj snosi troškove razmjerno svom imovinskom stanju (osobito ako se radi o malom dioničaru); vrijednost predmeta spora koju određuje sud smije biti veća od 10 % iznosa temeljnog kapitala ili više od 4.000.000,00 kuna</a:t>
            </a:r>
            <a:endParaRPr b="0" lang="en-US" sz="2400" spc="-1" strike="noStrike">
              <a:solidFill>
                <a:srgbClr val="ffffff"/>
              </a:solidFill>
              <a:latin typeface="Tahoma"/>
            </a:endParaRPr>
          </a:p>
          <a:p>
            <a:pPr marL="312120" indent="-3121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činak pobijanja (čl. 364. ZTD) – presuda djeluje prema svim dioničarima i članovima uprave i nadzornog odbora, neovisno jesu li bile stranke u sporu; uprava mora dostaviti presudu bez odgode u sudski registar radi upisa, te se mora objaviti; ako je odlukom mijenjan statut, potrebno je dostaviti i potpuni tekst statuta ovjeren od javnog bilježnik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bijanje odluke o upotrebi dobiti (čl. 365. ZTD) – mogućnost pobijanja odluke o upotrebi dobiti iz svih razloga kao i za svaku drugu odluku gl. skupštine, kao i u slučaju ako se dobit ne dijeli, a to bi trebalo učiniti s obzirom na okolnosti poslovanja društva (uvjet da pravo na podjelu nije isključeno zakonom ili statutom); tužbu za pobijanje mogu podići manjinski dioničari čije dionice čine 5 % temeljnog kapitala ili iznos od najmanje 4.000.000,00 kuna, kao i nadzorni odbor</a:t>
            </a:r>
            <a:endParaRPr b="0" lang="en-US" sz="2000" spc="-1" strike="noStrike">
              <a:solidFill>
                <a:srgbClr val="ffffff"/>
              </a:solidFill>
              <a:latin typeface="Tahoma"/>
            </a:endParaRPr>
          </a:p>
          <a:p>
            <a:pPr marL="318960" indent="-31896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bijanje odluke o povećanju temeljnog kapitala društva ulozima (čl. 366. ZTD) - mogućnost pobijanja odluke o upotrebi dobiti iz svih razloga kao i za svaku drugu odluku gl. skupštine, kao i u slučaju ako je u cjelini ili djelomično isključeno pravo dioničara da stječu dionice, a iznos za koji su one izdaju ili najniži iznos ispod kojeg se one neće izdavati je neprimjereno nizak (to ne vrijedi ako dionice treba preuzeti netko treći te ih ponuditi za stjecanje dioničarima); time se štite manjinski dioničari i njihova postojeća prava u društvu (pravo prvenstva)</a:t>
            </a:r>
            <a:endParaRPr b="0" lang="en-US" sz="2000" spc="-1" strike="noStrike">
              <a:solidFill>
                <a:srgbClr val="ffffff"/>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rste smanjenja temeljnog kapitala:</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dovno smanjenje temeljnog kapitala (čl. 342-348. ZTD)</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Pojednostavnjeno smanjenje temeljnog kapitala (čl. 349-351. ZTD)</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Smanjenje temeljnog kapitala povlačenjem dionica (čl. 352-354. ZTD)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dovno smanjenje temeljnog kapitala</a:t>
            </a: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luku o redovnom smanjenju temeljnog kapitala donosi gl. skupština ¾ većinom; statutom je moguće odrediti i veću većinu i ispunjenje dodatnih pretpostavki (čl. 342. ZTD)</a:t>
            </a:r>
            <a:endParaRPr b="0" lang="en-US" sz="2000" spc="-1" strike="noStrike">
              <a:solidFill>
                <a:srgbClr val="ffffff"/>
              </a:solidFill>
              <a:latin typeface="Tahoma"/>
            </a:endParaRPr>
          </a:p>
          <a:p>
            <a:pPr marL="305280" indent="-305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ko je društvo izdalo više rodova dionica, suglasnost za smanjenje temeljnog kapitala moraju dati dioničari svakoga roda posebno na posebnoj skupštini ili na odvojenom glasovanju na gl. skupštini</a:t>
            </a:r>
            <a:endParaRPr b="0" lang="en-US" sz="2000" spc="-1" strike="noStrike">
              <a:solidFill>
                <a:srgbClr val="ffffff"/>
              </a:solidFill>
              <a:latin typeface="Tahoma"/>
            </a:endParaRPr>
          </a:p>
          <a:p>
            <a:pPr marL="305280" indent="-305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 odluci o smanjenju mora se navesti svrha smanjenja temeljnog kapitala, a osobito ako se dijelovi tog kapitala vračaju dioničarima, iznos smanjenja temeljnog kapitala i način smanjenja temeljnog kapitala</a:t>
            </a:r>
            <a:endParaRPr b="0" lang="en-US" sz="2000" spc="-1" strike="noStrike">
              <a:solidFill>
                <a:srgbClr val="ffffff"/>
              </a:solidFill>
              <a:latin typeface="Tahoma"/>
            </a:endParaRPr>
          </a:p>
          <a:p>
            <a:pPr marL="305280" indent="-305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meljni kapital se smanjuje smanjenjem nominalnih iznosa dionica, ako je društvo izdalo dionice s nominalnim iznosima; ako bi smanjenjem temeljnog kapitala nominalni iznos pojedine dionice pao ispod zakonskog minimuma, smanjenje se provodi spajanjem dionica; ako je društvo izdalo dionice bez nominalnih iznosa smanjenje se provodi bez zadiranja u broj dionica, ali valja voditi računa o najnižem nominalnom iznosu dioni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dluka o smanjenju temeljnog kapitala se podnosi na upis u sudski registar, te se prijavi prilažu prijepisa zapisnika s gl. skupštine i primjerak izmijenjenog statuta, koji su ovjereni od javnog bilježnika (čl. 343. ZTD); upis u sudski registar ima konstitutivni učinak (čl. 344. ZTD)</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štita vjerovnika društva (čl. 345. ZTD) – smanjenjem temeljnog kapitala mogu se ugroziti interesi vjerovnika, pa ZTD vjerovnicima čije su tražbine nastale prije objave upisa odluke u sudski registar i koji ne mogu tražiti da ih se podmiri daje pravo da traže osiguranje; vjerovnici takav zahtjev moraju podnijeti u roku od 6 mjeseci od objave odluke te ih se na to pravo mora upozoriti u objavi; osiguranje ne mogu tražiti vjerovnici koji u slučaju stečaja imaju pravo prvenstvenog namirenja iz stečajne mase dužnika (oni su već osigurani, tako i u slučaju ako vjerovnik ima zalog pokretnine, hipoteku, jamstvo, bankarsku garanciju, fiducijarno vlasništvo i sl.)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 temelju smanjenja temeljnog kapitala moguće su isplate dioničarima po proteku 6 mjeseci od objave upisa odluke o smanjenju u sudski registar i nakon što su vjerovnici na svoj zahtjev dobili osiguranje ili su im plaćene tražbine; dioničare nije moguće osloboditi obveze uplate uloga prije navedenog vremena ni prije podmirenja vjerovnika ili davanja osiguranja na temelju pravovremenog zahtjeva; pravo vjerovnika na osiguranje ne ovisi o eventualnim plaćanjima dioničarima na temelju smanjenja temeljnog kapitala (čl. 345. st. 2. i 3. ZT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glašavanje isprava o dionicama nevažećim (čl. 346. ZTD) – u slučaju ako pri smanjenju temeljnog kapitala dođe do spajanja dionica (zamjenom, pečatiranjem i sl.), društvo može oglasiti nevažećim one dionice koje mu nisu predane unatoč postavljenom pozivu, kao i u slučaju ako se radi o predanim dionicama čiji broj nije dovoljan za zamjenu s novim dionicama, a ako te predane dionice nisu stavljene na raspolaganje društvu da ih ono unovči za račun ovlaštenika; u pozivu za predaju mora se upozoriti na posljedice nepredaje te se on oglašava u glasilu društva (prethodno davanje naknadnog roka za predaju putem preporučenog pisma); dionice se oglašavaju nevažećim u glasilu društva; nove dionice koje treba izdati umjesto nevažećih dionica društvo mora odmah prodati za račun ovlaštenika na burzi ili javnim nadmetanjem vodeći računa o najpovoljnijoj cijen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sudski registar se podnosi prijava za upis smanjenja temeljnog kapitala zajedno s prijavom odluke o smanjenju temeljnog kapitala; ovaj upis ima deklaratorni značaj (čl. 347. ZTD) </a:t>
            </a: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ogućnost smanjenja temeljnog kapitala ispod zakonskog minimuma, uz uvjet istodobnog povećanja temeljnog kapitala na zakonski minimum, osima ako se to povećanje ne ostvaruje ulozima u stvarima i pravima (čl. 348. ZTD); odluka o smanjenju i povećanju temeljnog kapitala se mora upisati u sudski registar u roku od 6 mjeseci od donošenja odluke o povećanju, inače su ništave; u taj rok se ne računa vrijeme trajanja spora povodom tužbe za pobijanje ili oglašavanje ništavom odluke gl. skupštine; odluke i povećanje temeljnog kapitala se mogu upisati samo zajedno u sudski registar; ovime se odstupa od pravila da se smanjenjem temeljnog kapitala ne smije ići ispod zakonskog minimuma radi saniranja dioničkog društva</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ojednostavnjeno smanjenje temeljnog kapitala</a:t>
            </a:r>
            <a:endParaRPr b="1" lang="en-US" sz="40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jednostavnjeno smanjenje temeljnog kapitala je moguće radi saniranja društva i to onda kada je već potrošen dio kapitalne dobiti i dio rezervi društva u visini većoj od 5 % temeljnog kapitala koji preostane nakon smanjenja kapitala i rezervi; smanjenje nije dopušteno dok društvo ima neraspoređenu dobit</a:t>
            </a:r>
            <a:endParaRPr b="0" lang="en-US" sz="2000" spc="-1" strike="noStrike">
              <a:solidFill>
                <a:srgbClr val="ffffff"/>
              </a:solidFill>
              <a:latin typeface="Tahoma"/>
            </a:endParaRPr>
          </a:p>
          <a:p>
            <a:pPr marL="308520" indent="-3085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apitalnu dobit (kapitalne rezerve) čine svote ostvarene kod emitiranja dionica super pari, svote ostvarene kod izdavanja zamjenjivih obveznica za stjecanje prava prvokupa i zamjenu za dionice, svote od dodatnih uplata koje uplaćuju dioničari kao jamstvo za povlaštenost njihovih dionica i svote drugih dodatnih uplata koje uplaćuju dioničari u vlastiti kapital </a:t>
            </a:r>
            <a:endParaRPr b="0" lang="en-US" sz="2000" spc="-1" strike="noStrike">
              <a:solidFill>
                <a:srgbClr val="ffffff"/>
              </a:solidFill>
              <a:latin typeface="Tahoma"/>
            </a:endParaRPr>
          </a:p>
          <a:p>
            <a:pPr marL="308520" indent="-3085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vrha smanjenja temeljnog kapitala na pojednostavnjeni način može biti samo: </a:t>
            </a:r>
            <a:endParaRPr b="0" lang="en-US" sz="2000" spc="-1" strike="noStrike">
              <a:solidFill>
                <a:srgbClr val="ffffff"/>
              </a:solidFill>
              <a:latin typeface="Tahom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pokriće (izravnavanje) smanjenja imovine društva, </a:t>
            </a:r>
            <a:endParaRPr b="0" lang="en-US" sz="2000" spc="-1" strike="noStrike">
              <a:solidFill>
                <a:srgbClr val="ffffff"/>
              </a:solidFill>
              <a:latin typeface="Tahom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pokrivanje gubitaka, i </a:t>
            </a:r>
            <a:endParaRPr b="0" lang="en-US" sz="2000" spc="-1" strike="noStrike">
              <a:solidFill>
                <a:srgbClr val="ffffff"/>
              </a:solidFill>
              <a:latin typeface="Tahom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 prijenos sredstava u kapitalnu dobit i zakonske rezerve (čl. 349. ZT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09:47:36Z</dcterms:created>
  <dc:creator>Dionis</dc:creator>
  <dc:description/>
  <dc:language>en-US</dc:language>
  <cp:lastModifiedBy>SAlebic</cp:lastModifiedBy>
  <dcterms:modified xsi:type="dcterms:W3CDTF">2007-04-19T06:18:58Z</dcterms:modified>
  <cp:revision>9</cp:revision>
  <dc:subject/>
  <dc:title>Smanjenje temeljnog kapitala dioničkog društva – ništavost i pobojnost odluka glavne skupštine</dc:title>
</cp:coreProperties>
</file>