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EE3-8DD2-44F3-96C7-E93F04A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9DE-23EB-4C7E-BFF8-D1366F3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A8A-1325-4F08-AFA5-A62872F9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A86-7F5E-494D-B908-8AE3A812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5F33-9454-42F7-A39C-615BF36E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85A-5883-4DEA-81BB-7D49568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DA0-4146-4DEE-B76A-B697C2A8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61F-D25B-4B2C-BC7C-6D701F7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3AE6-8B18-425D-A7FE-A8B8D00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9E11-F1E7-411C-8991-A76314CF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9520-7E69-4A0A-BC81-2E7F7FF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EB1-569F-4929-BAC0-DF57755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A6E-44EE-4ECF-A3EC-DCABF170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926-01BE-4796-B05C-F82FAFA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5258-DF45-4C3A-8214-A158CF7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ACD-D46F-40B5-9FF4-B8B3B37A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F2A5-DC4B-41EE-8F35-985EA8B8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9EE-E557-4D03-AA1C-1AB47B62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E30-10F3-47C2-BF75-765CCE37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165-E48E-44AF-A60C-AAE92E9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E76-4743-4FD1-A874-567B625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C5E-E9E2-4887-9CC4-722118D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E82-D822-458A-838F-436EE38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8FD-30BF-44F8-B7A6-1F9FCA2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3A8-02BE-41F2-9956-7525F5A775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3008-5E5D-45DF-8491-5A4F2BF73B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Pravo društava - uvod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46240" y="304920"/>
            <a:ext cx="378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Francuska revolucija promiče načela privatne autonomije i privatnog vlasništva, uvodi se sloboda udruživanja radi ostvarenja poduzetništva; potrebno odobrenje države za stjecanje pravne osobnosti društva (sustav koncesij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va nacionalna kodifikacija trgovačkog prava je francuski </a:t>
            </a:r>
            <a:r>
              <a:rPr b="0" i="1" lang="hr-HR" sz="1800" spc="-1" strike="noStrike">
                <a:solidFill>
                  <a:srgbClr val="000000"/>
                </a:solidFill>
                <a:latin typeface="Tahoma"/>
              </a:rPr>
              <a:t>Code de commerce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iz 1807. g. koji je prvi uredio pravni položaj dioničkog društva (</a:t>
            </a:r>
            <a:r>
              <a:rPr b="0" i="1" lang="hr-HR" sz="1800" spc="-1" strike="noStrike">
                <a:solidFill>
                  <a:srgbClr val="000000"/>
                </a:solidFill>
                <a:latin typeface="Tahoma"/>
              </a:rPr>
              <a:t>soci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r>
              <a:rPr b="0" i="1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r>
              <a:rPr b="0" i="1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anonyme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), prije njega na snazi Ordonnance sur le commerce iz 1673. 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U Njemačkoj se 1861. g. donosi Opći njemački trgovački zakonik, u Austriji se 1862. g donosi austrijski Trgovački zako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U Njemačkoj se 1892. g. donosi Zakon o društvima s ograničenom odgovornošću kojim se uvodi društvo s ograničenom odgovornošću, dionička društva su bila uređena Zakonom o dionicama iz 1937. g., odnosno 1965. 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U Francuskoj se 1867. g. donosi Zakon o dioničkim društvima, a 1925. g. Zakon o društvima s ograničenom odgovornošću; 1966. g. se donosi Zakon o trgovačkim društvima koji je sada inkorporiran u Trgovački zako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U Velikoj Britaniji na snazi Partnership Act iz 1890. i Companies Act iz 1985. (1989.) 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Pravo društava – povijesni razvoj u Hrvatskoj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java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mpagni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u Dalmaciji, Istri u 12. i 13. st.; statutarno pra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lleganti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e iz Venecije proširila u Dalmaciji u pomorskom prijevozu; u Dubrovačkom statutu iz 1272. g. uređena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enteg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ja se primjenjivala u pomorskoj trgovini (trgovci, brodovlasnici i mornari); kunserbe (ribarstvo), karatisti (pomorski prijevoz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Dubrovniku se krajem 18. i početkom 19. st. javljaju prva osiguravajuća dionička društva (1794., 1797. i 1803. g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jena austrijskog Trgovačkog zakona od 1863. g. u Vojnoj Krajini, Dalmaciji i Istri, u Hrvatskoj i Slavoniji primjena hrvatskog Trgovačkog zakona iz 1875. 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jena hrvatskog Trgovačkog zakona do 1948. g. u statusnim stvarima, odnosno 1978. u ugovornim odnos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rvatski Trgovački zakon je uređivao javno trgovačko društvo, komanditno društvo, dioničko društvo, prigodno društvo (ortaštvo) i zadrug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48. g. Osnovni zakon o privatnim trgovačkim radnjama ukida postojeća trgovačka društ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76. g. donošenje Zakona o udruženom ra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. g. se donosi Zakon o poduzećima koji ponovo uvodi trgovačka druš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1. g. donosi se Zakon o pretvorbi društvenih poduzeća u dionička društva i društva s ograničenom odgovornošć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3. g. donesen Zakon o trgovačkim društvima koji je počeo primjenjivati od 1995. god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mjene i dopune Zakona o trgovačkim društvima iz 2003. godi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držaj predmeta – statusni dio (opće odredbe ZTD, društva osoba, društva kapitala, statusne promjene, povezana društva); stečajni postup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ARBIĆ, J., Pravo društava, Knjiga prva - opći dio, Zagreb 199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ARBIĆ, J., Pravo društava, Knjiga druga – društva kapitala, Zagreb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ARBIĆ, J., Pravo društava, Knjiga treća – društva osoba, Zagreb 200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FILIPOVIĆ V., V. Gorenc, Z. Slakoper, V. Brkanić, Komentar Zakona o trgovačkim društvima, Zagreb 200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Zakon o trgovačkim društvima, redakcijski pročišćeni tekst zakona s napomenama uz pojedine odredbe, Novi Informator, Zagreb 200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tečajni zakon (redakcijski pročišćeni tekst) i podredni propisi, RRIF, Zagreb 200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is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on o trgovačkim društvima, NN 111/93, 34/99, 52/00, 118/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on o sudskom registru, NN 1/95, 57/96, 45/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on o javnom bilježništvu, NN 78/93, 29/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čajni zakon, NN 44/96, 29/99, 129/00, 123/03, 197/03, 82/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on o obrtu, NN 77/93, 90/96, 64/01, 71/01, 49/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on o trgovini, NN 11/96, 75/99, 76/99, 62/01, 49/03, 103/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on o zaštiti tržišnog natjecanja,  NN 122/0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Pravo društava - pojam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načina ostvarenja suradnje više osoba radi postizanja zajedničkih inter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na ugovornoj osnovi bez osnivanja posebnog pravnog subjekta (ortaštvo, tajno društ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osnivanje pravnog subjekta s posebnim vlastitim ustrojem (trgovačko društv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vo društava - pravo privatnopravnog udruživanja osoba nastalo pravnim poslom radi postizanja određenog zajedničkog ci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ci društava – ortaštvo, trgovačka društva, tajno društvo, društvo za uzajamno osiguranje, zadru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Pravo društava - povijes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 rimskom pravu razlikovanje između dviju vrsta udruživanja: </a:t>
            </a: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universitas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societ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Universitas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– pravna osoba s vlastitom imovinom odvojenom od članova koji ne odgovaraju za njezine obve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Societas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– obvezni odnos samostalnih osoba bez pravne osobnosti (ortaštv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10. stoljeću pojava društava osoba: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mmend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mpag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mmend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javlja se u Italiji u 10. st., društvo koje nastaje na temelju ugovora kojim se imatelj kapitala (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mmendator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) udružuje s poduzetnikom, pomorskim prijevoznikom ili trgovcem (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tractator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); podjela dobiti i gubitka; commenda je preteča komanditnog i tajnog društ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ompagni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javlja se u Italiji u 13. st.; preteča javnog trgovačkog društva; nastaje kao obiteljska imovina nakon smrti trgovca kojom zajednički upravljaju braća te se ona ne dij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java društava kapitala u 13. stoljeću u Itali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teče dioničkih društava su Britansko – istočnoindijska kompanija (1600. g.) i Nizozemsko-istočnoindijska kompanija (1602. g.) koje nastaju radi eksploatacije kolonija na temelju kraljevskih koncesija (sustav oktroiranja)  i s javnopravnim ovlaštenjima; pojava dioničkih društava u pomorskoj trgovini, bankarstvu i osiguranj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37:29Z</dcterms:created>
  <dc:creator>Dionis</dc:creator>
  <dc:description/>
  <dc:language>en-US</dc:language>
  <cp:lastModifiedBy>SAlebic</cp:lastModifiedBy>
  <dcterms:modified xsi:type="dcterms:W3CDTF">2007-04-19T06:29:16Z</dcterms:modified>
  <cp:revision>7</cp:revision>
  <dc:subject/>
  <dc:title>Pravo društava - uvod</dc:title>
</cp:coreProperties>
</file>