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CF7-F3E4-4885-B836-28F74510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2CE-4B1E-49F9-A644-DC5BCA5E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556-D3FB-4954-81F1-455E565A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2BB-D61E-4E6B-B028-04873DBE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AF0F-226F-46F1-BD66-A7BB8739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7D39-2414-432F-A860-1D9CA94D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33A4-7B51-4692-9B03-1895A526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CA8A-A9A4-40B6-8FC2-FE6E2653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6BB8-5805-4E8C-972C-2F587AC4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C021-0199-40B3-A5CB-422E94B1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CA36-40A1-47B1-B8D0-519DE5B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F68-A3AD-4C81-9843-B0AB5DDE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29D8-3BA6-4FBE-AB51-985295FA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9088-270B-45CC-A855-171E1403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48DA-589E-40D7-8BCB-EE01318F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4C25-455E-4C14-A282-7143FC01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54BA-EDB4-456F-8E12-56603E20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DDE6-A07F-4797-B60F-4AF8783C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37AC-0CEA-4125-9364-E43B05F4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7CF-1AAA-4E4E-B78B-3C5DDC09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E1F-F611-408D-9968-E0A57889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0A4-B1F2-4F9E-B8CA-42B9897F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440-9FF8-494B-B26E-42A71132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A6F-61AD-40BE-912A-B7F953B2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C28B-16D1-4189-8E47-2759248C64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C33C-85F2-4F5D-8E82-801A78F1EE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3357360"/>
            <a:ext cx="729612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cc0000"/>
                </a:solidFill>
                <a:latin typeface="Verdana"/>
              </a:rPr>
              <a:t>DEMONSTRATURE </a:t>
            </a:r>
            <a:br>
              <a:rPr sz="3600"/>
            </a:b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I. Kolokvij</a:t>
            </a:r>
            <a:br>
              <a:rPr sz="2400"/>
            </a:b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2  term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26920" y="1773360"/>
            <a:ext cx="727416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1. Kratkoročni kredit(1.000.000/12)      83.333,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2. Nominalna kamata (100.000/12)        8.333,3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3. Mjesečni anuitet (rata) 1+2               91.666,6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4. Stvarno korištena svota kredita =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G+G/12)/2 = (1.000.000+ 83.333,33)/2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541.666,6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5. Stvarni kamatni troš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547640" y="4797360"/>
                <a:ext cx="59486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71640" y="1707840"/>
            <a:ext cx="68515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Komenta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Glede najmanjeg kamatnog troška financiranja poduzeće treba odabrati prvu varijantu, 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kredit uz dekurzivan obračun kamata (10%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55280" y="1125000"/>
            <a:ext cx="77058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rimjer 3: Redovite dionice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lagatelj je kupio dionicu za 80kn. Za vrijeme trogodišnjeg razdoblja držanja dionice, ulagatelj je naplatio dividende u iznosu: 12kn, 15 kn i 15kn. Nakon tri godine, ulagatelj će prodati dionicu za 90kn. Koliku je stopu prinosa ostvario za vrijeme trogodišnjeg razdoblja držanja dioni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* Diskontna stopa se nalazi između 19 i 21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16000" y="1916280"/>
          <a:ext cx="7283520" cy="3579480"/>
        </p:xfrm>
        <a:graphic>
          <a:graphicData uri="http://schemas.openxmlformats.org/drawingml/2006/table">
            <a:tbl>
              <a:tblPr/>
              <a:tblGrid>
                <a:gridCol w="2960640"/>
                <a:gridCol w="1095480"/>
                <a:gridCol w="1631880"/>
                <a:gridCol w="1595520"/>
              </a:tblGrid>
              <a:tr h="79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 = 19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z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kontni fa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dašnja vrijed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idenda 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40336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0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idenda 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06164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5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0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idenda 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Prodajna ci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93415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,3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žišna vrijednost dio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,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6920" y="259920"/>
            <a:ext cx="74170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6600"/>
                </a:solidFill>
                <a:latin typeface="Verdan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24000" y="764640"/>
            <a:ext cx="8496000" cy="5759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116000" y="1916280"/>
          <a:ext cx="7283520" cy="3639960"/>
        </p:xfrm>
        <a:graphic>
          <a:graphicData uri="http://schemas.openxmlformats.org/drawingml/2006/table">
            <a:tbl>
              <a:tblPr/>
              <a:tblGrid>
                <a:gridCol w="2960640"/>
                <a:gridCol w="1095480"/>
                <a:gridCol w="1446120"/>
                <a:gridCol w="1781280"/>
              </a:tblGrid>
              <a:tr h="968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 = 20 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z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kontni fa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dašnja vrijed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idenda 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3333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,99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idenda 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944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416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idenda 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Prodajna ci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787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76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žišna vrijednost dio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,18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6920" y="259920"/>
            <a:ext cx="74170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6600"/>
                </a:solidFill>
                <a:latin typeface="Verdan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042920" y="1773360"/>
          <a:ext cx="7010280" cy="4424040"/>
        </p:xfrm>
        <a:graphic>
          <a:graphicData uri="http://schemas.openxmlformats.org/drawingml/2006/table">
            <a:tbl>
              <a:tblPr/>
              <a:tblGrid>
                <a:gridCol w="2849400"/>
                <a:gridCol w="1054080"/>
                <a:gridCol w="1393920"/>
                <a:gridCol w="1712880"/>
              </a:tblGrid>
              <a:tr h="106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=2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z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kontni fa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dašnja vrijed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idenda 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264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,9173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idenda 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83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24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idenda D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Prodajna cij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644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,269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žišna vrijednost dio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,432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26920" y="981000"/>
            <a:ext cx="7344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Interpolacij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26920" y="1773360"/>
            <a:ext cx="7786800" cy="4303440"/>
            <a:chOff x="826920" y="1773360"/>
            <a:chExt cx="7786800" cy="4303440"/>
          </a:xfrm>
        </p:grpSpPr>
        <p:sp>
          <p:nvSpPr>
            <p:cNvPr id="113" name=""/>
            <p:cNvSpPr/>
            <p:nvPr/>
          </p:nvSpPr>
          <p:spPr>
            <a:xfrm>
              <a:off x="6018120" y="5509440"/>
              <a:ext cx="25956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Verdana"/>
                </a:rPr>
                <a:t>20,6752756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2520" y="5509440"/>
              <a:ext cx="25956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Verdana"/>
                </a:rPr>
                <a:t>20%+0,6752756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6920" y="5509440"/>
              <a:ext cx="25956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Verdana"/>
                </a:rPr>
                <a:t>Tražena diskontna sto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18120" y="4942080"/>
              <a:ext cx="25956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Verdana"/>
                </a:rPr>
                <a:t>0,67527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22520" y="4942080"/>
              <a:ext cx="25956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Verdana"/>
                </a:rPr>
                <a:t>1,18051/1,748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6920" y="4942080"/>
              <a:ext cx="25956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2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Verdana"/>
                </a:rPr>
                <a:t>% dodan na nižu stop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8120" y="4128120"/>
              <a:ext cx="259560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1,1805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22520" y="4128120"/>
              <a:ext cx="259560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6920" y="4128120"/>
              <a:ext cx="2595600" cy="81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Razlika od više tržišne vrijednosti (20%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18120" y="3313800"/>
              <a:ext cx="25956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22520" y="3313800"/>
              <a:ext cx="25956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6920" y="3313800"/>
              <a:ext cx="259560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Tražena vrijednost (kupovna cijena) dion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18120" y="2928240"/>
              <a:ext cx="2595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1,748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22520" y="2928240"/>
              <a:ext cx="2595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1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6920" y="2928240"/>
              <a:ext cx="2595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Razli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18120" y="2543400"/>
              <a:ext cx="25956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79,43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2520" y="2543400"/>
              <a:ext cx="25956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21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6920" y="2543400"/>
              <a:ext cx="25956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18120" y="2157480"/>
              <a:ext cx="2595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81,1805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2520" y="2157480"/>
              <a:ext cx="2595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20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2157480"/>
              <a:ext cx="2595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8120" y="1773360"/>
              <a:ext cx="25956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Sadašnja vrijedn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422520" y="1773360"/>
              <a:ext cx="25956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Verdana"/>
                </a:rPr>
                <a:t>Diskontna sto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6920" y="1773360"/>
              <a:ext cx="25956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6920" y="1773360"/>
              <a:ext cx="7786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6920" y="2157480"/>
              <a:ext cx="77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6920" y="2543400"/>
              <a:ext cx="77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26920" y="2928240"/>
              <a:ext cx="77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3313800"/>
              <a:ext cx="77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6920" y="4128120"/>
              <a:ext cx="77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4942080"/>
              <a:ext cx="77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6920" y="5509440"/>
              <a:ext cx="778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6920" y="6076800"/>
              <a:ext cx="7786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1773360"/>
              <a:ext cx="0" cy="4303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22520" y="1773360"/>
              <a:ext cx="0" cy="43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18120" y="1773360"/>
              <a:ext cx="0" cy="43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13720" y="1773360"/>
              <a:ext cx="0" cy="4303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99640" y="1125000"/>
            <a:ext cx="763452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9933"/>
                </a:solidFill>
                <a:latin typeface="Verdana"/>
              </a:rPr>
              <a:t>   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rimjer 4. Redovite dio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Dioničko društvo je isplatilo prošle godine dividendu od 50kn po redovitoj dionici. Nakon toga se očekuje stalan (vječan) rast dividende po stalnoj stopi od 5% na godinu. Tražena profitabilnost dionice je 12%. Kolika je tržišna vrijednost redovite dioni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692360" y="456840"/>
            <a:ext cx="714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19280" y="1916280"/>
                <a:ext cx="64864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042920" y="3645000"/>
            <a:ext cx="6912000" cy="2232000"/>
          </a:xfrm>
          <a:prstGeom prst="cloudCallout">
            <a:avLst>
              <a:gd name="adj1" fmla="val 45361"/>
              <a:gd name="adj2" fmla="val -9103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dašnja tržišna vrijednost (cijena) redovite dionice je 750 k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8360" y="1184400"/>
            <a:ext cx="835344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rimjer 5. Redovite dio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retpostavimo da dioničko društvo neće isplaćivati dividende za iduće dvije godine. Očekuje se dividenda po dionici u trećoj godini od 80kn, u četvrtoj 120kn, petoj 160kn i u šestoj godini 200kn. Nakon toga se očekuje da će dividenda stalno rasti po stalnoj stopi od 10% godišnje. Tražena stopa prinosa je 18%. Kolika je sadašnja tržišna vrijednost redovite dioni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55640" y="1247760"/>
            <a:ext cx="75247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  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Primjer 1. Kratkoročno financiranje- odab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oduzeće treba dodatnih 1.000.000 kn kratkoročnih izvora. Na raspolaganju ima četiri mogućnos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) Odreći se kasa-skonta uz uvjet 2/10, neto 6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b) Uzeti jednogodišnji kredit banke uz 12% kamatnu stopu i kompenzirajuće stanje od 10% vrijednosti kredi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c) Izdati jednogodišnje komercijalne zapise uz kamatnu stopu od 10% i trošak emisije od 50.000 k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d) Uzeti jednogodišnji revolving kredit uz godišnju 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amatnu stopu od 14% koji će se koristiti u cijelos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oju mogućnost financiranja odabra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26560" y="692280"/>
            <a:ext cx="76676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1" lang="hr-HR" sz="2600" spc="-1" strike="noStrike">
                <a:solidFill>
                  <a:srgbClr val="cc0000"/>
                </a:solidFill>
                <a:latin typeface="Verdana"/>
              </a:rPr>
              <a:t>I. Faz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6000" y="1773360"/>
            <a:ext cx="7353360" cy="3935160"/>
            <a:chOff x="1116000" y="1773360"/>
            <a:chExt cx="7353360" cy="3935160"/>
          </a:xfrm>
        </p:grpSpPr>
        <p:sp>
          <p:nvSpPr>
            <p:cNvPr id="157" name=""/>
            <p:cNvSpPr/>
            <p:nvPr/>
          </p:nvSpPr>
          <p:spPr>
            <a:xfrm>
              <a:off x="6631200" y="5067000"/>
              <a:ext cx="1837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66"/>
                  </a:solidFill>
                  <a:latin typeface="Verdana"/>
                </a:rPr>
                <a:t>254,6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93400" y="5067000"/>
              <a:ext cx="1837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53800" y="5067000"/>
              <a:ext cx="1839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16000" y="5067000"/>
              <a:ext cx="1837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ffff66"/>
                  </a:solidFill>
                  <a:latin typeface="Verdana"/>
                </a:rPr>
                <a:t>Suma sadašnjih vrijednos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31200" y="4626360"/>
              <a:ext cx="183780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74,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93400" y="4626360"/>
              <a:ext cx="183780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0,3704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53800" y="4626360"/>
              <a:ext cx="183924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16000" y="4626360"/>
              <a:ext cx="1837800" cy="4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31200" y="4184280"/>
              <a:ext cx="1837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69,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93400" y="4184280"/>
              <a:ext cx="1837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0,437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53800" y="4184280"/>
              <a:ext cx="1839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1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16000" y="4184280"/>
              <a:ext cx="1837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31200" y="3740760"/>
              <a:ext cx="1837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61,8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93400" y="3740760"/>
              <a:ext cx="1837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0,5157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53800" y="3740760"/>
              <a:ext cx="183924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1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16000" y="3740760"/>
              <a:ext cx="1837800" cy="4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31200" y="3298680"/>
              <a:ext cx="183780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48,6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93400" y="3298680"/>
              <a:ext cx="183780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0,6086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53800" y="3298680"/>
              <a:ext cx="18392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16000" y="3298680"/>
              <a:ext cx="183780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31200" y="2856600"/>
              <a:ext cx="1837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93400" y="2856600"/>
              <a:ext cx="1837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0,718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53800" y="2856600"/>
              <a:ext cx="1839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16000" y="2856600"/>
              <a:ext cx="18378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31200" y="2414520"/>
              <a:ext cx="183780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93400" y="2414520"/>
              <a:ext cx="183780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0,8474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53800" y="2414520"/>
              <a:ext cx="183924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16000" y="2414520"/>
              <a:ext cx="183780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631200" y="1773360"/>
              <a:ext cx="1837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Sadašnja vrijedn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93400" y="1773360"/>
              <a:ext cx="1837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Diskontni faktor (II</a:t>
              </a:r>
              <a:r>
                <a:rPr b="0" lang="hr-HR" sz="2000" spc="-1" strike="noStrike" baseline="30000">
                  <a:solidFill>
                    <a:srgbClr val="000000"/>
                  </a:solidFill>
                  <a:latin typeface="Verdana"/>
                </a:rPr>
                <a:t>n</a:t>
              </a:r>
              <a:r>
                <a:rPr b="0" lang="hr-HR" sz="2000" spc="-1" strike="noStrike" baseline="-25000">
                  <a:solidFill>
                    <a:srgbClr val="000000"/>
                  </a:solidFill>
                  <a:latin typeface="Verdana"/>
                </a:rPr>
                <a:t>18</a:t>
              </a: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53800" y="1773360"/>
              <a:ext cx="1839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Dividen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16000" y="1773360"/>
              <a:ext cx="1837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000" spc="-1" strike="noStrike">
                  <a:solidFill>
                    <a:srgbClr val="000000"/>
                  </a:solidFill>
                  <a:latin typeface="Verdana"/>
                </a:rPr>
                <a:t>God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16000" y="1773360"/>
              <a:ext cx="7353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16000" y="2414520"/>
              <a:ext cx="735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16000" y="2856600"/>
              <a:ext cx="735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16000" y="3298680"/>
              <a:ext cx="735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16000" y="3740760"/>
              <a:ext cx="735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16000" y="4184280"/>
              <a:ext cx="735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16000" y="4626360"/>
              <a:ext cx="735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16000" y="5067000"/>
              <a:ext cx="735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16000" y="5708520"/>
              <a:ext cx="7353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16000" y="1773360"/>
              <a:ext cx="0" cy="3935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53800" y="1773360"/>
              <a:ext cx="0" cy="39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93400" y="1773360"/>
              <a:ext cx="0" cy="39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31200" y="1773360"/>
              <a:ext cx="0" cy="39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69360" y="1773360"/>
              <a:ext cx="0" cy="3935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691920"/>
            <a:ext cx="698508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c0000"/>
                </a:solidFill>
                <a:latin typeface="Verdana"/>
              </a:rPr>
              <a:t>II. Faz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uma sadašnjih vrijednosti II. faz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826920" y="1989000"/>
                <a:ext cx="75614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538280" y="4176720"/>
                <a:ext cx="62308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xII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x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7043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826920" y="1915920"/>
            <a:ext cx="777744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adašnja vrijednost dionice = sadašnja vrijednost I. faze + sadašnja vrijednost II. faze </a:t>
            </a:r>
            <a:r>
              <a:rPr b="0" lang="hr-HR" sz="2400" spc="-1" strike="noStrike">
                <a:solidFill>
                  <a:srgbClr val="ffff66"/>
                </a:solidFill>
                <a:latin typeface="Verdana"/>
              </a:rPr>
              <a:t>= </a:t>
            </a:r>
            <a:r>
              <a:rPr b="0" lang="hr-HR" sz="2400" spc="-1" strike="noStrike">
                <a:solidFill>
                  <a:srgbClr val="cc0000"/>
                </a:solidFill>
                <a:latin typeface="Verdana"/>
              </a:rPr>
              <a:t>254,61+1.018,68=1.273,29k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1844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rimjer 6: Višekratno isplative obvez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lagatelj je kupio obveznicu za 1.523,26kn. Obveznica ima nominalnu vrijednost 1.000kn, dospijeva za 15 godina i nosi 10% -tnu kamatu. Isplata kamata je polugodišnja. Kolika je stopa prinosa koju je ostvario ulagatelj ako je stopa poreza jednaka 25%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* Diskontna stopa se nalazi između 5 i 7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5183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nearna interpola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il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ražimo diskontnu stopu između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2,5% (5), 3% (6) i 3,5% (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11280" y="1773360"/>
                <a:ext cx="81421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371600" y="3276720"/>
                <a:ext cx="63802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xIV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xII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2484360" y="5013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5300640"/>
            <a:ext cx="4211640" cy="1268280"/>
          </a:xfrm>
          <a:prstGeom prst="wedgeEllipseCallout">
            <a:avLst>
              <a:gd name="adj1" fmla="val 124064"/>
              <a:gd name="adj2" fmla="val -51749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00000" y="537372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terpolacija se vrši za 1% razlike kod godišnje isplate kamata ili za </a:t>
            </a:r>
            <a:r>
              <a:rPr b="1" lang="hr-HR" sz="1800" spc="-1" strike="noStrike">
                <a:solidFill>
                  <a:srgbClr val="ff6600"/>
                </a:solidFill>
                <a:latin typeface="Arial"/>
              </a:rPr>
              <a:t>0,5% razlike kod polugodišnje isplate kam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k=2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,5</a:t>
            </a: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66640" y="1752480"/>
          <a:ext cx="8001000" cy="3845160"/>
        </p:xfrm>
        <a:graphic>
          <a:graphicData uri="http://schemas.openxmlformats.org/drawingml/2006/table">
            <a:tbl>
              <a:tblPr/>
              <a:tblGrid>
                <a:gridCol w="3189240"/>
                <a:gridCol w="1292400"/>
                <a:gridCol w="1985760"/>
                <a:gridCol w="1533600"/>
              </a:tblGrid>
              <a:tr h="106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čani primita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zn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kontni fak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ugodišnji kamatni troškov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,9302925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6,5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inalna vrijednost obvezn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767426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76,74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V obvezn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23,2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k= 3%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9640" y="1484280"/>
          <a:ext cx="8229600" cy="4032360"/>
        </p:xfrm>
        <a:graphic>
          <a:graphicData uri="http://schemas.openxmlformats.org/drawingml/2006/table">
            <a:tbl>
              <a:tblPr/>
              <a:tblGrid>
                <a:gridCol w="3025800"/>
                <a:gridCol w="1344600"/>
                <a:gridCol w="2297160"/>
                <a:gridCol w="1562040"/>
              </a:tblGrid>
              <a:tr h="94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čani primit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z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kontni fa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ugodišnji kamatni troško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,60044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0,0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inalna vrijednost obvez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411986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1,98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V obvez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92,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k= 3</a:t>
            </a: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,5</a:t>
            </a:r>
            <a:r>
              <a:rPr b="0" lang="en-GB" sz="38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9640" y="1484280"/>
          <a:ext cx="8229600" cy="4032360"/>
        </p:xfrm>
        <a:graphic>
          <a:graphicData uri="http://schemas.openxmlformats.org/drawingml/2006/table">
            <a:tbl>
              <a:tblPr/>
              <a:tblGrid>
                <a:gridCol w="3025800"/>
                <a:gridCol w="1344600"/>
                <a:gridCol w="2297160"/>
                <a:gridCol w="1562040"/>
              </a:tblGrid>
              <a:tr h="947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čani primita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z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kontni fak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ugodišnji kamatni troško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,39204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19,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minalna vrijednost obvez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56278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6,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V obvezn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75,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 flipV="1">
            <a:off x="324000" y="765000"/>
            <a:ext cx="8496000" cy="5328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 flipV="1">
            <a:off x="6516720" y="5300640"/>
            <a:ext cx="2376360" cy="1557360"/>
          </a:xfrm>
          <a:prstGeom prst="wedgeEllipseCallout">
            <a:avLst>
              <a:gd name="adj1" fmla="val -117069"/>
              <a:gd name="adj2" fmla="val 75481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4076640"/>
            <a:ext cx="820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pa prinosa prije oporeziva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+0,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,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pa prinosa nakon oporezivan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 2,5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1-0,25) = </a:t>
            </a: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1,8</a:t>
            </a:r>
            <a:r>
              <a:rPr b="0" lang="hr-HR" sz="2800" spc="-1" strike="noStrike">
                <a:solidFill>
                  <a:srgbClr val="ff6600"/>
                </a:solidFill>
                <a:latin typeface="Arial"/>
              </a:rPr>
              <a:t>75</a:t>
            </a: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48360" y="530064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nterpolacija za 0,5% razlike odnosno polugodišnju kamatnu st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9640" y="404640"/>
          <a:ext cx="8229600" cy="3641760"/>
        </p:xfrm>
        <a:graphic>
          <a:graphicData uri="http://schemas.openxmlformats.org/drawingml/2006/table">
            <a:tbl>
              <a:tblPr/>
              <a:tblGrid>
                <a:gridCol w="5534280"/>
                <a:gridCol w="2695320"/>
              </a:tblGrid>
              <a:tr h="58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Sadašnja vrijednost (k=2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23,2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Sadašnja vrijednost (k=3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92,00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Tražena sadašnja vrijed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23,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Razlika 1(1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,24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Razlika 2 (1-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dodan na nižu stop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229600" cy="56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omentar: Stopa prinosa obveznica iznosi 2,531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što je niže od nominalne stope (5%) tako da je tržišna vrijednost viša od nominalne za 523,26kn. Zbog oporezivanja kamatnog prihoda, stopa prinosa nakon oporezivanja je niža i iznosi </a:t>
            </a:r>
            <a:r>
              <a:rPr b="0" lang="en-GB" sz="2800" spc="-1" strike="noStrike">
                <a:solidFill>
                  <a:srgbClr val="ff6600"/>
                </a:solidFill>
                <a:latin typeface="Verdana"/>
              </a:rPr>
              <a:t>1,8</a:t>
            </a:r>
            <a:r>
              <a:rPr b="0" lang="hr-HR" sz="2800" spc="-1" strike="noStrike">
                <a:solidFill>
                  <a:srgbClr val="ff6600"/>
                </a:solidFill>
                <a:latin typeface="Verdana"/>
              </a:rPr>
              <a:t>75</a:t>
            </a:r>
            <a:r>
              <a:rPr b="0" lang="en-GB" sz="2800" spc="-1" strike="noStrike">
                <a:solidFill>
                  <a:srgbClr val="ff6600"/>
                </a:solidFill>
                <a:latin typeface="Verdana"/>
              </a:rPr>
              <a:t>%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26560" y="764640"/>
            <a:ext cx="720108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ješenje (a): Propušteni kasa-sko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9640" y="2133720"/>
                <a:ext cx="83883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%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%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4</m:t>
                    </m:r>
                    <m:r>
                      <m:t xml:space="preserve">x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901800" y="3716280"/>
            <a:ext cx="71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ošak propuštenog kasa-skonta je </a:t>
            </a:r>
            <a:r>
              <a:rPr b="1" lang="hr-HR" sz="2800" spc="-1" strike="noStrike">
                <a:solidFill>
                  <a:srgbClr val="cc0000"/>
                </a:solidFill>
                <a:latin typeface="Arial"/>
              </a:rPr>
              <a:t>14,89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197000"/>
            <a:ext cx="8001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cc0000"/>
                </a:solidFill>
                <a:latin typeface="Verdana"/>
              </a:rPr>
              <a:t>Primjer 7: Kratkoročno financiranj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1. Poduzeće treba dodatnih 200.000 kn kratkoročnih izvora. Na raspolaganju ima tri mogućnosti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a) Odreći se kasa-skonta uz uvjet 3/15, neto 50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b) Uzeti jednogodišnji kredit banke uz 16% kamatnu stopu i kompenzirajuće stanje od 13% vrijednosti kredita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c) Izdati jednogodišnje komercijalne zapise uz kamatnu stopu od 12% i trošak emisije od 18.000 k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) Uzeti jednogodišnji revolving kredit uz godišnju kamatnu stopu od 16% koji će se koristiti u cjelosti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oju mogućnost financiranja odabrati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38360" y="1772280"/>
            <a:ext cx="342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(a): Propušteni kasa-sk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790560" y="2492280"/>
                <a:ext cx="83534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%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%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2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-128160" y="3285000"/>
            <a:ext cx="953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(b): Kompenzirajuće st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1. Godišnji trošak bez kompenzirajućeg stanja (kamate)=(200.000kn x 0,16)=32.00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2. Kompenzirajuće stanje =(200.000 x 0,13)=26.00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3. Stvarno korišten kredit=200.000kn –26.000 kn=174.000 k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4. Stvarni kamatni trošak financiranja kreditom (1/3x100)= 32.000/174.000x100=18,3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c): Komercijalni zapi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1. Kamatni trošak komercijalnih zapisa=(200.000 kn x 0,12)=24.000 k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2. Trošak emisije=18.000k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3. Ukupni trošak financiranja komercijalnim zapisima (1+2)=24.000+18.000=42.000 k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4. Stvarni trošak financiranja komercijalnim zapisima= (42.000/200.000 x 100)=21,00%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d): Revolving kred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psolutni godišnji kamatni trošak=200.000kn x 0,16=32.000k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elativni godišnji kamatni trošak=32.000/200.000=16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oduzeće bi trebalo uz dane uvjete (kolateral, klauzule, i sl) odabrati onaj izvor financiranja koji za jednaku svotu ima najniži stvarni kamatni trošak. U ovom je primjeru to financiranje bankarskim (klasičnim) kreditom koji ima najniži kamatni trošak od 16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66280" y="1196640"/>
            <a:ext cx="8001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rimjer 8: Višekratno isplative obvez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oduzeće je emitiralo 5.000.000 kn višekratno isplativih 11%-tnih obveznica s godišnjim plaćanjem kamata i isplatom glavnice u roku dospijeća od 10 godina. Porez na dobitak je 20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a) Koliki je godišnji apsolutni (u kn) i relativni (u %) kamatni trošak prije i poslije oporezivanja dobitk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b) Koliki je ukupni 10-to godišnji kamatni trošak prije i nakon oporezivanja dobitk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Godišnji troš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 u="sng">
                <a:solidFill>
                  <a:srgbClr val="000000"/>
                </a:solidFill>
                <a:uFillTx/>
                <a:latin typeface="Verdana"/>
              </a:rPr>
              <a:t>Apsolutni troš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1. Godišnji kamatni trošak prije oporezivanja dobitka =(5.000.000x11%)=550.000 k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2. Godišnja porezna ušteda = 550.000 x0,20=110.000 k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3. Godišnji kamatni trošak nakon oporezivanja dobitka (1-2)=</a:t>
            </a:r>
            <a:r>
              <a:rPr b="1" i="1" lang="hr-HR" sz="2100" spc="-1" strike="noStrike">
                <a:solidFill>
                  <a:srgbClr val="000000"/>
                </a:solidFill>
                <a:latin typeface="Verdana"/>
              </a:rPr>
              <a:t>440.000k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 u="sng">
                <a:solidFill>
                  <a:srgbClr val="000000"/>
                </a:solidFill>
                <a:uFillTx/>
                <a:latin typeface="Verdana"/>
              </a:rPr>
              <a:t>Relativni troš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’=godišnji kamatni trošak prije oporezivanja= 11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˝=godišnji kamatni trošak nakon oporezivanja= k’(1-p)=11%(1-0,20)=</a:t>
            </a:r>
            <a:r>
              <a:rPr b="1" i="1" lang="hr-HR" sz="2100" spc="-1" strike="noStrike">
                <a:solidFill>
                  <a:srgbClr val="000000"/>
                </a:solidFill>
                <a:latin typeface="Verdana"/>
              </a:rPr>
              <a:t>8,8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b) 10-godišnji troš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1.Ukupni kamatni trošak prije oporezivanja dobitka = (5.000.000%x11%)*10 = 5.500.000 k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2. Ukupna porezna ušteda = (550.000x0,20)*10=1.100.000 k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i="1" lang="hr-H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kupni kamatni trošak nakon oporezivanja dobitka (1-2</a:t>
            </a:r>
            <a:r>
              <a:rPr b="1" i="1" lang="hr-HR" sz="2100" spc="-1" strike="noStrike">
                <a:solidFill>
                  <a:srgbClr val="000000"/>
                </a:solidFill>
                <a:latin typeface="Verdana"/>
              </a:rPr>
              <a:t>)=4.400.00k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ili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Ukupni kamatni trošak nakon oporezivanja dobitka=Ukupna svota x Godišnji kamatni trošak nakon oporezivanja= 5.000.000 x 8,8% x10=</a:t>
            </a:r>
            <a:r>
              <a:rPr b="1" i="1" lang="hr-HR" sz="2100" spc="-1" strike="noStrike">
                <a:solidFill>
                  <a:srgbClr val="000000"/>
                </a:solidFill>
                <a:latin typeface="Verdana"/>
              </a:rPr>
              <a:t>4.400.000 k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rimjer 9: Višekratno isplative obvez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veznice d.d.-a nominalne vrijednosti 1.000kn dospijevaju u cjelosti kroz 20 godina, a nose 11%-ne godišnje kamate. Obveznice su rangirane AAA. Izračunati njihovu sadašnju tržišnu vrijednost (cijenu) ako je tržišni prinos za obveznice toga ranga (tražena stopa prinosa): a)8%;b)11%;c)14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28600" y="2708280"/>
                <a:ext cx="8915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xIV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xII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xIV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xII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x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18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x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14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71680" y="1744920"/>
            <a:ext cx="66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uper pari- obveznice se prodaju s permij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38880" y="3329280"/>
            <a:ext cx="641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b) Al pari- obveznice se prodaju po nominalnoj vrijedn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1280" y="4508640"/>
                <a:ext cx="9072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xIV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xII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xI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xI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x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332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x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4034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68360" y="3213000"/>
                <a:ext cx="82947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KxIV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xII</m:t>
                        </m:r>
                      </m:e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xI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xI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x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3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x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2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816840" y="2132280"/>
            <a:ext cx="620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Sub pari- obveznice se prodaju uz disko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9280" y="1131840"/>
            <a:ext cx="80758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ješenje (b): Kompenzirajuće sta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1. Godišnji trošak bez kompenzirajućeg stanja (kamat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1.000.000kn x 0,12)                     120.000k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2. Kompenzirajuće sta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1.000.000 x 0,10)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                  100.000k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3. Stvarno korišten kred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1.000.000kn -100.000 kn)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        900.000k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4. Stvarni kamatni trošak financiranja kreditom (1/3x100)= 120.000/ 900.000x100 =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13,33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646200" y="350028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rimjer 10: Dugoročni kredi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Dugoročni kredit od 100.000 kn odobren je poduzeću na 5 godina uz 12% godišnjih dekurzivnih kamata i plaćanjem jednakih anuiteta na kraju godine. Izračunati godišnji jednaki anuitet (A) i napraviti plan otplate (amortizacije) zajm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16000" y="2492280"/>
                <a:ext cx="70898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Gx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x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7409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258920" y="4005360"/>
                <a:ext cx="65419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47762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954000" y="1771920"/>
            <a:ext cx="240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Jednaki anuit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83480" y="2779200"/>
            <a:ext cx="41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2280" y="1673280"/>
            <a:ext cx="29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mortizacija zaj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00000" y="2276640"/>
          <a:ext cx="7559640" cy="3771720"/>
        </p:xfrm>
        <a:graphic>
          <a:graphicData uri="http://schemas.openxmlformats.org/drawingml/2006/table">
            <a:tbl>
              <a:tblPr/>
              <a:tblGrid>
                <a:gridCol w="1276560"/>
                <a:gridCol w="1466640"/>
                <a:gridCol w="1463760"/>
                <a:gridCol w="1652760"/>
                <a:gridCol w="16999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Godina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Anuiteti 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Kamate (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Otplata glavnice (Og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Ostatak duga (Od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7.740,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2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5.740,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84.259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7.740,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.111,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7.629,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66.629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7.740,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7.995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9.745,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6.883,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7.740,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.626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2.114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4.768,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7.740,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.972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4.768,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Ukup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38.704,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8.704,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22.540,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0" y="494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9280" y="1052640"/>
            <a:ext cx="80010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rimjer 11: Naj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Ako pretpostavimo da se godišnje otplate najma plaćaju unaprijed i da ne postoji ostatak vrijednosti, koliko je trajanje najma za cijenu nabavke u iznosu od 165.000kn,  ako je odgovarajuća kamatna stopa jednaka 10%, a godišnje otplate najamnine iznose 24.412k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419640" y="3716280"/>
                <a:ext cx="2447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132000" y="5013360"/>
                <a:ext cx="374040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2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-138276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1120" y="1554840"/>
            <a:ext cx="852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vo je slučaj kada se najamnine plaćaju početkom god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(na vježbama radili za kraj godin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 Antiqua"/>
              </a:rPr>
              <a:t>*</a:t>
            </a:r>
            <a:r>
              <a:rPr b="0" lang="hr-HR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U ovom se slučaju ne mogu koristiti V. financijske tabl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jer se one koriste za anuitete koji dospijevaju krajem svakog razdoblja,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ne i početkom. Z</a:t>
            </a:r>
            <a:r>
              <a:rPr b="0" lang="hr-HR" sz="1400" spc="-1" strike="noStrike">
                <a:solidFill>
                  <a:srgbClr val="000000"/>
                </a:solidFill>
                <a:latin typeface="Book Antiqua"/>
              </a:rPr>
              <a:t>a</a:t>
            </a:r>
            <a:r>
              <a:rPr b="0" lang="hr-HR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ovakav slučaj se ne postoje posebne tabli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već se koriste IV. financijske tablice pomoću gore navedene formu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1382760" y="312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66280" y="2636640"/>
            <a:ext cx="8109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5,759 odgovara u IV tablicama za kamatnu stopu od 10%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broju vremenskih razdoblja od 9. Stoga, trajanje najma je 9+1 (zbog formule, n-1) odnosno </a:t>
            </a:r>
            <a:r>
              <a:rPr b="1" i="1" lang="hr-HR" sz="1800" spc="-1" strike="noStrike">
                <a:solidFill>
                  <a:srgbClr val="000000"/>
                </a:solidFill>
                <a:latin typeface="Verdana"/>
              </a:rPr>
              <a:t>10 godina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771640" y="2205000"/>
                <a:ext cx="360072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9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539280" y="11966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rimjer 12: Redovite dioni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Dioničko društvo je isplatilo dividendu od 100kn po dionici. U budućnosti se očekuje stalan rast dividendi, po fazama: 1) prva faza, prve 3 godine, 12% na godinu; 2) druga faza, iduće 3 godine, 8% na godinu i 3) treće faza, nakon toga do vječnosti, 4% na godinu. Tražena stopa prinosa je 16%. Kolika je sadašnja tržišna vrijednost dioni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124000" y="620640"/>
                <a:ext cx="51847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aza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aza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aza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2" name=""/>
          <p:cNvGraphicFramePr/>
          <p:nvPr/>
        </p:nvGraphicFramePr>
        <p:xfrm>
          <a:off x="324000" y="1700280"/>
          <a:ext cx="8424720" cy="4570200"/>
        </p:xfrm>
        <a:graphic>
          <a:graphicData uri="http://schemas.openxmlformats.org/drawingml/2006/table">
            <a:tbl>
              <a:tblPr/>
              <a:tblGrid>
                <a:gridCol w="591840"/>
                <a:gridCol w="2144880"/>
                <a:gridCol w="2447640"/>
                <a:gridCol w="1511640"/>
                <a:gridCol w="17287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Fa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God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Divide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Diskontni faktor (IIn 1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adašnja vrijedn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. fa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0x(1,12)=112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,8620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96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0x(1,12)2=125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,743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93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0x(1,12)3=140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,6406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9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uma SV I. fa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79,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I. fa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40,49x(1,08)=151,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,552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83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40,49x(1,08)2=163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,476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78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40,49x(1,08)3=176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,4104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72,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uma SV II. fa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34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4000" y="5516640"/>
                <a:ext cx="84247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aza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aza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faza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3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2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050920" y="2492280"/>
                <a:ext cx="59007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1004760" y="1600560"/>
            <a:ext cx="435492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II. fa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D</a:t>
            </a:r>
            <a:r>
              <a:rPr b="0" lang="hr-HR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7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= D</a:t>
            </a:r>
            <a:r>
              <a:rPr b="0" lang="hr-HR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6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x(1+g)=176,98x(1,04)=184,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00000" y="2608200"/>
            <a:ext cx="7417080" cy="31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uma SV III. faz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Vo </a:t>
            </a:r>
            <a:r>
              <a:rPr b="0" lang="hr-HR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(3.faza) 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=V</a:t>
            </a:r>
            <a:r>
              <a:rPr b="0" lang="hr-HR" sz="2000" spc="-1" strike="noStrike" baseline="-30000">
                <a:solidFill>
                  <a:srgbClr val="000000"/>
                </a:solidFill>
                <a:latin typeface="Book Antiqua"/>
                <a:ea typeface="Times New Roman"/>
              </a:rPr>
              <a:t>6(3. faza)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xII6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</a:rPr>
              <a:t>1</a:t>
            </a:r>
            <a:r>
              <a:rPr b="0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6=1.533,83x0,410442=</a:t>
            </a:r>
            <a:r>
              <a:rPr b="1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629,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Sadašnja vrijednost dioni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8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3534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rimjer 13. Redovite dion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Dioničko društvo je isplatilo prošle godine dividendu od 110kn po redovitoj dionici. Nakon toga se očekuje stalan (vječan) rast dividende po konstantnoj stopi od 4% na godinu. Tražena profitabilnost dionice je 11%. Kolika je tržišna vrijednost redovite dionice danas i na kraju treće godin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4000" y="907920"/>
            <a:ext cx="828036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ješenje (c): Komercijalni zapi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1. Kamatni trošak komercijalnih zapi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1.000.000 kn x 0,10)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   100.000k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2. Trošak emisije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     50.000k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3. Ukupni trošak financiranja komercijalnim  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zapisima (1+2)    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              150.000k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4. Stvarni trošak financiranja komercijalnim zapis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150.000/1.000.000 x 100)             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15,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863640" y="2781360"/>
            <a:ext cx="82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116000" y="2060640"/>
                <a:ext cx="72010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4</m:t>
                        </m:r>
                        <m:r>
                          <m:t xml:space="preserve">,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57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258920" y="3213000"/>
                <a:ext cx="71118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971640" y="4508640"/>
            <a:ext cx="6840360" cy="1514160"/>
          </a:xfrm>
          <a:prstGeom prst="cloudCallout">
            <a:avLst>
              <a:gd name="adj1" fmla="val 53041"/>
              <a:gd name="adj2" fmla="val -68763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dddddd"/>
                </a:solidFill>
                <a:latin typeface="Tahoma"/>
              </a:rPr>
              <a:t>Sadašnja tržišna vrijednost redovite dionice je veća na kraju treće godine budući da je ulagatelj već ostvario trogodišnje dividen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610920" y="981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cc0000"/>
                </a:solidFill>
                <a:latin typeface="Verdana"/>
              </a:rPr>
              <a:t>   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rimjer 14: Višekratno isplative obvezni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Planirate kupnju anuitetskih obveznica koje dospijevaju kroz 10 godina i nose godišnji anuitet 1.000kn. Koliko biste maksimalno platili za takvu obveznicu ako je za vas prihvatljiva investicija koja donosi godišnji prinos od 12%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26880" y="1987200"/>
            <a:ext cx="85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Vo = A x IVn k=1.000x IV10 12=1.000x5,650223</a:t>
            </a:r>
            <a:r>
              <a:rPr b="1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=</a:t>
            </a:r>
            <a:r>
              <a:rPr b="0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5.650,22k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2700360" y="2997360"/>
                <a:ext cx="4319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76984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614880" y="4003920"/>
            <a:ext cx="78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Maksimalan iznos koji treba platiti za takvu obveznic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je </a:t>
            </a:r>
            <a:r>
              <a:rPr b="1" lang="hr-HR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5.650,22k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hr-HR" sz="2100" spc="-1" strike="noStrike">
                <a:solidFill>
                  <a:srgbClr val="cc0000"/>
                </a:solidFill>
                <a:latin typeface="Verdana"/>
              </a:rPr>
              <a:t>Primjer 15: EBIT-EPS analiz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Dioničko društvo ima dionički kapital od 1.000.000 kn (10.000 redovitih dionica x 100kn nominalne vrijednosti). Društvu je potreban dodatni kapital za financiranje novih investicija od 2.000.000 kn koji može priskrbiti: 1) emisijom novih redovitih dionica (20.000 kom x 100 kn nominale) ili 2) emisijom obveznica (2.000 kom x 1000 kn) uz kamatnu stopu od 12% godišnje. Porezna stopa na dobitak je 5%. Izračunati točku izjednačavanja zarada po dionici Ti te dvije metode financiranja. Koji dugoročni izvor odabrati ako se očekuje bruto financijski rezultat od 5.000.000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684360" y="981000"/>
          <a:ext cx="7920000" cy="5021280"/>
        </p:xfrm>
        <a:graphic>
          <a:graphicData uri="http://schemas.openxmlformats.org/drawingml/2006/table">
            <a:tbl>
              <a:tblPr/>
              <a:tblGrid>
                <a:gridCol w="3570120"/>
                <a:gridCol w="1838520"/>
                <a:gridCol w="2201760"/>
                <a:gridCol w="309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Eleme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edovite dio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Obveznice (du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. Bruto financijski rezultat (BF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. Kamata (2.000.000 x 12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24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. FR prije poreza (1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.76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. Porez na dobitak (3x3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.7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.66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. Neto financijski rezult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.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.09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6. Povlašte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7. Zarada vlasnika redovitih dio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.2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.094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8. Broj emitiranih redovitih dio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9. Zarada (NFRd) po dionici (7: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8,3333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0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050920" y="3213000"/>
                <a:ext cx="4505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484360" y="1989000"/>
                <a:ext cx="360036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564000" y="4149720"/>
                <a:ext cx="130788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0" y="316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16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16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16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1332000" y="1628640"/>
          <a:ext cx="6626160" cy="4381560"/>
        </p:xfrm>
        <a:graphic>
          <a:graphicData uri="http://schemas.openxmlformats.org/drawingml/2006/table">
            <a:tbl>
              <a:tblPr/>
              <a:tblGrid>
                <a:gridCol w="1552320"/>
                <a:gridCol w="2524320"/>
                <a:gridCol w="2141640"/>
                <a:gridCol w="407880"/>
              </a:tblGrid>
              <a:tr h="368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B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edovite dio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Obveznic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6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9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8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9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2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5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9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3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48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1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7,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8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0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048360" cy="38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koliko se očekuje BFR od 5.000.000 kn, </a:t>
            </a:r>
            <a:r>
              <a:rPr b="1" i="1" lang="hr-HR" sz="2400" spc="-1" strike="noStrike">
                <a:solidFill>
                  <a:srgbClr val="000000"/>
                </a:solidFill>
                <a:latin typeface="Verdana"/>
              </a:rPr>
              <a:t>poduzeće treba odabrati financiranje putem obveznica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budući da je zarada po dionici gotovo 200% već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71640" y="1052640"/>
            <a:ext cx="7416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ješenje (d): Revolving kred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Apsolutni godišnji kamatni troša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5.000.000kn x 0,15)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750.000k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Relativni godišnji kamatni troš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(140.000/ 1.000.000 x100)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14,0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899640" y="1773360"/>
            <a:ext cx="713916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Komentar: Poduzeće bi trebalo uz dane uvjete 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(kolateral, klauzule, i sl)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odabrati onaj izvor financiranja koji za jednaku svotu ima 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najniži stvarni kamatni trošak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Verdana"/>
              </a:rPr>
              <a:t>U ovom je primjeru to financiranje bankarskim (klasičnim) kreditom koji ima najniži kamatni trošak od 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13,33%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55280" y="692280"/>
            <a:ext cx="7365960" cy="56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c0000"/>
                </a:solidFill>
                <a:latin typeface="Verdana"/>
              </a:rPr>
              <a:t>      </a:t>
            </a:r>
            <a:r>
              <a:rPr b="1" lang="hr-HR" sz="2400" spc="-1" strike="noStrike">
                <a:solidFill>
                  <a:srgbClr val="cc0000"/>
                </a:solidFill>
                <a:latin typeface="Verdana"/>
              </a:rPr>
              <a:t>Primjer 2 Kratkoročno financiranje- odab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dddddd"/>
                </a:solidFill>
                <a:latin typeface="Verdana"/>
              </a:rPr>
              <a:t>   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Poduzeće treba povećati obrtni kapital za    1.000.000 kn kratkoročnih izvora. Na raspolaganju ima četiri mogućnos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618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redit uz 10% i dekurzivan obračun kam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618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redit uz 10%, dekurzivan obračun kamata i kompenzirajuće stanje od 10% posuđene svo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618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redit uz 10% i anuitetski (obročan) obračun kamata na ukupan du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61880" algn="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redit uz 10%, dekurzivan obračun kamata na ukupan dug i otplatu u jednakim mjesečnim anuiteti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Koji izvor financiranja odabra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42920" y="259920"/>
            <a:ext cx="7345440" cy="57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a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c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63640" y="2060640"/>
                <a:ext cx="48960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826920" y="3573360"/>
                <a:ext cx="7956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pozit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27000" y="5157720"/>
                <a:ext cx="821700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005-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sip Dujmić</cp:lastModifiedBy>
  <dcterms:modified xsi:type="dcterms:W3CDTF">2006-12-04T09:12:51Z</dcterms:modified>
  <cp:revision>7</cp:revision>
  <dc:subject/>
  <dc:title>PowerPoint Presentation</dc:title>
</cp:coreProperties>
</file>