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83D-D592-4623-988B-26E2B558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A73-74B3-489E-A2CC-FA6F3930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6E9-D962-417B-AC1F-4228391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AA6-9D27-4E73-9D9B-0C0E2EA0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813-A993-4269-AFAB-411D41D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1C9-0D1D-43C1-9D7E-9D4AF15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7FF-F475-4ACC-81C4-8D86CFB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551-3C19-438D-A904-3CDC42D9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DFA-1A5E-48B7-ADD9-56611E0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118-668E-4F37-9046-5FB357AD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935-4D3B-4287-A4AE-EC1B931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935-4785-4793-83A6-BAB6FEA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13B7-34DF-4A10-8789-4D8B0D9B0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Programiranje u Excelu</a:t>
            </a: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(programski jezik VB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0574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000000"/>
                </a:solidFill>
                <a:latin typeface="Times New Roman"/>
              </a:rPr>
              <a:t>Poslovna kibernetik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Zadat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učno unašamo niz od deset podataka u Excelu u pretince A1-A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reiramo gumb koji zbraja te vrijednosti i smješta rezultat u A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namo kako se to radi u Excelu, ali možete li to postići koristeći VB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1085760"/>
            <a:ext cx="7696440" cy="577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puta : Kreiraj dva gumba i riješi zadatak na dva na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8001000" cy="483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3808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049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rvo rješenje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moću petlje FOR...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Drugo rješenje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moću Excelove funkcije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Domaća zadać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zradite mali program u VBA koji koristi barem jednu operaciju koju nismo vidjeli na predavanju. Napišite riječima što program radi i obrazložite u nekoliko rečenica rad 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puta: koristite Help iz V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Učili smo kako koristiti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Unos vrijed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Korištenje Excel funk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Korištenje Solvera za rješavanje problema linearnog programira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Po vašem mišljenju koliko smo opcija Iz Excela upoznal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Manje od 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među 5% i 1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među 10% i 5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među 50% i 8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Više od 8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Danas ćemo upoznati kako programirati u Exce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Želimo da korisnik ima bolje upute kod korištenja Excela, koristi se automatizacija pos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Jedan način automatizacije je korištenje VBA (Visual Basic for Applications) programskog jez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Primjer programa u VBA - M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Što radi taj progra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djeli smo da traži podatke koje treba staviti u crvenu i plavu stanicu, a da onda zbroj ispisuje u žutoj stan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ako izgleda taj prog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ako ćemo ga upisati u Ex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ako ćemo ga isprobati (testirati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ako ga možemo promijeni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ostup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ajprije ćemo kreirati gumb u Excel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6629040" y="3200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486040" y="274320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191120"/>
            <a:ext cx="3504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Times New Roman"/>
              </a:rPr>
              <a:t>Iz kutije sa alatima izaberemo gumb i smjestimo ga negdje u tabli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Ako imamo gumb, da li je na njemu odmah generiran i kod koji nam je potreb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30481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ako se to rad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jprije se u Excelu prebacimo na način za oblikovanje (design vi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zaberemo gumb (koji smo ranije dodali u Exc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z kutije sa alatima izaberemo prikaz 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21896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96080" y="2819520"/>
            <a:ext cx="83844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400800" y="2666880"/>
            <a:ext cx="121932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2286000"/>
            <a:ext cx="838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248520" y="3352680"/>
            <a:ext cx="152388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9:15:22Z</dcterms:created>
  <dc:creator>Marina Cicin-Sain</dc:creator>
  <dc:description/>
  <dc:language>en-US</dc:language>
  <cp:lastModifiedBy>Marina Čičin - Šajn</cp:lastModifiedBy>
  <dcterms:modified xsi:type="dcterms:W3CDTF">2007-04-13T13:37:53Z</dcterms:modified>
  <cp:revision>8</cp:revision>
  <dc:subject/>
  <dc:title>Programitranje u Excelu</dc:title>
</cp:coreProperties>
</file>