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2CCF-5343-42C4-A8BC-79D9D0812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49D2-9B7F-4CBE-9003-CE12A6AF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89C7-DE57-476F-BA2A-95867AF0F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7916-F31A-4325-AB36-86431B0AD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59455-7BD6-4421-9D42-E36AF54D6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77819-FA8D-4B40-A7AD-2270B5B7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987BE-D46C-4000-BD07-BE4D4780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2FD61-ABEB-4526-8AA9-94F3EA89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1D7F1-C803-4FD5-9797-796DE6D5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3E763-8E32-4EAB-9D47-A7BBFFB3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D6395-6EC3-46E2-A9D4-83A3BC9B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7519-12B3-401B-9114-43DBCA78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08DA3-0408-46F3-A715-F9D2ADE7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2444D-4F85-4EDE-B680-52FAE5FF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8A64D-E38A-4D4A-B7A4-2F826CC7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BC111-F58E-4984-944B-4B80F648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ED85D-9E47-44A1-8E93-97E23EE76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55DC-85AB-43D6-9824-A2512A48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3E15-7F77-41DB-BB01-21701762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5AFC-1E19-4920-8A87-47BE4362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0538-E4E0-4185-8E6A-8974B820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8E30-D976-431F-AD6D-B00E630B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8E6E-E1B8-4E80-88B6-55D28F3E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2D92-0658-40F2-B6EA-E9784780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C621-7E0A-4AA2-8FF5-27ACE50727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DED3-3588-4790-AC66-76FEAAFE05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kandzija@efri.hr" TargetMode="External"/><Relationship Id="rId2" Type="http://schemas.openxmlformats.org/officeDocument/2006/relationships/hyperlink" Target="mailto:ahost@efri.hr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Međunarodna ekonomija</a:t>
            </a:r>
            <a:br>
              <a:rPr sz="5400"/>
            </a:b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789000"/>
            <a:ext cx="640080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dr.sc. Alen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Jorden" descr=""/>
          <p:cNvPicPr/>
          <p:nvPr/>
        </p:nvPicPr>
        <p:blipFill>
          <a:blip r:embed="rId1"/>
          <a:stretch/>
        </p:blipFill>
        <p:spPr>
          <a:xfrm>
            <a:off x="6877080" y="3429000"/>
            <a:ext cx="18860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Ispit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– 2. tip pitanja - primj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9280" y="1295280"/>
            <a:ext cx="5905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crtane su dvije krivulje transformacije država A i B i obilježene njihove točke ravnoteže u situaciji autarkije. Prema postavkama H-O teorije, odredi trokute razmjene i pronađi točku ravnoteže nakon uspostave međunarodne razmjene. Zašto u toj točki korist od razmjene ostvaruju obje drža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048360" y="1484280"/>
            <a:ext cx="3095280" cy="2808000"/>
            <a:chOff x="6048360" y="1484280"/>
            <a:chExt cx="3095280" cy="2808000"/>
          </a:xfrm>
        </p:grpSpPr>
        <p:sp>
          <p:nvSpPr>
            <p:cNvPr id="144" name=""/>
            <p:cNvSpPr/>
            <p:nvPr/>
          </p:nvSpPr>
          <p:spPr>
            <a:xfrm>
              <a:off x="6109200" y="3844800"/>
              <a:ext cx="384840" cy="250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759520" y="3897000"/>
              <a:ext cx="384120" cy="39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48360" y="1484280"/>
              <a:ext cx="384120" cy="250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08640" y="1537920"/>
              <a:ext cx="0" cy="234036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08640" y="3878280"/>
              <a:ext cx="28069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308640" y="1963080"/>
              <a:ext cx="1177200" cy="1915200"/>
            </a:xfrm>
            <a:custGeom>
              <a:avLst/>
              <a:gdLst/>
              <a:ahLst/>
              <a:rect l="l" t="t" r="r" b="b"/>
              <a:pathLst>
                <a:path w="172" h="315">
                  <a:moveTo>
                    <a:pt x="0" y="0"/>
                  </a:moveTo>
                  <a:cubicBezTo>
                    <a:pt x="30" y="7"/>
                    <a:pt x="60" y="14"/>
                    <a:pt x="85" y="41"/>
                  </a:cubicBezTo>
                  <a:cubicBezTo>
                    <a:pt x="110" y="68"/>
                    <a:pt x="132" y="113"/>
                    <a:pt x="147" y="159"/>
                  </a:cubicBezTo>
                  <a:cubicBezTo>
                    <a:pt x="162" y="205"/>
                    <a:pt x="167" y="260"/>
                    <a:pt x="172" y="315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rot="5454000">
              <a:off x="6856560" y="2257200"/>
              <a:ext cx="1045080" cy="2157480"/>
            </a:xfrm>
            <a:custGeom>
              <a:avLst/>
              <a:gdLst/>
              <a:ahLst/>
              <a:rect l="l" t="t" r="r" b="b"/>
              <a:pathLst>
                <a:path w="172" h="315">
                  <a:moveTo>
                    <a:pt x="0" y="0"/>
                  </a:moveTo>
                  <a:cubicBezTo>
                    <a:pt x="30" y="7"/>
                    <a:pt x="60" y="14"/>
                    <a:pt x="85" y="41"/>
                  </a:cubicBezTo>
                  <a:cubicBezTo>
                    <a:pt x="110" y="68"/>
                    <a:pt x="132" y="113"/>
                    <a:pt x="147" y="159"/>
                  </a:cubicBezTo>
                  <a:cubicBezTo>
                    <a:pt x="162" y="205"/>
                    <a:pt x="167" y="260"/>
                    <a:pt x="172" y="315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7033320" y="2620800"/>
              <a:ext cx="127440" cy="102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7599240" y="3110040"/>
              <a:ext cx="127440" cy="102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90680" y="2576160"/>
              <a:ext cx="384120" cy="39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97280" y="3110040"/>
              <a:ext cx="384120" cy="39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Ispit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– 3. tip pitanja - primj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8920" y="1295280"/>
            <a:ext cx="8280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inski kontingent je: _______________________________________________________________________________________________________________________________________________________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Literatura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Osnovna literatur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Skripta (prvi, drugi, treći di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Dodatna literatur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Babić, M.: Međunarodna ekonom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Trlin, V.: Međunarodna ekonom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Krugman, Helpman: International Econom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Salvatore, D.: International Econom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……………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Konzultacij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prof.dr.sc. </a:t>
            </a:r>
            <a:r>
              <a:rPr b="0" lang="hr-HR" sz="3600" spc="-1" strike="noStrike">
                <a:solidFill>
                  <a:srgbClr val="ffffff"/>
                </a:solidFill>
                <a:latin typeface="Monotype Corsiva"/>
              </a:rPr>
              <a:t>Vinko Kandžija</a:t>
            </a: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hr-HR" sz="3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kandzija@efri.hr</a:t>
            </a: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utorak od 12.00 – 14.00 sat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kabinet 44 (II.ka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dr.sc. </a:t>
            </a:r>
            <a:r>
              <a:rPr b="0" lang="hr-HR" sz="3600" spc="-1" strike="noStrike">
                <a:solidFill>
                  <a:srgbClr val="ffffff"/>
                </a:solidFill>
                <a:latin typeface="Monotype Corsiva"/>
              </a:rPr>
              <a:t>Alen Host</a:t>
            </a: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hr-HR" sz="30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ahost@efri.hr</a:t>
            </a:r>
            <a:r>
              <a:rPr b="0" lang="hr-HR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onedjeljak 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od 10.00 – 12.00 sa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utorak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od 10.00 – 12.00 sa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kabinet 84 (IV.ka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Teme predavanj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6. veljače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vo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Zašto izučavati međunarodnu ekonomij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rkantiliz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Teme predavanj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04. ožujka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eorija apsolutnih pred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eorija komparativnih pred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Teme predavanj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11. ožujka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Heckscher-Ohlinova teorija međunarodne razmje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Teoremi Heckscher-Ohlinove teorije međunarodne razmje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Teme predavanj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8. ožujka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anjskotrgovinska polit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Teme predavanj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. ožujka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rinske i necarinske metode zašt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Teme predavanj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travnja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. Kolokvij !! (13.15 sat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vizni teča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Općenit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avan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lokvi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terat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nzultaci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Teme predavanj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. travnja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ustavi i režimi deviznog teča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Teme predavanj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5. travnja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latna bilan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Teme predavanj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. travnja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eravnoteža platne bi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Teme predavanj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9. travnja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I. Kolokvij (13.15 sati)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đunarodne ekonomske organizaci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vjetska trgovinska organizacija (WT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Teme predavanj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06. svibnja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đunarodne ekonomske organizaci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đunarodni monetarni fond (IM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vjetska banka (W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Teme predavanj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. svibnja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đunarodne ekonomske integraci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uropska un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Teme predavanj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0. svibnja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đunarodne ekonomske integraci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ustav funkcioniranja E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Teme predavanj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7. svibnja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publika Hrvatska i europski integracijski tokov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Teme predavanj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03. lipnja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II. Kolokvij 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Predavanj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rof.dr.sc. Vinko Kandž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Dr.sc. Alen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onedjeljkom od 13.15 do 16.00 sa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Dvorana IX (IV.ka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Kolokvij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Tri kolokv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Svaki kolokvij – tri grupe pitan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multiple choice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nadopunjav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grafička anali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Literatura – skripta (tri dijel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oložena tri kolokvija – položen isp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Kolokvij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tum održavanj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kolokvij: 01. travnja 2008. u 13.15 sa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kolokvij: 29. travnja 2008. u 13.15 sa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kolokvij: 03. lipnja 2008. u 13.15 sa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janje kolokvija 20 minu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Kolokvij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ev. prepisivanje </a:t>
            </a:r>
            <a:r>
              <a:rPr b="1" lang="hr-HR" sz="3600" spc="-1" strike="noStrike">
                <a:solidFill>
                  <a:srgbClr val="ffffff"/>
                </a:solidFill>
                <a:latin typeface="Arial"/>
                <a:ea typeface="Arial Unicode MS"/>
              </a:rPr>
              <a:t>⇒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poništavanje kolokv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Kriterij – ocjena dovoljan – barem 50% mogućih bodova na sva tri kolokv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Uvjet za drugi (treći) kolokvij – položen prvi (drugi) kolokvi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Kolokvij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jenjivanj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broj bodova sva tri kolokvija (70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sustvovanje na nastavi (15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djelovanje u seminarskim aktivnostima (15%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Ispit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Ispit – tri grupe pitan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multiple choi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nadopunjav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grafička anali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Skripta (prvi + drugi + treći di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ev. prepisivanje </a:t>
            </a:r>
            <a:r>
              <a:rPr b="1" lang="hr-HR" sz="3600" spc="-1" strike="noStrike">
                <a:solidFill>
                  <a:srgbClr val="ffffff"/>
                </a:solidFill>
                <a:latin typeface="Arial"/>
                <a:ea typeface="Arial Unicode MS"/>
              </a:rPr>
              <a:t>⇒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poništavanje ispi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Kriterij – ocjena dovoljan – barem 50% mogućih bodo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Dodatni bodovi – ljetni i jesenski ispitni r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Ispit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– 1. tip pitanja - primj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rema teoriji Adama Smitha, Davida Ricarda, kao i prema H-O teoriji, međunarodna razmjena povećav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a) Zaposle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b) Direktne inozemne investicije (FD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c) Devizne rezer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d) Blagost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09:27:49Z</dcterms:created>
  <dc:creator>ahost</dc:creator>
  <dc:description/>
  <dc:language>en-US</dc:language>
  <cp:lastModifiedBy>Ekonomski fakultet Rijeka</cp:lastModifiedBy>
  <dcterms:modified xsi:type="dcterms:W3CDTF">2008-03-04T10:53:31Z</dcterms:modified>
  <cp:revision>16</cp:revision>
  <dc:subject/>
  <dc:title>Međunarodna ekonomija - seminar -</dc:title>
</cp:coreProperties>
</file>