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935-0E00-46D8-A337-0400B70F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475-3F50-4780-8D29-4F8356E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774-801D-4815-B1E3-BA2AC60C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F24-B726-4BE3-A518-30ADAC4F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05FC-6A48-4970-9542-85B15C28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257B-B2D1-4FB1-A0BD-75D66071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24A-A754-4B6A-8D7C-971C6D35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0F2-0119-48F6-A45A-A2DA6AD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966-8DBC-4C73-B60E-C1BB1771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F42F-0CA2-4FB8-9DEE-7C62A371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1BCD-C4EE-49E5-8B12-77F4120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6A9-7D06-4DC3-859E-D730074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96D9-24B9-422F-BBC2-59D2CB7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EAD6-58E4-4142-8E6E-FC18055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A2C-3FED-45EF-941B-728FB75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9AD4-5739-4B43-AC58-DAC9810F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9910-7B3C-4E9F-811C-BC2AF12D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503-D989-4685-B6B9-B9E34FB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1D8-07AC-4A33-AA1A-9BFDBB43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BFF-AC25-44C9-A1B8-82874C21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BB3-A85D-4B79-9682-3358F733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9D9-295A-4AF9-A5C0-E968E01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084-A933-465C-8386-C0F9721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0E6-1B33-4E10-B804-03DCE69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B59A-4F78-4182-B673-76EFAF5C2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56CB-5C2E-47FD-B844-30EE5AB1FC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676160"/>
            <a:ext cx="7286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Platna bilanca Republike Hrvats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đunarodne pričuve u EUR i u mjesecima uvoza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 r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be i uslug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05636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353-7143-454C-828D-D8668DFC24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kazatelji inozemne zaduže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624720" cy="44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AAD-E2DF-42BE-9159-315FAE8B0D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kazatelji inozemne zaduženosti po 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državama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, 2005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675640" cy="35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A43-26C3-4C59-9622-D30523F7D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ozemna izravna ulag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FCC-1506-43AD-B898-478F37B95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FDI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p/c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u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 o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branim tranzicijskim 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državama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, 1993.–2005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16720" cy="454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B32-B917-46CD-8C40-8EFFDFDBC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D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u R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27236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5D7-520F-4EB0-A83C-26F4EC59D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D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u R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5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9BA-B3F6-459D-B39A-5EE94A5B19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D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u R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35280" y="1828800"/>
            <a:ext cx="633708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6BA-55AB-4469-AC64-46405B506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ldo tekućeg računa i FDI u Hrvats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705800" cy="43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049-BBE3-4155-8CA5-FAD3D664F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cit tekućeg računa, 200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55344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CF9-34B7-4A67-8273-757AD3A73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eks nominalnog dnevnog tečaja kune prema euru</a:t>
            </a: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meričkom dolaru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[2001. = 100]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884240"/>
            <a:ext cx="6985080" cy="44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279-1EB5-4972-A6F9-9CA3CD555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bna razmje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98640"/>
            <a:ext cx="669600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D82-3A42-4A0C-B6E0-EABE933B0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tna struktura robnog izvoza i uvo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5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DD5-C203-42D8-BEEF-FBDED0722E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ozemni dug RH prema sektoru dužn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4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00F-009F-4F42-BA82-DE5C15EB8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ozemni dug RH prema sektoru kredito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84072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290-7CFD-47D4-B0F7-81DE1AFBC3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kcija otplate glavnica i k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EE5-8BF1-4119-9F99-40C6686A4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7:33:23Z</dcterms:created>
  <dc:creator>Ekonomski fakultet Rijeka</dc:creator>
  <dc:description/>
  <dc:language>en-US</dc:language>
  <cp:lastModifiedBy>Ekonomski fakultet Rijeka</cp:lastModifiedBy>
  <dcterms:modified xsi:type="dcterms:W3CDTF">2007-03-09T07:59:56Z</dcterms:modified>
  <cp:revision>2</cp:revision>
  <dc:subject/>
  <dc:title>Slide 1</dc:title>
</cp:coreProperties>
</file>