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D5E-596B-4197-B226-1A9AA5FA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28600" y="3933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48E-7AFF-485A-A3E7-571CFB3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800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D55-9833-412A-9DA0-79A9F20B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6584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0272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2860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16584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0272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94C-A137-47A6-9E9A-5CC8AACF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76240" y="-360"/>
            <a:ext cx="7367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CE0-3832-4607-8E89-244C253F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933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00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6584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0272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6584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0272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9A6-1B26-40C5-BD78-E047F440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B75-C88B-447F-B5FF-4DAA9657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E22-90AE-4F0D-AB18-72288F11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76240" y="-360"/>
            <a:ext cx="7367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15D-1340-4616-BBCB-64CE00AF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E7E-ECBC-4EFA-83F9-128C3038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800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806-E8A6-4896-AE7B-1F9CB163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9F7-7DC8-4A3F-8518-3B1EDE4A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76240" cy="1371600"/>
          </a:xfrm>
          <a:prstGeom prst="rect">
            <a:avLst/>
          </a:prstGeom>
          <a:solidFill>
            <a:srgbClr val="bab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456840" y="6095520"/>
            <a:ext cx="3809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685800" y="6705720"/>
            <a:ext cx="7848720" cy="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380520" y="6705720"/>
            <a:ext cx="304920" cy="30456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76320" y="6553080"/>
            <a:ext cx="457200" cy="45720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76320" y="6629400"/>
            <a:ext cx="457200" cy="45720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380880" y="6553080"/>
            <a:ext cx="8382240" cy="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533520" y="6629400"/>
            <a:ext cx="8153280" cy="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34520" y="6248520"/>
            <a:ext cx="1143000" cy="1066680"/>
          </a:xfrm>
          <a:prstGeom prst="ellipse">
            <a:avLst/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776240" y="0"/>
            <a:ext cx="7367760" cy="1371600"/>
          </a:xfrm>
          <a:prstGeom prst="rect">
            <a:avLst/>
          </a:prstGeom>
          <a:gradFill rotWithShape="0">
            <a:gsLst>
              <a:gs pos="0">
                <a:srgbClr val="babade"/>
              </a:gs>
              <a:gs pos="50000">
                <a:srgbClr val="dbdbed"/>
              </a:gs>
              <a:gs pos="100000">
                <a:srgbClr val="baba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4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-19080" y="0"/>
            <a:ext cx="1828800" cy="13669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8DBE-FEB1-4478-BF06-835FA2F5C5C8}" type="slidenum">
              <a:rPr b="0" lang="en-US" sz="2400" spc="-1" strike="noStrike">
                <a:solidFill>
                  <a:srgbClr val="666699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7624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530712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86576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42440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221760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98304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54168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10032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265896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574848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618984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795492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751356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707220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663084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839628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883908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9372600" y="2590920"/>
            <a:ext cx="2867040" cy="3157560"/>
            <a:chOff x="-9372600" y="2590920"/>
            <a:chExt cx="2867040" cy="3157560"/>
          </a:xfrm>
        </p:grpSpPr>
        <p:sp>
          <p:nvSpPr>
            <p:cNvPr id="71" name=""/>
            <p:cNvSpPr/>
            <p:nvPr/>
          </p:nvSpPr>
          <p:spPr>
            <a:xfrm>
              <a:off x="-8799480" y="510732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-7656480" y="321480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7091280" y="259092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8231040" y="510732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-7091280" y="321480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8231040" y="384840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9372600" y="384840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7656480" y="384840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8799480" y="447228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8231040" y="447228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152280" y="0"/>
            <a:ext cx="5072040" cy="3790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title"/>
          </p:nvPr>
        </p:nvSpPr>
        <p:spPr>
          <a:xfrm>
            <a:off x="456840" y="25909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5054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1237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000" spc="-1" strike="noStrike">
                <a:solidFill>
                  <a:srgbClr val="950546"/>
                </a:solidFill>
                <a:latin typeface="Arial"/>
              </a:rPr>
              <a:t>Platna bilanca </a:t>
            </a:r>
            <a:br>
              <a:rPr sz="5000"/>
            </a:br>
            <a:r>
              <a:rPr b="1" lang="hr-HR" sz="5000" spc="-1" strike="noStrike">
                <a:solidFill>
                  <a:srgbClr val="950546"/>
                </a:solidFill>
                <a:latin typeface="Arial"/>
              </a:rPr>
              <a:t>Republike Hrvatske</a:t>
            </a:r>
            <a:endParaRPr b="0" lang="en-US" sz="5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1896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čun usluga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portne uslu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ješće 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o statističko istraživanje HNB o uslugama u međunarodnom prijevo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ECF-FB39-43BD-A9B4-BACBD119F0B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21896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čun uslug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tovanja-turiz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led korištenih metodolog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todologija zasnovana na otkupu i prodaji (polaganju i podizanju) strane efektive i če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“Prijelazna” metod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nketno istraživanje Hrvatske narodne banke  “Potrošnja inozemnih putnika u Hrvatskoj i domaćih putnika u inozemstv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FFE-7972-4FCE-8C27-96A950275A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21896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čun rob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ori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lagodbe na računu 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ođenje vrijednosti uvoza iskazanog n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itetu n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O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jena potrošnje o individualnim kupovinama inozemnih putnika u Republici Hrvatskoj i domaćih putnika u inozemstvu (“shopping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3CB-799F-405C-BA41-41497556AF0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600" y="121896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čun uslu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stale uslu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or podataka: platni promet s inozemstv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va istraživan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đunarodne transakcije povezane s komunikacijskim uslug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đunarodne transakcije povezane s osiguran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AEF-6F72-4B60-994C-7C2EA275ABD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121896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čun dohot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knade zaposle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hodak po osnovi izravnih u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hodak po osnovi portfolio u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hodak po osnovi ostalih u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02B-BB9B-4FA3-B050-9D3D0F733EE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21896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Kapitalne transakcij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ljenički transf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kcesijski posl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upoprodaja patenata i lice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jske transakcije, isključujući međunarodne priču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đunarodne pričuve H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679-453E-44CB-BD76-B292FB72850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121896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zravna ulaganj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čko istraživanje HNB o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FD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 portfolio ulaganj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ortfolio ulaganj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tatističko istraživanje H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baza podataka o kreditnim poslovima s inozemstv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072-62F4-4DE0-98F6-3FE3BD1CFA1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600" y="121896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stala ulaganj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edstva i obv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ori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cionalni sektori: HNB, država, banke i ostali s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D41-1166-4C99-8E90-5957EF3D85A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600" y="121896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stala ulaganj</a:t>
            </a:r>
            <a:r>
              <a:rPr b="1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govinski krediti (država i ostali sekto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diti (država, banke, ostali sekto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 i depoziti (država, banke i ostali sekto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F05-BDB1-4A11-B565-8F6562A30B3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121896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đunarodne pričuve HN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vanje po transakcijskoj osn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eto pogreške i propu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zidualna kategorija, pokazatelj nesavršenosti” platnobilančne statis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E47-1B82-4BB0-8743-BB0248E1BBC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Što je platna bilanca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ja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stav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kaz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i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kcija između rezidenata nek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nerezidenata u određenom vremenskom razdoblj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najčešće jedne god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514-FD1D-426B-AE82-CF8646B27D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Faktori kretanja na tekućem računu PB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148572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st realnih neto pla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29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938-D7DB-4BFC-9F6B-ED7E4CA1F1A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Faktori kretanja na tekućem računu PB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148572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nižavanje razine kamatnih st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2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86C-1AB2-46B8-B0E8-687E9CA709E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Faktori kretanja na tekućem računu PB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148572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većanje kreditne aktivnosti b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CD4-A712-4E2E-907B-9586FBC3362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Faktori kretanja na tekućem računu PB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57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stanak i produbljivanje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budžetsko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def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05920" cy="42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D52-A127-4C87-B9B8-88919DB811A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Faktori kretanja na tekućem računu PB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857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tjecaj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B2B-C0BD-450F-AC6B-00AB12B54ECB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Faktori kretanja na tekućem računu PB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4857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..i ostali fakt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25909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no okruženje u Hrvatskoj i široj reg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atrijacija devizne štednje iz inozemstva i iz “čarapa” u domaći bankarski su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ogram obveza prema “Pariškom” i “Londonskom” klubu vjerov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602-8FE8-4118-A861-6CCD185C196C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Faktori kretanja na tekućem računu PB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857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..i ostali fakt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" y="22860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jena kreditnog rejtinga drž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dostatak sklopljenih bilateralnih i multilateralnih Ugovora o slobodnoj trgovini, ne-članstvo u WTO-u (do 2000. god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bitak prijeratnih izvoznih tr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iženje carinskih stopa (1996. i 200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B2D-2BA2-4DFA-8EB1-7A1ED072993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Faktori kretanja na tekućem računu PB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4857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..doveli s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22860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tanka deficita tekućeg računa platne bila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bljivanja deficita T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ta deficita TR po stopama većim od porasta BDP-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EB7-9E79-44D8-B019-78873A34224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Faktori kretanja na tekućem računu PB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857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..doveli s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86800" cy="32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1DE-CF61-4ECF-BADA-558C322DF986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90033"/>
                </a:solidFill>
                <a:latin typeface="Arial"/>
              </a:rPr>
              <a:t>Tekući račun platne bilance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417680"/>
          <a:ext cx="9144000" cy="46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7680"/>
                    <a:ext cx="914400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B42-B072-437E-BEB1-506A7A6AAE38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meljn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jmovi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Arial"/>
              </a:rPr>
              <a:t>Platnobilančna transakcij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ansakcija koja se odvija između rezidenta i nerezid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ransakcija se ne smatra platnobilančnom transakcijom u slučaju kad se obavlja između rezid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 većini slučajeva ova transakcija obuhvaća deviznu transakciju (plaćanje / napla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D10-6002-4371-8198-2D90797571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90033"/>
                </a:solidFill>
                <a:latin typeface="Arial"/>
              </a:rPr>
              <a:t>Tekući račun platne bilance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9917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984-DEA9-44D3-AD7A-D9C208D36A3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90033"/>
                </a:solidFill>
                <a:latin typeface="Arial"/>
              </a:rPr>
              <a:t>Platna bilanca – saldo trgovine robama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280" y="1417680"/>
          <a:ext cx="8991720" cy="47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17680"/>
                    <a:ext cx="899172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CE9-1B26-4C7C-B459-DBD5053D7BF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90033"/>
                </a:solidFill>
                <a:latin typeface="Arial"/>
              </a:rPr>
              <a:t>Platna bilanca – saldo trgovine uslugama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538280"/>
          <a:ext cx="8915400" cy="470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38280"/>
                    <a:ext cx="891540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F4F-E2EB-4123-8245-B4EC34EC1808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90033"/>
                </a:solidFill>
                <a:latin typeface="Arial"/>
              </a:rPr>
              <a:t>Platna bilanca – </a:t>
            </a:r>
            <a:br>
              <a:rPr sz="4000"/>
            </a:br>
            <a:r>
              <a:rPr b="1" lang="hr-HR" sz="4000" spc="-1" strike="noStrike">
                <a:solidFill>
                  <a:srgbClr val="990033"/>
                </a:solidFill>
                <a:latin typeface="Arial"/>
              </a:rPr>
              <a:t>saldo – transport 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417680"/>
          <a:ext cx="9144000" cy="482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7680"/>
                    <a:ext cx="914400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AA5-9A80-4E87-A715-50DBCCF1E1F4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90033"/>
                </a:solidFill>
                <a:latin typeface="Arial"/>
              </a:rPr>
              <a:t>Platna bilanca – saldo – putovanja 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538280"/>
          <a:ext cx="8686800" cy="45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8280"/>
                    <a:ext cx="8686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4C1-6165-4743-8232-F72DD999C443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90033"/>
                </a:solidFill>
                <a:latin typeface="Arial"/>
              </a:rPr>
              <a:t>PB – pokrivenost deficita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774-2E9E-4633-A576-F33614F04264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90033"/>
                </a:solidFill>
                <a:latin typeface="Arial"/>
              </a:rPr>
              <a:t>Platna bilanca – saldo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DE5-2970-4E96-8F51-3B0B1487E8D8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90033"/>
                </a:solidFill>
                <a:latin typeface="Arial"/>
              </a:rPr>
              <a:t>Platna bilanca – temeljni pokazatelji 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228600" y="1279440"/>
          <a:ext cx="9601200" cy="50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279440"/>
                    <a:ext cx="96012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E47-3252-4FF2-BC3B-7A386653AAF9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meljn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jmovi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Arial"/>
              </a:rPr>
              <a:t>Rezident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zička osoba koja trajno boravi u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H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i koja ima dopuštenje boravka u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H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za razdoblje dulje od jedne g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plomatsko, konzularno i drugo službeno osoblje koje predstavlja Republiku Hrvatsku u inozemstvu, te uživa imunitet i diplomatske privil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avna osoba registrirana u Republici Hrvatskoj, uključujući strane podružnice, reprezentativne urede i branše locirane u Republici Hrvatskoj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D2C-31EC-40DE-9E2E-C9DBDBDAED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meljn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jmovi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000000"/>
                </a:solidFill>
                <a:uFillTx/>
                <a:latin typeface="Arial"/>
              </a:rPr>
              <a:t>Ner</a:t>
            </a:r>
            <a:r>
              <a:rPr b="1" lang="en-AU" sz="4000" spc="-1" strike="noStrike" u="sng">
                <a:solidFill>
                  <a:srgbClr val="000000"/>
                </a:solidFill>
                <a:uFillTx/>
                <a:latin typeface="Arial"/>
              </a:rPr>
              <a:t>ezident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ve pravne i fizičke osobe koje nisu obuhvaćene terminom "rezid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4F3-5345-4C31-881C-56B65277BD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NCOTERMS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OB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(free on board)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cijena robe koja uključuje proizvodne troškove i izdatke vezane uz transport i osiguranje roba do državne granice zemlje izvoz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 (cost, insurance and freight)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: cijena robe koja uključuje proizvodne troškove i izdatke povezane uz transport i osiguranje roba od državne granice zemlje izvoznika do ugovorenog mjesta isporuke u zemlji uvoz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7FA-1622-4276-9D64-C9A87ED218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meljn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jmovi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Izravna ulaganja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(FDI)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: svako ulaganje u poslovni subjekt (poduzeće, banka, fond, itd.) koje garantira pravo glasa i mogućnost upravljanja subjektom.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DI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se smatra svako ulaganje koje obuhvaća najmanje 10% kapitala poslovnog subjekt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prema IMF-u)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Sektor država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: sva državna i lokalna javna tijela, ambasade, državni fondovi, i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Monetarne vlasti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: Hrvatska narodna b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161-010C-4DED-AE80-5D29633966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1440" y="1790640"/>
            <a:ext cx="8601120" cy="407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6FB-0694-4367-BF82-1BAB550478F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vori podataka za PB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121896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ješća Državnog zavoda za statist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Zavoda za platni pro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ješća poslovnih banaka, poduzeća i drugih organizacijskih jedinica Hrvatske narodne bank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lastita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istička istraživanj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atske narodne bank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potrošnja turist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D4E-B7C8-4335-9A67-9D66D93595A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prof. dr. sc. Vinko Kandžija - Međunarodna ekonomija 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07:38:40Z</dcterms:created>
  <dc:creator>Pamela L. Hall</dc:creator>
  <dc:description/>
  <dc:language>en-US</dc:language>
  <cp:lastModifiedBy>Ekonomski fakultet Rijeka</cp:lastModifiedBy>
  <dcterms:modified xsi:type="dcterms:W3CDTF">2006-04-07T12:26:35Z</dcterms:modified>
  <cp:revision>11</cp:revision>
  <dc:subject/>
  <dc:title>Intra-Industry Tra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4818991</vt:r8>
  </property>
  <property fmtid="{D5CDD505-2E9C-101B-9397-08002B2CF9AE}" pid="3" name="_AuthorEmail">
    <vt:lpwstr>foah01@yahoo.com</vt:lpwstr>
  </property>
  <property fmtid="{D5CDD505-2E9C-101B-9397-08002B2CF9AE}" pid="4" name="_AuthorEmailDisplayName">
    <vt:lpwstr>Pamela Hall</vt:lpwstr>
  </property>
  <property fmtid="{D5CDD505-2E9C-101B-9397-08002B2CF9AE}" pid="5" name="_EmailSubject">
    <vt:lpwstr>Windows on the World Economy PowerPoints (Chapters 1-11)</vt:lpwstr>
  </property>
  <property fmtid="{D5CDD505-2E9C-101B-9397-08002B2CF9AE}" pid="6" name="_ReviewingToolsShownOnce">
    <vt:lpwstr/>
  </property>
</Properties>
</file>