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875-DA64-42E2-B959-2EFCACEC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317-C177-42AA-8F52-C8E2653A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E25-740B-4B29-9D3A-BB41749E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5E9-3E06-460C-AD35-B6A014A7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ACA38-F13C-4302-9263-41BC42BD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EECE4-2A6F-44C3-95B9-49F74325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CEB37-51B6-41E7-849B-0FCCFC8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1073-B15D-453A-AAE7-FC5503F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08BE-ADA9-45D2-B57A-2C676DC8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28A4D-39BC-4624-A5D8-CC4A5D8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58BEE-6347-46E5-B800-1DA0456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0A2-0EAD-446B-BC45-133E477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FB234-250F-4A5A-AC5A-126B779C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FF48B-34C0-480B-A7B3-50631F7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3EA4A-D123-4CB9-96DB-884E50B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8D1A-026B-40C9-A852-7523ACE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D669-9C38-48C6-9491-B28CB9C3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B9C-B755-4826-B702-8D31620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119-3D42-42D2-BB79-9C3518D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B36-4928-4B0E-A379-4260D06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F90-B9B5-4753-A154-690FDB65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60B-8814-49BE-86AB-DFA501F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7AF-3F32-4D52-A1C0-DBB9B62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5E2-DD56-4D7B-943C-8C9629B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E8F-6EC5-4648-9F6C-B08B86B33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B530-D4D1-4141-A17E-A872ED4B0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kandzija@efri.hr" TargetMode="External"/><Relationship Id="rId2" Type="http://schemas.openxmlformats.org/officeDocument/2006/relationships/hyperlink" Target="mailto:ahost@efri.hr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eđunarodna ekonomija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.sc. Alen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Jorden" descr=""/>
          <p:cNvPicPr/>
          <p:nvPr/>
        </p:nvPicPr>
        <p:blipFill>
          <a:blip r:embed="rId1"/>
          <a:stretch/>
        </p:blipFill>
        <p:spPr>
          <a:xfrm>
            <a:off x="6877080" y="3429000"/>
            <a:ext cx="1886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2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5905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rtane su dvije krivulje transformacije država A i B i obilježene njihove točke ravnoteže u situaciji autarkije. Prema postavkama H-O teorije, odredi trokute razmjene i pronađi točku ravnoteže nakon uspostave međunarodne razmjene. Zašto u toj točki korist od razmjene ostvaruju obje drž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48360" y="1484280"/>
            <a:ext cx="3095280" cy="2808000"/>
            <a:chOff x="6048360" y="1484280"/>
            <a:chExt cx="3095280" cy="2808000"/>
          </a:xfrm>
        </p:grpSpPr>
        <p:sp>
          <p:nvSpPr>
            <p:cNvPr id="144" name=""/>
            <p:cNvSpPr/>
            <p:nvPr/>
          </p:nvSpPr>
          <p:spPr>
            <a:xfrm>
              <a:off x="6109200" y="3844800"/>
              <a:ext cx="384840" cy="250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59520" y="389700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48360" y="1484280"/>
              <a:ext cx="384120" cy="250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8640" y="1537920"/>
              <a:ext cx="0" cy="2340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8640" y="3878280"/>
              <a:ext cx="28069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8640" y="1963080"/>
              <a:ext cx="1177200" cy="1915200"/>
            </a:xfrm>
            <a:custGeom>
              <a:avLst/>
              <a:gdLst/>
              <a:ahLst/>
              <a:rect l="l" t="t" r="r" b="b"/>
              <a:pathLst>
                <a:path w="172" h="315">
                  <a:moveTo>
                    <a:pt x="0" y="0"/>
                  </a:moveTo>
                  <a:cubicBezTo>
                    <a:pt x="30" y="7"/>
                    <a:pt x="60" y="14"/>
                    <a:pt x="85" y="41"/>
                  </a:cubicBezTo>
                  <a:cubicBezTo>
                    <a:pt x="110" y="68"/>
                    <a:pt x="132" y="113"/>
                    <a:pt x="147" y="159"/>
                  </a:cubicBezTo>
                  <a:cubicBezTo>
                    <a:pt x="162" y="205"/>
                    <a:pt x="167" y="260"/>
                    <a:pt x="172" y="31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54000">
              <a:off x="6856560" y="2257200"/>
              <a:ext cx="1045080" cy="2157480"/>
            </a:xfrm>
            <a:custGeom>
              <a:avLst/>
              <a:gdLst/>
              <a:ahLst/>
              <a:rect l="l" t="t" r="r" b="b"/>
              <a:pathLst>
                <a:path w="172" h="315">
                  <a:moveTo>
                    <a:pt x="0" y="0"/>
                  </a:moveTo>
                  <a:cubicBezTo>
                    <a:pt x="30" y="7"/>
                    <a:pt x="60" y="14"/>
                    <a:pt x="85" y="41"/>
                  </a:cubicBezTo>
                  <a:cubicBezTo>
                    <a:pt x="110" y="68"/>
                    <a:pt x="132" y="113"/>
                    <a:pt x="147" y="159"/>
                  </a:cubicBezTo>
                  <a:cubicBezTo>
                    <a:pt x="162" y="205"/>
                    <a:pt x="167" y="260"/>
                    <a:pt x="172" y="31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33320" y="2620800"/>
              <a:ext cx="127440" cy="1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599240" y="3110040"/>
              <a:ext cx="127440" cy="1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90680" y="257616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7280" y="311004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3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2952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nski kontingent je: _________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Literatura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Skripta (prvi, drugi, treći 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datna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abić, M.: Međunarodna ekonom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lin, V.: Međunarodna ekonom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ugman, Helpman: International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alvatore, D.: International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……………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nzultaci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rof.dr.sc. </a:t>
            </a:r>
            <a:r>
              <a:rPr b="0" lang="hr-HR" sz="3600" spc="-1" strike="noStrike">
                <a:solidFill>
                  <a:srgbClr val="ffffff"/>
                </a:solidFill>
                <a:latin typeface="Monotype Corsiva"/>
              </a:rPr>
              <a:t>Vinko Kandžija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hr-HR" sz="3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kandzija@efri.hr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utorak od 12.00 – 14.00 sa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binet 44 (II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r.sc. </a:t>
            </a:r>
            <a:r>
              <a:rPr b="0" lang="hr-HR" sz="3600" spc="-1" strike="noStrike">
                <a:solidFill>
                  <a:srgbClr val="ffffff"/>
                </a:solidFill>
                <a:latin typeface="Monotype Corsiva"/>
              </a:rPr>
              <a:t>Alen Host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hr-HR" sz="3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ahost@efri.hr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nedjeljak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10.00 – 12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torak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10.00 – 12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binet 84 (IV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. veljač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v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ašto izučavati međunarodnu ekonomij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rkantiliz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5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orija apsolutnih pr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12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Heckscher-Ohlinova teorija međunarodne razmj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Teoremi Heckscher-Ohlinove teorije međunarodne razmj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njskotrgovinska poli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6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rinske i necarinske metode zašt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. Kolokvij !! (09.15 sa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izni teč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pćen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lokv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zult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vi i režimi deviznog teča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tna bilan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avnoteža platne bi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0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. Kolokvij (09.15 sati)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vjetska trgovinska organizacija (W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7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i monetarni fond (IM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vjetska banka (W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integ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ropska un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integ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v funkcioniranja 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8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ublika Hrvatska i europski integracijski to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4. lip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. Kolokvij (09.15 sati)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f.dr.sc. Vinko Kandž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.sc. Alen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nedjeljkom od 13.15 do 16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vorana IX (IV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i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vaki kolokvij – tri grupe pit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ultiple choic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dopunja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rafička an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iteratura – skripta (tri dije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ložena tri kolokvija – položen isp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um održava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kolokvij: 02. travnja 2008. u 09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kolokvij: 30. travnja 2008. u 09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olokvij: 04. lipnja 2008. u 09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janje kolokvija 20 min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. prepisivanje 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⇒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poništavanje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iterij – ocjena dovoljan – barem 50% mogućih bodova na sva tri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vjet za drugi (treći) kolokvij – položen prvi (drugi) kolokv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jenjivan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roj bodova sva tri kolokvija (7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ustvovanje na nastavi (1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djelovanje u seminarskim aktivnostima (15%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pit – tri grupe pit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ultiple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dopunja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rafička an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kripta (prvi + drugi + treći 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. prepisivanje 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⇒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poništavanje isp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iterij – ocjena dovoljan – barem 50% mogućih bod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datni bodovi – ljetni i jesenski ispitni r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1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ma teoriji Adama Smitha, Davida Ricarda, kao i prema H-O teoriji, međunarodna razmjena poveća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) Zaposle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) Direktne inozemne investicije (F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) Devizne rez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) Blagost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9:27:49Z</dcterms:created>
  <dc:creator>ahost</dc:creator>
  <dc:description/>
  <dc:language>en-US</dc:language>
  <cp:lastModifiedBy>Ekonomski fakultet Rijeka</cp:lastModifiedBy>
  <dcterms:modified xsi:type="dcterms:W3CDTF">2008-03-05T07:48:37Z</dcterms:modified>
  <cp:revision>17</cp:revision>
  <dc:subject/>
  <dc:title>Međunarodna ekonomija - seminar -</dc:title>
</cp:coreProperties>
</file>