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A6A-68AE-4DB5-9E0C-C8FDF3BF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6B8-1C43-4C7D-B59D-EBBC448F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D80-E3F9-4674-A235-E5CB48C7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CF1-1AC4-4E71-8A7D-B760A892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BE1A-32C4-49BA-BDC2-BA23A3A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3B7B-D4B1-4AF6-B0F3-AD16755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830-4D4F-4547-870B-035E0FF3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818C-F4C6-4CC0-88BA-C401DD9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028-A457-4890-A181-5D469401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071-B7C5-4257-98F6-9A474CA6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D04-753D-4F97-A272-632E568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801-1B96-47E7-87E5-DBB303D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5C5-4345-4250-96D7-72A5ADC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39B5-59CF-4E4B-A893-92EF0739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042C-F96F-4EF4-8588-29FBA60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51B-542C-45DB-98E4-F2FFD26E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D81-A4C6-4A0A-980E-BDAAF111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B49-937A-4C37-AC55-D5F617F6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B5D-3496-41BE-9D23-F93CF558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A6A-B379-48B5-9F31-DA8A687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DF2-C9D5-4A1D-8ADD-4B64EBE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8FD-82A6-4BA2-9536-1A4380F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6B1-BD83-463D-9071-053D191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724-0B04-4663-AD8A-2BF6E4C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85AB-F29B-487E-AED8-295B8648780B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A28-3ACE-4F86-9942-F56D81386BD3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orija komparativnih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ednosti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icardo</a:t>
            </a:r>
            <a:r>
              <a:rPr b="0" lang="hr-H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nj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šulja i maslinovog ulj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Za jedan sat rada mog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 je proizvest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Hrvatskoj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komada košulja i 1 li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taliji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 komada košulja i 3 litre ulj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ABB-7F41-4CE2-8509-B3BEF95F5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M Hrvats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61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2C4-B52F-404F-84CA-CA0C40827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M Italij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5720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8E6-F32C-4650-B87B-551326460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5720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3E6-9421-44DB-B037-AF924BF35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: vrijednost rada sadržana u 1 litri maslinovog ulja ista kao kod 3 komada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talija: vrijednost rada sadržana u 3 litre maslinovog ulja ista kao kod 4 komada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097-627F-475B-B67D-7DFA560CB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R +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3193920" cy="678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15C-0AC9-42D9-A0DF-37B80150D5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R +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3676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25909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486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LIJ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VATSK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DEA-6688-4D65-915D-21E7F5CE0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PM Hrvatska + Itali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kratko: Hrvatska je relativno produktivnija u proizvodnji košulja, a Italija u proizvodnji m. ulja il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na produktivnost Hrvatske je veća u proizvodnji košulja il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vatska ima komparativne prednosti u proizvodnji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05A-8051-47FB-9876-054914A0C1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 od trgov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rvatska proizvod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šu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a trgovinom 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alij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m. ulj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kt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mora biti efikasnija od direkt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831-B616-484A-9FB3-A141EAC1F4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 od trgov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"proizv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šulj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fikasnije proizvodnjo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linovog ul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jegovo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mjenom za košul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D8C-2694-4437-809E-77C50D3D6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z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 sudjelovanja u 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unarodnoj trgovini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obi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azlike iz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konomija obujm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B5A-47CD-478E-9948-0B9347A22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 Narrow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jednaki su odnosi cijena između držav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ima komparativne prednosti u proizvodnji koš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talija ima komparativne prednosti u proizvodnji maslinovog ul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jena je korisna za potrošače iz obje države jer povećava njihovo blagostanj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B94-169D-4DB8-B1A2-BF2C122235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Slobodna trgovina je korisna samo ako je naša država jača od strane konkurencije. Konkurentske prednosti jedne industrije ne ovise jedino o produktivnosti u usporedbi sa stranom industrijom, već i o domaćim nadnicama u usporedbi sa stranim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F34-CB18-489D-BD30-44ABF087C2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Trgovina eksploatira države i čini ih siromašnijima ukoliko radnici primaju niže plaće nego u drugim državam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DA9-888D-42FA-A00C-A92C6C5052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mitov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rana konkurencija je nepoštena i bolna za druge dr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 kada su bazirane na niskim pl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ma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192-369E-46DD-A78A-7E699FD487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Zašto?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vaka se država specijalizira u proizvodnji robe u kojoj ima komparativne prednosti.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60B-E852-4A53-BFCC-A9DEE03D9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Kada komparativ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ednosti postoje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6782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ada je oportunitetni trošak proizvodnje te robe u usporedbi s drugom robom niži nego u drugoj državi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809-017D-4BCB-8BDC-78578CE77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Kada komparativne prednosti donose koris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rgovina iz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 donije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 koristi za obje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 ako svaka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a izvozi robe u kojima ima komparativne prednost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80C-B15E-410F-9680-4CD98FDD1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ko d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vam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d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je št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 proizvoditi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ravno, ne postoji neki centralni organ, nego je to ponuda i pot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j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AF6-3E19-484C-8235-7A0B653BE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tor teorije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David Ricardo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nciples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f Political Economy and Taxation, 1817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A07-A9F5-4E00-AE91-F6A93003DD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6792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novne postavke teori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lizir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amo jedan faktor proizvodn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ra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omatraj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dvije 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atraju se dvije rob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emaruju se transportni troškov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A91-5E66-4576-937B-7D8D96FB7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oje dvije države, Hrvatska i Italij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riste jedan proizvodni faktor (rad) i proizvode maslinovo ulje i košulj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C8C-B129-4234-8EFD-C9670BE22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konomski fakultet Rijeka</cp:lastModifiedBy>
  <dcterms:modified xsi:type="dcterms:W3CDTF">2008-03-04T12:03:17Z</dcterms:modified>
  <cp:revision>16</cp:revision>
  <dc:subject/>
  <dc:title> Teorija komparativnih  prednosti </dc:title>
</cp:coreProperties>
</file>