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3133-EA32-4A74-8C7C-9D66B85EE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16ED-E6B4-4E07-AC4F-DBD1DA3AF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63A8-E922-4B8C-BFF0-28E81CD3C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B0B0-7FC0-4545-A82F-9DEAE4793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B1363-A7D7-43D5-872B-988D3FDDE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C0BE2-6FB9-49BC-955F-D8640D391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D3B57-22EB-43B4-9480-F68FBFB8C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723FF-0A16-4BDA-B115-2AF8ED3F6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61627-3FE5-48FE-A892-6981FF363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1D6F5-AE0D-4017-98BE-4090F96F3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11E2C-F4C2-4FA2-A315-2FC5A93A4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A1D5-6E88-49BF-9EA2-519C268BB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3729B-FF3A-45D2-8541-65803740E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92040-DE50-433C-B618-05D4DA261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D4E2F-A5E3-41F4-A9CE-E4A744B08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A4F55-1C45-4111-AE78-F527E2EAC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73B66-1BB9-456E-85BE-4A43CFD4A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D195-32DC-4C89-A032-D01417C29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300E-F116-41A3-AB0D-079A9692C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7BC7-D97E-4CE3-9E7A-1208D42E1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2CD2-B249-4CF2-8436-AC5D84A04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3AA6-6A0C-49B8-9D32-C5E5DCD0C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B339-EFA9-4A06-BCF3-6EEA4F2AE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7489-40B9-4AE6-B0B8-D1CC800F0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86B61-836E-4984-8F11-517AFB521F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47F61-2C95-4B3D-BA58-B7C988489B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622800"/>
            <a:ext cx="8717040" cy="186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  <a:ea typeface="Times New Roman"/>
              </a:rPr>
              <a:t>Heckscher-Ohlinova teorija me</a:t>
            </a: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đ</a:t>
            </a:r>
            <a:r>
              <a:rPr b="0" lang="en-US" sz="4400" spc="-1" strike="noStrike">
                <a:solidFill>
                  <a:srgbClr val="003366"/>
                </a:solidFill>
                <a:latin typeface="Arial"/>
                <a:ea typeface="Times New Roman"/>
              </a:rPr>
              <a:t>unarodne razmjene</a:t>
            </a:r>
            <a:r>
              <a:rPr b="0" lang="en-US" sz="72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4343400"/>
            <a:ext cx="7291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ctor proportions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Koristi od razmjen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je razmjen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žava A proizvodi u točki 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žava B proizvodi u točki 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dnosi cijena RAZLIČI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žava A se specijalizira u proizvodnji radno intenzivne robe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žava B se specijalizira u proizvodnji kapitalno intenzivne robe 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n Host - Međunarodna ekonomij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86D8-E72B-478F-99B1-2CC234ED5B6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Koristi od razmjen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kon razmjen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Država A proizvodi u točki F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Država A izvozi F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G robe X i uvozi CG robe 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Država B proizvodi u točki F</a:t>
            </a:r>
            <a:r>
              <a:rPr b="0" lang="en-US" sz="2800" spc="-1" strike="noStrike" baseline="-25000">
                <a:solidFill>
                  <a:srgbClr val="0000cc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Država B izvozi F</a:t>
            </a:r>
            <a:r>
              <a:rPr b="0" lang="en-US" sz="2800" spc="-1" strike="noStrike" baseline="-25000">
                <a:solidFill>
                  <a:srgbClr val="0000cc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H robe Y i uvozi HC robe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n Host - Međunarodna ekonomij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8E79-1DD7-4E46-B182-6B8874F7A71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hr-HR" sz="4400" spc="-1" strike="noStrike">
                <a:solidFill>
                  <a:srgbClr val="003366"/>
                </a:solidFill>
                <a:latin typeface="Arial"/>
                <a:ea typeface="Times New Roman"/>
              </a:rPr>
              <a:t>Stolper-Samuelsonov teorem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retpostavk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(1) uvoz (izvoz) dr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ve se sastoji od one robe u kojoj je prete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no sadr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n relativno oskudan (obilan) faktor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(2) uvo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đ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nje uvozne carine pove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t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 cijenu robi koja se proizvodi u promatranoj dr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vi, ali i uvozi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n Host - Međunarodna ekonomij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A8C4-0DC8-4BAB-A86E-3C5670003FD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hr-HR" sz="4400" spc="-1" strike="noStrike">
                <a:solidFill>
                  <a:srgbClr val="003366"/>
                </a:solidFill>
                <a:latin typeface="Arial"/>
                <a:ea typeface="Times New Roman"/>
              </a:rPr>
              <a:t>Stolper-Samuelsonov teorem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retpostavk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(3) uz postojanje malog otvorenog gospodarstva, uvo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đ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nje uvozne carine ne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 utjecati na promjenu strukture me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đ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unarodne razmje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n Host - Međunarodna ekonomij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B4E8-2990-465D-A435-1788E444650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hr-HR" sz="4400" spc="-1" strike="noStrike">
                <a:solidFill>
                  <a:srgbClr val="003366"/>
                </a:solidFill>
                <a:latin typeface="Arial"/>
                <a:ea typeface="Times New Roman"/>
              </a:rPr>
              <a:t>Stolper-Samuelsonov teorem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1219320" y="921960"/>
            <a:ext cx="11887920" cy="8791920"/>
            <a:chOff x="1219320" y="921960"/>
            <a:chExt cx="11887920" cy="8791920"/>
          </a:xfrm>
        </p:grpSpPr>
        <p:sp>
          <p:nvSpPr>
            <p:cNvPr id="166" name=""/>
            <p:cNvSpPr/>
            <p:nvPr/>
          </p:nvSpPr>
          <p:spPr>
            <a:xfrm>
              <a:off x="1219320" y="2118600"/>
              <a:ext cx="651240" cy="6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8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1" lang="hr-HR" sz="1800" spc="-1" strike="noStrike" baseline="-25000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219320" y="3976560"/>
              <a:ext cx="651240" cy="50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8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1" lang="hr-HR" sz="1800" spc="-1" strike="noStrike" baseline="-25000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521800" y="6002640"/>
              <a:ext cx="743400" cy="62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hr-HR" sz="1800" spc="-1" strike="noStrike" baseline="-25000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312520" y="6002640"/>
              <a:ext cx="743760" cy="62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hr-HR" sz="1800" spc="-1" strike="noStrike" baseline="-25000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033280" y="1612800"/>
              <a:ext cx="5697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33280" y="5663880"/>
              <a:ext cx="5697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033280" y="1612800"/>
              <a:ext cx="0" cy="4050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731360" y="1612800"/>
              <a:ext cx="0" cy="4050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2033280" y="1612800"/>
              <a:ext cx="5697720" cy="405072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 rot="10800000">
              <a:off x="2033280" y="1612440"/>
              <a:ext cx="11073960" cy="81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487" y="5"/>
                  </a:moveTo>
                  <a:arcTo wR="10800" hR="10800" stAng="-5499613" swAng="549961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487" y="5"/>
                  </a:moveTo>
                  <a:arcTo wR="10800" hR="10800" stAng="-5499613" swAng="5499613"/>
                </a:path>
              </a:pathLst>
            </a:cu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36120" y="1950120"/>
              <a:ext cx="1952640" cy="135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0974600">
              <a:off x="4653000" y="970560"/>
              <a:ext cx="1955520" cy="1329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1121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112177"/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2033280" y="2118240"/>
              <a:ext cx="2930040" cy="3544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498480" y="1612800"/>
              <a:ext cx="0" cy="405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033280" y="2963520"/>
              <a:ext cx="5697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2033280" y="2965680"/>
              <a:ext cx="1464840" cy="270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3498480" y="1612440"/>
              <a:ext cx="4232520" cy="135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rot="16208400">
              <a:off x="2681280" y="5185800"/>
              <a:ext cx="168480" cy="1464840"/>
            </a:xfrm>
            <a:custGeom>
              <a:avLst/>
              <a:gdLst>
                <a:gd name="textAreaLeft" fmla="*/ 107640 w 168480"/>
                <a:gd name="textAreaRight" fmla="*/ 168840 w 168480"/>
                <a:gd name="textAreaTop" fmla="*/ 38160 h 1464840"/>
                <a:gd name="textAreaBottom" fmla="*/ 1426680 h 1464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rot="16208400">
              <a:off x="5530320" y="3801960"/>
              <a:ext cx="168480" cy="4232520"/>
            </a:xfrm>
            <a:custGeom>
              <a:avLst/>
              <a:gdLst>
                <a:gd name="textAreaLeft" fmla="*/ 107640 w 168480"/>
                <a:gd name="textAreaRight" fmla="*/ 168840 w 168480"/>
                <a:gd name="textAreaTop" fmla="*/ 110160 h 4232520"/>
                <a:gd name="textAreaBottom" fmla="*/ 4122360 h 423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707480" y="1612800"/>
              <a:ext cx="162720" cy="1350360"/>
            </a:xfrm>
            <a:custGeom>
              <a:avLst/>
              <a:gdLst>
                <a:gd name="textAreaLeft" fmla="*/ 104040 w 162720"/>
                <a:gd name="textAreaRight" fmla="*/ 163080 w 162720"/>
                <a:gd name="textAreaTop" fmla="*/ 34920 h 1350360"/>
                <a:gd name="textAreaBottom" fmla="*/ 1315440 h 135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707480" y="2963520"/>
              <a:ext cx="162720" cy="2700360"/>
            </a:xfrm>
            <a:custGeom>
              <a:avLst/>
              <a:gdLst>
                <a:gd name="textAreaLeft" fmla="*/ 104040 w 162720"/>
                <a:gd name="textAreaRight" fmla="*/ 163080 w 162720"/>
                <a:gd name="textAreaTop" fmla="*/ 70200 h 2700360"/>
                <a:gd name="textAreaBottom" fmla="*/ 2630160 h 270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009960" y="2455920"/>
              <a:ext cx="651240" cy="50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009960" y="2454840"/>
              <a:ext cx="488160" cy="50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800600" y="1610640"/>
              <a:ext cx="488160" cy="50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410840" y="5673240"/>
              <a:ext cx="574200" cy="71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731360" y="1371600"/>
              <a:ext cx="574200" cy="71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n Host - Međunarodna ekonomij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2037-CEE9-4E92-859F-900526F3403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hr-HR" sz="4400" spc="-1" strike="noStrike">
                <a:solidFill>
                  <a:srgbClr val="003366"/>
                </a:solidFill>
                <a:latin typeface="Arial"/>
                <a:ea typeface="Times New Roman"/>
              </a:rPr>
              <a:t>Stolper-Samuelsonov teorem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rema grafikon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, horizontalna os predstavlja snabdjevenost radnom snagom, a vertikalna kapital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romatrana dr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va izvozi robu X i uvozi robu Y, odnosno roba X je kapitalno intenzivnija od robe 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n Host - Međunarodna ekonomij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583B-D4B6-46EC-B68B-CB351B9CE10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hr-HR" sz="4400" spc="-1" strike="noStrike">
                <a:solidFill>
                  <a:srgbClr val="003366"/>
                </a:solidFill>
                <a:latin typeface="Arial"/>
                <a:ea typeface="Times New Roman"/>
              </a:rPr>
              <a:t>Stolper-Samuelsonov teorem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Ishodište produkcijskih izokvanti za robu X se nalazi u lijevom donjem, a za robu Y u desnom gornjem kutu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o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ka A predstavlja produkcijsku to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ku za robe X i Y prije, a to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ka B poslije uvođenja carine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n Host - Međunarodna ekonomij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FE5C-AD06-4A86-9F5E-0D609EC0DDC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hr-HR" sz="4400" spc="-1" strike="noStrike">
                <a:solidFill>
                  <a:srgbClr val="003366"/>
                </a:solidFill>
                <a:latin typeface="Arial"/>
                <a:ea typeface="Times New Roman"/>
              </a:rPr>
              <a:t>Stolper-Samuelsonov teorem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roizvodnja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 se preorijentirati u pravcu ve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 proizvodnje robe Y, dakle odnos kapitala i rada (K/L)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 rasti u razmjeru pomjeranja proizvodnje iz to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ke A u točku B.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n Host - Međunarodna ekonomij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4EE8-9C96-443F-ADC5-144622F3012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hr-HR" sz="4400" spc="-1" strike="noStrike">
                <a:solidFill>
                  <a:srgbClr val="003366"/>
                </a:solidFill>
                <a:latin typeface="Arial"/>
                <a:ea typeface="Times New Roman"/>
              </a:rPr>
              <a:t>Stolper-Samuelsonov teorem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ukladno ovom teoremu, uvo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đ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njem carine nacionalna ekonomija u cjelini gubi, ali ona mo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 povoljno djelovati na razvoj odre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đ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nog proizvodnog sektora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n Host - Međunarodna ekonomij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8397-CB71-48E2-A2B4-8D5A2CDCE29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  <a:ea typeface="Times New Roman"/>
              </a:rPr>
              <a:t>Rybczynski teorem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ri konstantnim cijenama promatrane robe, porast u bogatstvu jednog faktora uzrokovat će u 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oj proporciji poras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output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robe u kojoj se intenzivnije koristi taj faktor i smanjiti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outpu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druge rob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n Host - Međunarodna ekonomij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7E90-BAFC-4FC8-90EB-5AE4B9BDE56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Pretpostavk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matraju se dvije drž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matraju se dva proizvo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dnaki dohoci potrošač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dnaka tehnolog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tpuna konkurenc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ma transportnih troško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matraju se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DV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aktora proizvod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n Host - Međunarodna ekonomij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9856-E7E8-4228-B68A-D4B6DF92C64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  <a:ea typeface="Times New Roman"/>
              </a:rPr>
              <a:t>Rybczynski teorem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1066680" y="2133720"/>
            <a:ext cx="8318520" cy="3357360"/>
            <a:chOff x="1066680" y="2133720"/>
            <a:chExt cx="8318520" cy="3357360"/>
          </a:xfrm>
        </p:grpSpPr>
        <p:grpSp>
          <p:nvGrpSpPr>
            <p:cNvPr id="204" name=""/>
            <p:cNvGrpSpPr/>
            <p:nvPr/>
          </p:nvGrpSpPr>
          <p:grpSpPr>
            <a:xfrm>
              <a:off x="1066680" y="2133720"/>
              <a:ext cx="8318520" cy="3357360"/>
              <a:chOff x="1066680" y="2133720"/>
              <a:chExt cx="8318520" cy="3357360"/>
            </a:xfrm>
          </p:grpSpPr>
          <p:pic>
            <p:nvPicPr>
              <p:cNvPr id="205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066680" y="2133720"/>
                <a:ext cx="8318520" cy="3357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6" name=""/>
              <p:cNvSpPr/>
              <p:nvPr/>
            </p:nvSpPr>
            <p:spPr>
              <a:xfrm>
                <a:off x="8001000" y="4191120"/>
                <a:ext cx="457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7" name=""/>
            <p:cNvSpPr/>
            <p:nvPr/>
          </p:nvSpPr>
          <p:spPr>
            <a:xfrm flipH="1">
              <a:off x="1447920" y="4038480"/>
              <a:ext cx="32004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n Host - Međunarodna ekonomij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5487-FC77-466A-ADD0-5F6CCC11E97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Osnovne postavk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324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vak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 d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va izvoziti onu robu u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č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joj se proizvodnji intenzivnije koristi onaj proizvodni faktor kojeg ta d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va ima u 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oj kol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in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n Host - Međunarodna ekonomij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BA21-0617-4C4E-B0BE-6459A1FED7E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Osnovne postavk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324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vak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 d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va izvoziti robu koja sad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i više njezinog relativno obilnijeg (jeftinijeg) proizvodnog faktor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vaka će držav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uvozi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 onu robu u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ijoj se proizvodnji intenzivnije koristi relativno oskudni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skuplji)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roizvodni fakt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n Host - Međunarodna ekonomij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B191-5B55-4178-9EB4-F173289DE98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Edgeworth-Bowley grafikon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g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geworth-Bowley box dia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anice grafikona prikazuju količinu proizvodnih faktora kojima država raspolaž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hodišta u lijevom donjem (proizvod X) i desnom gornjem kutu (proizvod 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n Host - Međunarodna ekonomij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4000-11EB-460E-8C9B-D425ABB253C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  <a:ea typeface="Arial"/>
              </a:rPr>
              <a:t>Razlozi specijalizacije pojedinih država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990720" y="1549440"/>
            <a:ext cx="8458200" cy="443844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1219320" y="5257800"/>
            <a:ext cx="685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010280" y="2133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4419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419720" y="4114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010280" y="2438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n Host - Međunarodna ekonomij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B29A-50DE-465F-BDDF-CACD92173E2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  <a:ea typeface="Arial"/>
              </a:rPr>
              <a:t>Razlozi specijalizacije pojedinih držav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zličita raspoloživa količina kapitala u državama A i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izvod X radno intenziv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izvod Y kapitalno intenziv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 leži na krivulji transformacije države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’ korespondentna točka za državu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n Host - Međunarodna ekonomij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97E7-A3B2-44BE-945E-EC9531FD902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  <a:ea typeface="Arial"/>
              </a:rPr>
              <a:t>Razlozi specijalizacije pojedinih držav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d G i G’ granična produktivnost proizvodnih faktora jedna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žava A relativno više proizvodi robu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žava B relativno više proizvodi robu 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žave A i B proizvode relativno više robe u kojoj se intenzivnije koristi njezin relativno obilniji proizvodni fak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n Host - Međunarodna ekonomij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AE65-575C-411F-BCB9-96166A85540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  <a:ea typeface="Arial"/>
              </a:rPr>
              <a:t>Krivulje transformacije država A i B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43600" y="434340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952880" y="35812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971800" y="1219320"/>
            <a:ext cx="5257800" cy="5054400"/>
            <a:chOff x="2971800" y="1219320"/>
            <a:chExt cx="5257800" cy="5054400"/>
          </a:xfrm>
        </p:grpSpPr>
        <p:pic>
          <p:nvPicPr>
            <p:cNvPr id="153" name="" descr=""/>
            <p:cNvPicPr/>
            <p:nvPr/>
          </p:nvPicPr>
          <p:blipFill>
            <a:blip r:embed="rId1"/>
            <a:stretch/>
          </p:blipFill>
          <p:spPr>
            <a:xfrm>
              <a:off x="2971800" y="1219320"/>
              <a:ext cx="5257800" cy="505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5562720" y="4267080"/>
              <a:ext cx="533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952880" y="3352680"/>
              <a:ext cx="533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n Host - Međunarodna ekonomij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5DEA-BCBF-43A7-866A-076F8707B3A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1T17:17:52Z</dcterms:created>
  <dc:creator>Ekonomski fakultet Rijeka</dc:creator>
  <dc:description/>
  <dc:language>en-US</dc:language>
  <cp:lastModifiedBy>Ekonomski fakultet Rijeka</cp:lastModifiedBy>
  <dcterms:modified xsi:type="dcterms:W3CDTF">2007-03-12T12:02:31Z</dcterms:modified>
  <cp:revision>5</cp:revision>
  <dc:subject/>
  <dc:title>Heckscher-Ohlinova teorija međunarodne razmjene </dc:title>
</cp:coreProperties>
</file>