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B19-D5B3-43FE-9446-F622A248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28600" y="3933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900-E213-41F6-8277-C13308D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800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038-7F40-42E0-84FE-D2757EC1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6584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0272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2860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16584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0272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650-FD9E-4E63-BDE1-BA255D9C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76240" y="-360"/>
            <a:ext cx="7367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D9B-10F6-4BAD-9A37-90ADAE03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933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00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6584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02720" y="1485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6584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02720" y="3933720"/>
            <a:ext cx="2796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F1F-8C7E-46B8-A3F8-8AE7A25B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F51-9C73-4FE3-8AA1-29B94970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85F-5D38-4942-A39A-D986D1E7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76240" y="-360"/>
            <a:ext cx="7367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45B-56DA-4D06-9CD3-81AA95E6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0B8-FB4A-40B5-8974-8C8BF35A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80000" y="3933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4AB-AF3F-4823-9610-42E18F6D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485720"/>
            <a:ext cx="4239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8600" y="393372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94C-01C9-430B-9C4C-82EB9DF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76240" cy="1371600"/>
          </a:xfrm>
          <a:prstGeom prst="rect">
            <a:avLst/>
          </a:prstGeom>
          <a:solidFill>
            <a:srgbClr val="bab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456840" y="6095520"/>
            <a:ext cx="3809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685800" y="6705720"/>
            <a:ext cx="7848720" cy="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380520" y="6705720"/>
            <a:ext cx="304920" cy="30456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76320" y="6553080"/>
            <a:ext cx="457200" cy="45720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76320" y="6629400"/>
            <a:ext cx="457200" cy="45720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380880" y="6553080"/>
            <a:ext cx="8382240" cy="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533520" y="6629400"/>
            <a:ext cx="8153280" cy="0"/>
          </a:xfrm>
          <a:prstGeom prst="line">
            <a:avLst/>
          </a:prstGeom>
          <a:ln w="28440">
            <a:solidFill>
              <a:srgbClr val="95054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34520" y="6248520"/>
            <a:ext cx="1143000" cy="1066680"/>
          </a:xfrm>
          <a:prstGeom prst="ellipse">
            <a:avLst/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776240" y="0"/>
            <a:ext cx="7367760" cy="1371600"/>
          </a:xfrm>
          <a:prstGeom prst="rect">
            <a:avLst/>
          </a:prstGeom>
          <a:gradFill rotWithShape="0">
            <a:gsLst>
              <a:gs pos="0">
                <a:srgbClr val="babade"/>
              </a:gs>
              <a:gs pos="50000">
                <a:srgbClr val="dbdbed"/>
              </a:gs>
              <a:gs pos="100000">
                <a:srgbClr val="baba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4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-19080" y="0"/>
            <a:ext cx="1828800" cy="13669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26EF-E83A-42C2-AEC2-948A689DED4D}" type="slidenum">
              <a:rPr b="0" lang="en-US" sz="2400" spc="-1" strike="noStrike">
                <a:solidFill>
                  <a:srgbClr val="666699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7624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530712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86576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42440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221760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98304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54168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10032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265896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574848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618984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795492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751356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707220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663084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839628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8839080" y="11811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9372600" y="2590920"/>
            <a:ext cx="2867040" cy="3157560"/>
            <a:chOff x="-9372600" y="2590920"/>
            <a:chExt cx="2867040" cy="3157560"/>
          </a:xfrm>
        </p:grpSpPr>
        <p:sp>
          <p:nvSpPr>
            <p:cNvPr id="71" name=""/>
            <p:cNvSpPr/>
            <p:nvPr/>
          </p:nvSpPr>
          <p:spPr>
            <a:xfrm>
              <a:off x="-8799480" y="510732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-7656480" y="321480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7091280" y="259092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8231040" y="510732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-7091280" y="321480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8231040" y="384840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9372600" y="384840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7656480" y="384840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8799480" y="447228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8231040" y="447228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152280" y="0"/>
            <a:ext cx="5072040" cy="3790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5054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123720"/>
            <a:ext cx="8458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hr-HR" sz="4600" spc="-1" strike="noStrike">
                <a:solidFill>
                  <a:srgbClr val="950546"/>
                </a:solidFill>
                <a:latin typeface="Arial"/>
              </a:rPr>
              <a:t>Vanjskotrgovinska politika </a:t>
            </a:r>
            <a:br>
              <a:rPr sz="4600"/>
            </a:br>
            <a:endParaRPr b="0" lang="en-US" sz="46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0033"/>
                </a:solidFill>
                <a:latin typeface="Arial"/>
              </a:rPr>
              <a:t>Vrste carina (4)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ma načinu donošenja car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utonom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govo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94B-7BE7-4D85-B1F3-13E868D538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0033"/>
                </a:solidFill>
                <a:latin typeface="Arial"/>
              </a:rPr>
              <a:t>Vrste carina (5)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tale vrste cari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ntidampin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ator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7FE-F73C-490D-8809-BA005FE9235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Ilustracija carinskih učinak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9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897-7614-43E2-921B-1D41BC191A1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Ilustracija carinskih učinak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 – redistribucijski uči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 – trošak carinske zaštite nasta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em domaće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fiskalni uči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 – trošak carinske zaštite nasta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m potroš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BED-38E7-4202-B2D6-52F48FCA77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Učinak carina na </a:t>
            </a:r>
            <a:br>
              <a:rPr sz="4400"/>
            </a:b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odnose razmjene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-2347560" y="-2158920"/>
            <a:ext cx="13328280" cy="11847600"/>
            <a:chOff x="-2347560" y="-2158920"/>
            <a:chExt cx="13328280" cy="11847600"/>
          </a:xfrm>
        </p:grpSpPr>
        <p:grpSp>
          <p:nvGrpSpPr>
            <p:cNvPr id="150" name=""/>
            <p:cNvGrpSpPr/>
            <p:nvPr/>
          </p:nvGrpSpPr>
          <p:grpSpPr>
            <a:xfrm>
              <a:off x="-2347560" y="-2158920"/>
              <a:ext cx="13328280" cy="11847600"/>
              <a:chOff x="-2347560" y="-2158920"/>
              <a:chExt cx="13328280" cy="11847600"/>
            </a:xfrm>
          </p:grpSpPr>
          <p:sp>
            <p:nvSpPr>
              <p:cNvPr id="151" name=""/>
              <p:cNvSpPr/>
              <p:nvPr/>
            </p:nvSpPr>
            <p:spPr>
              <a:xfrm>
                <a:off x="1697400" y="2607480"/>
                <a:ext cx="407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-2347560" y="-2158920"/>
                <a:ext cx="13328280" cy="11847600"/>
                <a:chOff x="-2347560" y="-2158920"/>
                <a:chExt cx="13328280" cy="118476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707480" y="1862280"/>
                  <a:ext cx="0" cy="4092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-2347560" y="-2158920"/>
                  <a:ext cx="13328280" cy="11847600"/>
                  <a:chOff x="-2347560" y="-2158920"/>
                  <a:chExt cx="13328280" cy="118476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1730520" y="5965920"/>
                    <a:ext cx="5472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765040" y="2616480"/>
                    <a:ext cx="0" cy="33591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>
                    <a:off x="1707480" y="1540080"/>
                    <a:ext cx="5337360" cy="442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>
                    <a:off x="-2347200" y="-2159280"/>
                    <a:ext cx="8155800" cy="811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88" y="0"/>
                        </a:moveTo>
                        <a:arcTo wR="10800" hR="10800" stAng="-5372042" swAng="53720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88" y="0"/>
                        </a:moveTo>
                        <a:arcTo wR="10800" hR="10800" stAng="-5372042" swAng="5372042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V="1" rot="10800000">
                    <a:off x="1714680" y="2593080"/>
                    <a:ext cx="9266040" cy="7095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2271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227144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754080" y="3227400"/>
                    <a:ext cx="0" cy="274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707480" y="3214800"/>
                    <a:ext cx="4057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V="1">
                    <a:off x="-426960" y="-1995480"/>
                    <a:ext cx="4294800" cy="795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3" name=""/>
            <p:cNvSpPr/>
            <p:nvPr/>
          </p:nvSpPr>
          <p:spPr>
            <a:xfrm>
              <a:off x="1219320" y="1793520"/>
              <a:ext cx="39096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9840" y="3017160"/>
              <a:ext cx="39096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40400" y="3185640"/>
              <a:ext cx="47808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40400" y="4156200"/>
              <a:ext cx="3913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83120" y="5970960"/>
              <a:ext cx="39096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09520" y="6013080"/>
              <a:ext cx="39096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66520" y="6013080"/>
              <a:ext cx="39096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62520" y="5928480"/>
              <a:ext cx="39096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19320" y="3017160"/>
              <a:ext cx="39096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19320" y="2426400"/>
              <a:ext cx="39096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740600" y="1919880"/>
              <a:ext cx="2999160" cy="40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96840" y="1582560"/>
              <a:ext cx="60840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3360" y="1624680"/>
              <a:ext cx="6955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MC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43760" y="1371600"/>
              <a:ext cx="65196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09520" y="1540440"/>
              <a:ext cx="3909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91800" y="2426400"/>
              <a:ext cx="39096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5B5-F49F-4021-90ED-235A3B3A789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Učinak carina na </a:t>
            </a:r>
            <a:br>
              <a:rPr sz="4400"/>
            </a:b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odnose razmjene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D – izvoz države A (uvoz držav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 – uvoz države A (izvoz držav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 MC – cijena međunarodn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F5E-8874-454D-9933-BE307CCB8F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Učinak carina na </a:t>
            </a:r>
            <a:br>
              <a:rPr sz="4400"/>
            </a:b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odnose razmjene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 carine od strane države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carina poskupljuje ro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promjena odnosa razmjene i promjen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ijednosti međunarodne cijene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mijenja se položaj V-T krivul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e A iz FT u F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mijenja se krivulja međunarod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e iz F MC u F MC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262-17E8-440F-8D4E-A7EC8C680C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Učinak carina na </a:t>
            </a:r>
            <a:br>
              <a:rPr sz="4400"/>
            </a:b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odnose razmjene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lj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promjena V-T krivulje (FTc) i promjen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vulje međunarodne cijene (F MC’)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rok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izvoz države A iznosi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uvoz države A iznosi CC’ ili F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0E2-D52C-4844-9CB1-0613938E85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Optimalna carin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a koja donosi najveće blago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jeti: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utonomija VT poli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ma protumjera ostatka svij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10C-A78A-410F-A791-BE74667E95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Optimalna carin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95280" y="1352520"/>
            <a:ext cx="6172200" cy="499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F13-6564-40C3-8D19-54744479640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Što je </a:t>
            </a:r>
            <a:r>
              <a:rPr b="1" lang="hr-HR" sz="4000" spc="-1" strike="noStrike">
                <a:solidFill>
                  <a:srgbClr val="990033"/>
                </a:solidFill>
                <a:latin typeface="Arial"/>
              </a:rPr>
              <a:t>vanjskotrgovinska politika?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kupnost mjera, propisa, sredstava i postupaka kojima država utječe na unutarnju i vanjsku trgovinu radi usmjeravanja i ostvarivanja određenih interesa i cilje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ziv za posebnu granu ekonomske znanosti koja ispituje svrhovitost te politike, razrađuje njezine akcije i predlaže joj određene mj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C1E-9E5C-415F-BB04-2C5E9F21A3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Optimalna carin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ituaciji slobodne međunarodne razmjene ravnoteža se postiže u točki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taj način dosiže se krivulja indiferentnosti u trgovini IT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carine država pokušava dosegnuti najvišu moguću krivulju indiferenc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najviša krivulja indiferencije koju država A može doseć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FE8-3927-4446-8241-0CDCCC4BEB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Optimalna carin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uvođenja optimalne carine, država A izvozi 0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obra X (umjesto 0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uvođenja optimalne carine, država A uvozi 0Y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oizvoda Y (umjesto 0Y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, dak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ijenja odnose razmjene 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terms of trad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u svoju ko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156-4DF9-4610-A5D1-42A697FE58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Necarinski instrumenti zaštite</a:t>
            </a: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ve one mjere povrh carin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je ut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 na smanjenje konkurentnosti inozemnih proizvoda u odnosu na do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prinose po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ju kompetitivnosti do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g gospodarstv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ni razlog njihova uv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ja je </a:t>
            </a:r>
            <a:r>
              <a:rPr b="1" i="1" lang="hr-HR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transparentnos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E55-89AE-458A-958B-94589E5808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76240" y="152280"/>
            <a:ext cx="7367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I. tipa (primarna namjena iskrivljenje)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usmjerene na uvoz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Mjere koje djeluju na koli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e (direkt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ne uvozne k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lektivne uvozne k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zvole diskretno restriktiv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zvole libera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"dobrovoljna" ogra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ja izvoza (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ba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na trgov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isi o do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 sad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j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84B-1C2D-4336-BF08-172E4A8DA2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I. tipa (primarna namjena iskrivljenje)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usmjerene na uvoz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2.Mjere koje djeluju kroz troškove i cijene (indirekt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varijabilni nameti i dodatne uvozne takse (prelevma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zahtjevi za avansnim depozi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antidampinška i kompenzatorna opterećenja (tak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irektne subvencije domaćim konkurentima uv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37A-E4FC-410E-98A3-6FCF867D2E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I. tipa (primarna namjena iskrivljenje)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usmjerene na uvoz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2.Mjere koje djeluju kroz troškove i cijene (indirekt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reditna ograničenja uvozni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rezne olakšice i ostale indirektne subvencije domaćim proizvođačima koji konkuriraju uvozu, uključujući i kreditne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iskriminatorne tarife u unutarnjem transpor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eđunarodni robni sporazumi i sporazumi o market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5EB-02A5-4DCC-B466-BFD2E7E166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I. tipa (primarna namjena iskrivljenje)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usmjerene na uvoz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85720"/>
            <a:ext cx="9144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Mjere koje djeluju na količine (direkt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ržavna trg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zvozne kvote i dozv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Mjere koje djeluju na troškove i cijene (indirek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t.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irektne subvencije izvozni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ndirektne subvencije izvoznicima uključujući i kreditne olakš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amping koji podržava drž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zvozni nameti (tak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eđunarodni robni sporazumi i sporazumi o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arket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BF7-16F7-42B8-B6AA-1AB71E7EB53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I</a:t>
            </a:r>
            <a:r>
              <a:rPr b="1" lang="hr-HR" sz="4000" spc="-1" strike="noStrike">
                <a:solidFill>
                  <a:srgbClr val="950546"/>
                </a:solidFill>
                <a:latin typeface="Arial"/>
              </a:rPr>
              <a:t>I</a:t>
            </a:r>
            <a:r>
              <a:rPr b="1" lang="hr-HR" sz="4000" spc="-1" strike="noStrike">
                <a:solidFill>
                  <a:srgbClr val="950546"/>
                </a:solidFill>
                <a:latin typeface="Arial"/>
                <a:ea typeface="Times New Roman"/>
              </a:rPr>
              <a:t>. tipa</a:t>
            </a:r>
            <a:r>
              <a:rPr b="1" lang="hr-HR" sz="3600" spc="-1" strike="noStrike">
                <a:solidFill>
                  <a:srgbClr val="950546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lang="hr-HR" sz="3600" spc="-1" strike="noStrike">
                <a:solidFill>
                  <a:srgbClr val="950546"/>
                </a:solidFill>
                <a:latin typeface="Arial"/>
                <a:ea typeface="Times New Roman"/>
              </a:rPr>
              <a:t>(</a:t>
            </a:r>
            <a:r>
              <a:rPr b="1" lang="hr-HR" sz="3600" spc="-1" strike="noStrike">
                <a:solidFill>
                  <a:srgbClr val="950546"/>
                </a:solidFill>
                <a:latin typeface="Arial"/>
              </a:rPr>
              <a:t>sekundarna restriktivna namjera</a:t>
            </a:r>
            <a:r>
              <a:rPr b="1" lang="hr-HR" sz="3600" spc="-1" strike="noStrike">
                <a:solidFill>
                  <a:srgbClr val="950546"/>
                </a:solidFill>
                <a:latin typeface="Arial"/>
                <a:ea typeface="Times New Roman"/>
              </a:rPr>
              <a:t>)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1485720"/>
            <a:ext cx="8915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Mjere koje djeluju na količine (direkt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graničen pristup medijima komunic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vantitativna ograničenja marketinga i propag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Mjere koje djeluju kroz troškove i cijene (indirekt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pisi o pakiranju i etiketir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dravstveni, sanitarni i standardi o kvalit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igurnosni i industrijski standardi i prop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granične tak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539-18C1-4FEE-87DD-8BED1E05ABB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I</a:t>
            </a:r>
            <a:r>
              <a:rPr b="1" lang="hr-HR" sz="4000" spc="-1" strike="noStrike">
                <a:solidFill>
                  <a:srgbClr val="950546"/>
                </a:solidFill>
                <a:latin typeface="Arial"/>
              </a:rPr>
              <a:t>I</a:t>
            </a:r>
            <a:r>
              <a:rPr b="1" lang="hr-HR" sz="4000" spc="-1" strike="noStrike">
                <a:solidFill>
                  <a:srgbClr val="950546"/>
                </a:solidFill>
                <a:latin typeface="Arial"/>
                <a:ea typeface="Times New Roman"/>
              </a:rPr>
              <a:t>. tipa</a:t>
            </a:r>
            <a:r>
              <a:rPr b="1" lang="hr-HR" sz="3600" spc="-1" strike="noStrike">
                <a:solidFill>
                  <a:srgbClr val="950546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lang="hr-HR" sz="3600" spc="-1" strike="noStrike">
                <a:solidFill>
                  <a:srgbClr val="950546"/>
                </a:solidFill>
                <a:latin typeface="Arial"/>
                <a:ea typeface="Times New Roman"/>
              </a:rPr>
              <a:t>(</a:t>
            </a:r>
            <a:r>
              <a:rPr b="1" lang="hr-HR" sz="3600" spc="-1" strike="noStrike">
                <a:solidFill>
                  <a:srgbClr val="950546"/>
                </a:solidFill>
                <a:latin typeface="Arial"/>
              </a:rPr>
              <a:t>sekundarna restriktivna namjera</a:t>
            </a:r>
            <a:r>
              <a:rPr b="1" lang="hr-HR" sz="3600" spc="-1" strike="noStrike">
                <a:solidFill>
                  <a:srgbClr val="950546"/>
                </a:solidFill>
                <a:latin typeface="Arial"/>
                <a:ea typeface="Times New Roman"/>
              </a:rPr>
              <a:t>)</a:t>
            </a:r>
            <a:endParaRPr b="0" lang="en-US" sz="36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485720"/>
            <a:ext cx="8915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porabne tak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arinska procedura, konzularne formalnosti i s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stupci carinske klasifik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stupci određivanja carinske osno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evizna ograni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pisi o obavijestima i "administrativne" up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ržavno poduzetništvo, financiranje istraživanja i razvoja i slične pomoći domaćim proizvođačima supstituta uvoza i izvoznim sekto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8AC-E051-4BBE-BCAA-2CE55E80154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I</a:t>
            </a:r>
            <a:r>
              <a:rPr b="1" lang="hr-HR" sz="4000" spc="-1" strike="noStrike">
                <a:solidFill>
                  <a:srgbClr val="950546"/>
                </a:solidFill>
                <a:latin typeface="Arial"/>
              </a:rPr>
              <a:t>II</a:t>
            </a:r>
            <a:r>
              <a:rPr b="1" lang="hr-HR" sz="4000" spc="-1" strike="noStrike">
                <a:solidFill>
                  <a:srgbClr val="950546"/>
                </a:solidFill>
                <a:latin typeface="Arial"/>
                <a:ea typeface="Times New Roman"/>
              </a:rPr>
              <a:t>. tipa </a:t>
            </a:r>
            <a:br>
              <a:rPr sz="4000"/>
            </a:br>
            <a:r>
              <a:rPr b="1" lang="hr-HR" sz="2800" spc="-1" strike="noStrike">
                <a:solidFill>
                  <a:srgbClr val="950546"/>
                </a:solidFill>
                <a:latin typeface="Arial"/>
                <a:ea typeface="Times New Roman"/>
              </a:rPr>
              <a:t>(bez o</a:t>
            </a:r>
            <a:r>
              <a:rPr b="1" lang="hr-HR" sz="2800" spc="-1" strike="noStrike">
                <a:solidFill>
                  <a:srgbClr val="950546"/>
                </a:solidFill>
                <a:latin typeface="Arial"/>
              </a:rPr>
              <a:t>č</a:t>
            </a:r>
            <a:r>
              <a:rPr b="1" lang="hr-HR" sz="2800" spc="-1" strike="noStrike">
                <a:solidFill>
                  <a:srgbClr val="950546"/>
                </a:solidFill>
                <a:latin typeface="Arial"/>
                <a:ea typeface="Times New Roman"/>
              </a:rPr>
              <a:t>ite namjere iskrivljavanja trgovine)</a:t>
            </a:r>
            <a:r>
              <a:rPr b="1" lang="hr-HR" sz="4000" spc="-1" strike="noStrike">
                <a:solidFill>
                  <a:srgbClr val="950546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ržavni monopol proizvodnje, prodaje i distribucije pojedinih proizvod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žavna strukturna politika i politika regionalnog razvoja koja utječe na trgovi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ad hoc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mjere ekonomske politike u svezi s bilancom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azlike u poreznim susta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azlike u sustavima socijalnog osigu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03D-F4CC-46CD-95F6-C9BB2FB786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50546"/>
                </a:solidFill>
                <a:latin typeface="Arial"/>
              </a:rPr>
              <a:t>Međunarodna trgovinska politik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iz mjera ekonomske politike čiji je cilj koordinacija uvjeta razmjene u međunarodnim ekonomskim odnosima kako bi se maksimiralo globalno ili regionalno blagostanje. Realizira se unutar regionalnih i globalnih integracija političkim dogovo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CF3-124F-4460-A4A6-868F6AA4A2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50546"/>
                </a:solidFill>
                <a:latin typeface="Arial"/>
                <a:ea typeface="Times New Roman"/>
              </a:rPr>
              <a:t>Mjere I</a:t>
            </a:r>
            <a:r>
              <a:rPr b="1" lang="hr-HR" sz="4000" spc="-1" strike="noStrike">
                <a:solidFill>
                  <a:srgbClr val="950546"/>
                </a:solidFill>
                <a:latin typeface="Arial"/>
              </a:rPr>
              <a:t>II</a:t>
            </a:r>
            <a:r>
              <a:rPr b="1" lang="hr-HR" sz="4000" spc="-1" strike="noStrike">
                <a:solidFill>
                  <a:srgbClr val="950546"/>
                </a:solidFill>
                <a:latin typeface="Arial"/>
                <a:ea typeface="Times New Roman"/>
              </a:rPr>
              <a:t>. tipa </a:t>
            </a:r>
            <a:br>
              <a:rPr sz="4000"/>
            </a:br>
            <a:r>
              <a:rPr b="1" lang="hr-HR" sz="2800" spc="-1" strike="noStrike">
                <a:solidFill>
                  <a:srgbClr val="950546"/>
                </a:solidFill>
                <a:latin typeface="Arial"/>
                <a:ea typeface="Times New Roman"/>
              </a:rPr>
              <a:t>(bez o</a:t>
            </a:r>
            <a:r>
              <a:rPr b="1" lang="hr-HR" sz="2800" spc="-1" strike="noStrike">
                <a:solidFill>
                  <a:srgbClr val="950546"/>
                </a:solidFill>
                <a:latin typeface="Arial"/>
              </a:rPr>
              <a:t>č</a:t>
            </a:r>
            <a:r>
              <a:rPr b="1" lang="hr-HR" sz="2800" spc="-1" strike="noStrike">
                <a:solidFill>
                  <a:srgbClr val="950546"/>
                </a:solidFill>
                <a:latin typeface="Arial"/>
                <a:ea typeface="Times New Roman"/>
              </a:rPr>
              <a:t>ite namjere iskrivljavanja trgovine)</a:t>
            </a:r>
            <a:r>
              <a:rPr b="1" lang="hr-HR" sz="4000" spc="-1" strike="noStrike">
                <a:solidFill>
                  <a:srgbClr val="950546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1485720"/>
            <a:ext cx="8915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azlike u sustavima amortiz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vanjske koristi od vladinih programa nabavke za obranu ili nevojne svr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ekonomija obujma uvjetovana državnim nabav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promjene nacionalnih standarda, propisa i prak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arife u vanjskom transportu i međunarodni državni transportni sporazu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lučke pristoj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F35-2F5D-470C-8662-5636A450374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Kontingenti</a:t>
            </a: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i gospodarske politike koji koli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ski ogran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aju vanjskotrgovinske tijekove su kontingenti ili kvot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vozni kontingen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ojavljuju se u 3 oblik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lateralni (autonom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govo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arin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877-F82E-4404-B1B8-759CAC3940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50546"/>
                </a:solidFill>
                <a:latin typeface="Arial"/>
              </a:rPr>
              <a:t>Učinci k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ontingen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</a:rPr>
              <a:t>at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676520" y="609480"/>
            <a:ext cx="7467120" cy="6248160"/>
            <a:chOff x="1676520" y="609480"/>
            <a:chExt cx="7467120" cy="6248160"/>
          </a:xfrm>
        </p:grpSpPr>
        <p:grpSp>
          <p:nvGrpSpPr>
            <p:cNvPr id="215" name=""/>
            <p:cNvGrpSpPr/>
            <p:nvPr/>
          </p:nvGrpSpPr>
          <p:grpSpPr>
            <a:xfrm>
              <a:off x="1676520" y="609480"/>
              <a:ext cx="7467120" cy="6248160"/>
              <a:chOff x="1676520" y="609480"/>
              <a:chExt cx="7467120" cy="624816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2220480" y="735480"/>
                <a:ext cx="6725880" cy="5232600"/>
                <a:chOff x="2220480" y="735480"/>
                <a:chExt cx="6725880" cy="52326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000320" y="4312440"/>
                  <a:ext cx="16185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2220480" y="735480"/>
                  <a:ext cx="6725880" cy="5232600"/>
                  <a:chOff x="2220480" y="735480"/>
                  <a:chExt cx="6725880" cy="52326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220480" y="735480"/>
                    <a:ext cx="0" cy="5205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220480" y="5952960"/>
                    <a:ext cx="6725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V="1">
                    <a:off x="2544840" y="1767600"/>
                    <a:ext cx="4529520" cy="3726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220480" y="2393280"/>
                    <a:ext cx="5609160" cy="3152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220480" y="5111640"/>
                    <a:ext cx="48067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999600" y="4310280"/>
                    <a:ext cx="0" cy="16423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617800" y="4322520"/>
                    <a:ext cx="0" cy="1645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>
                    <a:off x="2220480" y="4310280"/>
                    <a:ext cx="17791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"/>
              <p:cNvSpPr/>
              <p:nvPr/>
            </p:nvSpPr>
            <p:spPr>
              <a:xfrm>
                <a:off x="6869160" y="1808280"/>
                <a:ext cx="791280" cy="88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hr-HR" sz="14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314120" y="4775040"/>
                <a:ext cx="791280" cy="88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hr-HR" sz="14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86600" y="5027400"/>
                <a:ext cx="790920" cy="88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01680" y="5027400"/>
                <a:ext cx="790920" cy="88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70160" y="5090760"/>
                <a:ext cx="791280" cy="88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70800" y="5027400"/>
                <a:ext cx="49464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352720" y="5974200"/>
                <a:ext cx="790920" cy="88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hr-HR" sz="14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76520" y="609480"/>
                <a:ext cx="790920" cy="88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hr-HR" sz="14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13760" y="5027400"/>
                <a:ext cx="791280" cy="88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4240" y="3828240"/>
                <a:ext cx="791280" cy="88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3360" y="3828240"/>
                <a:ext cx="790920" cy="88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74160" y="5974200"/>
                <a:ext cx="791280" cy="5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775160" y="4881240"/>
              <a:ext cx="5932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160" y="4123800"/>
              <a:ext cx="5932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53360" y="5954040"/>
              <a:ext cx="5932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35920" y="5954040"/>
              <a:ext cx="5932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858-EF27-4F99-83BF-0509BAD494FE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50546"/>
                </a:solidFill>
                <a:latin typeface="Arial"/>
              </a:rPr>
              <a:t>Učinci k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ontingen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</a:rPr>
              <a:t>at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rivulje ponude i potr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je za rob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i="1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jetska cije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 H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potroš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kupuj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oizvod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od dom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h proizv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 uv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3D1-09F3-44A9-872C-65CB6FAB5F1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50546"/>
                </a:solidFill>
                <a:latin typeface="Arial"/>
              </a:rPr>
              <a:t>Učinci k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ontingen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</a:rPr>
              <a:t>at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a uvodi uvozni kontingent od 10 proizvod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vnoteža pri cijeni 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 HRK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uvozi 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pravo 10 proizvod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odnosn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koliko d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a prodaje uvozni kontingent na konkurentskom t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štu najboljem pon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, prihod pror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bit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HM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dakle isti kao i kod cari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 valor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od 100%.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FE1-5D7F-4B93-B4C2-2C63566C8BF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50546"/>
                </a:solidFill>
                <a:latin typeface="Arial"/>
              </a:rPr>
              <a:t>Učinci k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ontingen</a:t>
            </a:r>
            <a:r>
              <a:rPr b="1" lang="hr-HR" sz="4400" spc="-1" strike="noStrike">
                <a:solidFill>
                  <a:srgbClr val="950546"/>
                </a:solidFill>
                <a:latin typeface="Arial"/>
              </a:rPr>
              <a:t>at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ntingenti imaju mnoge prednosti u odnosu na car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i su apsolutni i neovisni o fluktuaciji ci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 ovise o diferenciranju elastičnos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jeluju neovisno o t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šnim uvjetima, te znatno umanjuju djelovanje t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šta.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EA6-E414-435C-AEAB-DB213B6DD56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Izvozne subvencije (premije)</a:t>
            </a: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zvozne subvencije su direktna pl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ja ili poklanjanje poreznih prihod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ali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bvencioniranje kredita nacionalnim izvoznicima ili potencijalnim izvozni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dobravanje kredita sa s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om kamatom stranim kupcima s ciljem pospješivanja prodaje do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 rob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873-106A-4422-91FC-C3C01848BC6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Izvozne subvencije (premije)</a:t>
            </a: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360" y="13971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360" y="135108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865-6053-4C0D-BE87-543F901A7D38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Izvozne subvencije (premije)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 uvjetima slobodne trgovine cijena se formira na razini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izvodi AC rob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oši AB rob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tak BC izvoz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E4C-B32C-4D60-BE1C-96AC4FBA039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  <a:ea typeface="Times New Roman"/>
              </a:rPr>
              <a:t>Izvozne subvencije (premije)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a subvencionira proizvodnju robe x u visini AG po jedinici rob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mać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izv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proizvode GJ rob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H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oši u d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J se izvoz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potroš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gube a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proizv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su na dobitku a+b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znos d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ne subvencije je b+c+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84F-C31A-427E-8033-24C151229AC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0033"/>
                </a:solidFill>
                <a:latin typeface="Arial"/>
              </a:rPr>
              <a:t>Mjere VT politike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485720"/>
            <a:ext cx="8915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nting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administrativnog protekcioniz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bescarinska ograniče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2C9-73B8-4C5F-99D3-BAA2BE1A19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Teorija carinske unije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tupnjevi integriran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Asocijativni sporaz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ona slobodne trg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arinska un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ajedničko tržiš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Ekonomska un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475-7360-429D-84E3-77BC51B4B56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Teorija carinske unije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Učinci carinske u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varanje trgovine – trade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kretanja trgovine – trad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43D-0E09-4F3A-B8F1-708E52A3589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Stvaranje trgovine – </a:t>
            </a:r>
            <a:br>
              <a:rPr sz="4400"/>
            </a:b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trade creation 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2120" y="1447920"/>
            <a:ext cx="6552720" cy="5029200"/>
            <a:chOff x="762120" y="1447920"/>
            <a:chExt cx="6552720" cy="5029200"/>
          </a:xfrm>
        </p:grpSpPr>
        <p:sp>
          <p:nvSpPr>
            <p:cNvPr id="264" name=""/>
            <p:cNvSpPr/>
            <p:nvPr/>
          </p:nvSpPr>
          <p:spPr>
            <a:xfrm>
              <a:off x="1336680" y="1447920"/>
              <a:ext cx="0" cy="43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36680" y="5821200"/>
              <a:ext cx="528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36680" y="4399920"/>
              <a:ext cx="49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36680" y="3525120"/>
              <a:ext cx="494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681560" y="1775880"/>
              <a:ext cx="3908880" cy="349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01360" y="1666440"/>
              <a:ext cx="3908880" cy="349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16560" y="4399920"/>
              <a:ext cx="0" cy="1421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90800" y="4399920"/>
              <a:ext cx="0" cy="1421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36000" y="3525120"/>
              <a:ext cx="0" cy="2295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1000" y="3525120"/>
              <a:ext cx="0" cy="2295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90800" y="1994400"/>
              <a:ext cx="574560" cy="32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1640" y="1775880"/>
              <a:ext cx="459720" cy="32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34560" y="3229920"/>
              <a:ext cx="459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R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84720" y="3229920"/>
              <a:ext cx="459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Q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78880" y="4049640"/>
              <a:ext cx="459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51200" y="4071600"/>
              <a:ext cx="459720" cy="32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96080" y="4071600"/>
              <a:ext cx="459720" cy="32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40400" y="4049640"/>
              <a:ext cx="45972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2160" y="5826600"/>
              <a:ext cx="57456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84720" y="5826600"/>
              <a:ext cx="459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T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90560" y="5826600"/>
              <a:ext cx="459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V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53120" y="5826600"/>
              <a:ext cx="68976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10240" y="5821200"/>
              <a:ext cx="804600" cy="65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1557000"/>
              <a:ext cx="574560" cy="43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120" y="3368880"/>
              <a:ext cx="574560" cy="32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P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76960" y="4243320"/>
              <a:ext cx="459720" cy="32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66680" y="5791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224-9B8A-4F9F-9869-CFDB9D6953BB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Skretanje trgovine – </a:t>
            </a:r>
            <a:br>
              <a:rPr sz="4400"/>
            </a:br>
            <a:r>
              <a:rPr b="0" lang="hr-HR" sz="4400" spc="-1" strike="noStrike">
                <a:solidFill>
                  <a:srgbClr val="950546"/>
                </a:solidFill>
                <a:latin typeface="Arial"/>
              </a:rPr>
              <a:t>trade diversion 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5791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14400" y="1295280"/>
            <a:ext cx="6324480" cy="5181840"/>
            <a:chOff x="914400" y="1295280"/>
            <a:chExt cx="6324480" cy="5181840"/>
          </a:xfrm>
        </p:grpSpPr>
        <p:sp>
          <p:nvSpPr>
            <p:cNvPr id="294" name=""/>
            <p:cNvSpPr/>
            <p:nvPr/>
          </p:nvSpPr>
          <p:spPr>
            <a:xfrm>
              <a:off x="1353240" y="5732640"/>
              <a:ext cx="54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914400" y="1295280"/>
              <a:ext cx="6324480" cy="5181840"/>
              <a:chOff x="914400" y="1295280"/>
              <a:chExt cx="6324480" cy="5181840"/>
            </a:xfrm>
          </p:grpSpPr>
          <p:sp>
            <p:nvSpPr>
              <p:cNvPr id="296" name=""/>
              <p:cNvSpPr/>
              <p:nvPr/>
            </p:nvSpPr>
            <p:spPr>
              <a:xfrm>
                <a:off x="1357920" y="1295280"/>
                <a:ext cx="0" cy="44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57920" y="4467600"/>
                <a:ext cx="488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357920" y="4044600"/>
                <a:ext cx="488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57920" y="2881440"/>
                <a:ext cx="288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57920" y="2458440"/>
                <a:ext cx="288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690920" y="1823760"/>
                <a:ext cx="4881960" cy="338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44320" y="2881440"/>
                <a:ext cx="0" cy="28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08600" y="4044600"/>
                <a:ext cx="0" cy="16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12680" y="1612440"/>
                <a:ext cx="44352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78680" y="2035440"/>
                <a:ext cx="66564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Q''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44320" y="2564280"/>
                <a:ext cx="55476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Q'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55200" y="3727440"/>
                <a:ext cx="44352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19840" y="3727440"/>
                <a:ext cx="44352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55200" y="4573440"/>
                <a:ext cx="44352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2560" y="5948280"/>
                <a:ext cx="55476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S'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86840" y="5948280"/>
                <a:ext cx="554760" cy="42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14400" y="1400760"/>
                <a:ext cx="332640" cy="42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914400" y="2352600"/>
                <a:ext cx="44352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L'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14400" y="2775600"/>
                <a:ext cx="44352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P'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914400" y="3939120"/>
                <a:ext cx="44352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14400" y="4256280"/>
                <a:ext cx="44352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84120" y="5736960"/>
                <a:ext cx="554760" cy="74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A6B-6BA2-4601-9CFF-686079ADCE2D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0033"/>
                </a:solidFill>
                <a:latin typeface="Arial"/>
              </a:rPr>
              <a:t>Carina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5151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76520"/>
            <a:ext cx="83818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Oblik posebnog poreza koji se naplaćuje na 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robu koja podliježe carinjenju prilikom 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prijelaza carinske g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i oblik reguliranja vanjskotrgovinskih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je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1D4-6313-422C-8720-F385B2C7788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50546"/>
                </a:solidFill>
                <a:latin typeface="Arial"/>
              </a:rPr>
              <a:t>Razvoj carinske zaštite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1652760"/>
            <a:ext cx="769608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B83-6B7C-4007-99D8-C860818375A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0033"/>
                </a:solidFill>
                <a:latin typeface="Arial"/>
              </a:rPr>
              <a:t>Vrste carina (1)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ma smjeru kretanja ro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anzit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D9C-4A5E-4115-935D-8045AF0914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0033"/>
                </a:solidFill>
                <a:latin typeface="Arial"/>
              </a:rPr>
              <a:t>Vrste carina (2)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ma svrsi (namjeni) cari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štit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skal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hibitivn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D7B-83D1-4F09-8C35-BA0CAAFB33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76240" y="-36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0033"/>
                </a:solidFill>
                <a:latin typeface="Arial"/>
              </a:rPr>
              <a:t>Vrste carina (3)</a:t>
            </a:r>
            <a:endParaRPr b="0" lang="en-US" sz="4400" spc="-1" strike="noStrike">
              <a:solidFill>
                <a:srgbClr val="9505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ma osnovici za obračun car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d valorem (prema vrijed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ecifič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bini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A25-ACFC-404E-BC3B-FC86B59435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len Host - Međunarodna ekonomija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07:38:40Z</dcterms:created>
  <dc:creator>Pamela L. Hall</dc:creator>
  <dc:description/>
  <dc:language>en-US</dc:language>
  <cp:lastModifiedBy>Ekonomski fakultet Rijeka</cp:lastModifiedBy>
  <dcterms:modified xsi:type="dcterms:W3CDTF">2007-03-25T12:44:56Z</dcterms:modified>
  <cp:revision>23</cp:revision>
  <dc:subject/>
  <dc:title>Intra-Industry Tra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4818991</vt:r8>
  </property>
  <property fmtid="{D5CDD505-2E9C-101B-9397-08002B2CF9AE}" pid="3" name="_AuthorEmail">
    <vt:lpwstr>foah01@yahoo.com</vt:lpwstr>
  </property>
  <property fmtid="{D5CDD505-2E9C-101B-9397-08002B2CF9AE}" pid="4" name="_AuthorEmailDisplayName">
    <vt:lpwstr>Pamela Hall</vt:lpwstr>
  </property>
  <property fmtid="{D5CDD505-2E9C-101B-9397-08002B2CF9AE}" pid="5" name="_EmailSubject">
    <vt:lpwstr>Windows on the World Economy PowerPoints (Chapters 1-11)</vt:lpwstr>
  </property>
  <property fmtid="{D5CDD505-2E9C-101B-9397-08002B2CF9AE}" pid="6" name="_ReviewingToolsShownOnce">
    <vt:lpwstr/>
  </property>
</Properties>
</file>