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76B-57DC-4A40-BE7D-0127FE8E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EBA-AD75-4821-AAB7-3AE4BA24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348-EFD6-4BEC-ACAE-9B87FAB5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038-AAAF-47C3-8D14-85AE8E1A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098C-FFEE-4455-A65E-F40992CE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A211-D5B6-49D9-B98A-96CF12D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FB1-3493-4270-85E3-68E000D7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A387-46A8-43C7-A501-AECB8DF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1F93-F971-43E3-9C69-A176B6A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F300-EEEE-4316-B8EF-B892614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A4C9-6C8B-4220-84D0-099634D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79A-4B50-4643-BE00-E301B89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3285-4E6D-434B-85E2-FC0510B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9C4A-78BD-4CAB-8AAA-7D08725E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DA22-7CD1-4156-86D3-D694DAD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FC0E-F4A0-4C30-BB4E-C4B2E8FB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66A8-80EE-4A5D-B103-638D6F66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A22-A36F-4F0D-8C60-193FBCB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1A0-365C-4428-B54F-163E447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B8C-632F-4517-8522-AD70C650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3DB-831E-4FAE-A81A-43D359D3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8C5-6048-4761-8946-1FF688F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9FB-76CF-4ED3-8E3F-CA33E1B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350-2C18-4EFA-B3C5-3CE8F72F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DAE7-AE58-41CF-AB42-BDDAA16455C6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D9C-C5BF-437A-ADE2-71D001434D87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evizni tečaj i devizno tržišt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269100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308484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rs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OT (promptno) – prodaja i kupnja uz izvršenje odmah (2 dana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WARD (terminsko) – prodaja i kupnja s izvršenjem na neki budući datum po unaprijed dogovorenom tečaju  (30, 90, 180 dana ili duž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TURE tržište – prodaja i kupnja za izvršenje u budućnosti ali u određenim veličinama transakcija i s određenim datum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CIJE  - ugovori koji dozvoljavaju opciju da se napravi devizna transakcija u određenoj količini po određenom tečaju do isteka određenog ro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 opcija (vlasnik opcije ima pravo KUPITI deviz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T opcija (vlasnik opcije ima pravo PRODATI deviz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34F-8CAF-433A-874E-42D704AED0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dređivanje tečaj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uvjetima potpuno slobodnog režima (o režimima malo kasnije), tečaj se određuje na tržiš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tražnja (izvodi se iz debitnih stavaka u bilanci plaćanj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nuda (izvodi se iz kreditnih stavaka u bilanci plaćanj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278-6933-4104-BBB7-12A972BC27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1880" y="56754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0D8-027E-44BB-AD4D-FEEEB942FB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mjene u tečaj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recijacija domaće valute znači da je potrebno više jedinica da se kupi isti broj strane valute (domaća valuta vrijedi relativno manje ili uvozno dobro za rezidenta postaje skuplje u domaćoj valut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recijacija domaće valute 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280-E4B7-4245-B362-637136F732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Osnovni faktori koji utječu na tržište (market fundamentals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jene realnog dohot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jene produktivn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tarna i fiskalna polit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ldo na tekućem raču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lna kamatna stop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opa inflaci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kusi potrošač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142-EC6C-449E-9CFA-E8831CCD9E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žišna očekivanj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ovosti o budućim kretanjima odrednica (market fundamenta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Špekulativna gledanja na kretanje teča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C02-3274-462D-BDCE-99143F00E9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atki i dugi ro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žnost pojedinih odrednica se mijenja ovisno o vremenskom razdoblju kojeg promatram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kratkom roku su kritični realna kamatna stopa i (nagle) promjene u očekivanji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dugom roku su važniji inflacija, profitabilnost investicija, realni dohodak, produktivnos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36C-0E4F-44C9-9744-6A04539B49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mjene u potražnj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ko inozemna potražnja za HR dobrima ili financijskom imovinom raste (pada), tada tečaj mora rasti – aprecirati (padati – deprecirati). To je pomak krivulje PONU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ko naša potražnja za inozemnim robama ili financijskom imovinom rate (pada), onda tečaj mora padati – deprecirati (rasti- aprecirati). To je pomak krivulje POTRAŽ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E9D-0945-4932-8A73-DE24661B70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924360" y="227628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94720" y="244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115640" y="3645000"/>
            <a:ext cx="431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64520" y="56754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7DA-0F4F-4451-ABA7-3996C5FC5B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alni dohoda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Ako realni dohodak u HR raste (pada), u odnosu na inozemstvo, ceteris paribus očekujemo da će tečaj deprecirati (aprecirat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Zašto? UVOZ raste dok IZVOZ pa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Kako to izgleda na grafikonu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B67-5EE9-48C3-B096-801E17644D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vizni tečaj je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694692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cijena jedne valute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izra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ž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na u</a:t>
            </a: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 drugoj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71640" y="328464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A55-5EC4-4533-83B6-5EB558DD2E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140000" y="162828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9120" y="5791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591-89A2-45CF-A422-9733538659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amatne sto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romjene u kamatnim stopama utječu na tečaj preko utjecaja na kretanje kapita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orast (pad) u domaćoj kamatnoj stopi će, ceteris paribus, uzrokovati aprecijaciju (deprecijaciju) teča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što? Pad u potražnji za stranom valutom + porast ponud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724-6424-4518-A5FE-DA9C736037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440" y="141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21000"/>
            <a:ext cx="25923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6880" y="5229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1640" y="2297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278136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458136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116000" y="4581360"/>
            <a:ext cx="2519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78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51760" y="5791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973-8BD8-4210-BBF5-99ECEFD9A5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flacij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eteris paribus, porast (pad) razine domaćih cijena  će uzrokovati deprecijaciju (aprecijaciju) teča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što? S inflacijom, HR KN izražene cijene robi poskupljuju pa raste potražnja za uvozom. Istovremeno, HR izvoz postaje manje atraktivan pa pada ponu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910-6449-47CC-95F4-D4D3A39FA5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41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547640" y="1125360"/>
            <a:ext cx="259272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177336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4880" y="422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10160" y="1125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115640" y="227664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26920" y="2491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7720" y="59436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F55-F1B9-48A0-80B5-5A55E3DFCF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eki zaključc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evizna tržišta funkcioniraju (gotovo) na isti način kao i ostala tržišta – ponuda i potražnja u svakom trenutku generiraju ravnotežnu cijenu i količin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žište je pod utjecajem faktora koji određuju ekonomske transakcije među zemlja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9A9-4535-45A0-ADD4-0C74EC034A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-29880"/>
            <a:ext cx="43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čajna lista HNB broj: 055</a:t>
            </a:r>
            <a:br>
              <a:rPr sz="14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tvrđena na dan: 17.03.2006.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imjenjuje se od 20.03.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" y="665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765000"/>
          <a:ext cx="8424720" cy="5400720"/>
        </p:xfrm>
        <a:graphic>
          <a:graphicData uri="http://schemas.openxmlformats.org/drawingml/2006/table">
            <a:tbl>
              <a:tblPr/>
              <a:tblGrid>
                <a:gridCol w="2000160"/>
                <a:gridCol w="1092240"/>
                <a:gridCol w="988920"/>
                <a:gridCol w="1408320"/>
                <a:gridCol w="1527120"/>
                <a:gridCol w="140796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pov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edn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aj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0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0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5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e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đa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2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2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7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en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ved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7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8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vica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5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. Britan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6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6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7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75B-8EC6-47B4-ACE4-56226A2782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vencijo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rektno kotira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= KN / 1 GPB= 10.6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broj jedinica domaće valute za jednu jedinicu strane valut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Indirektno kotira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= GPB/ 1KN = 1/10.65 = 0.09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broj jedinica strane valute za jednu jedinicu domaće valut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CDD-707F-494A-9DD2-36BFBE1E52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ično se navode dva tečaj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D rate (kupovni) ili onaj po kojem banka želi kupiti jednu jedinicu neke valu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FFER rate (prodajni) ili onaj po kojem banka želi prodati jednu jedinicu valu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zlika je SPR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5299920"/>
            <a:ext cx="755964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D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,3625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,40225                4,4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2160" y="5734080"/>
            <a:ext cx="63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,4420 - 4,3625 = 0,0795 po jedinici AUD kojim se trg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3E0-CDA4-4A13-9400-61FD1647A0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ečaj postoji između svih valuta, ali se u pravilu izražava u uvjetima domaće valu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ehicle currenc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o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uvijek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SD, a da li € može postati?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ve druge valute se izračunavaju indirektno, np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N/€ i KN/USD tada imamo €/USD i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7.335/6.020 =  1,218 USD za 1 €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vo služi i za izračunavanje tečaja onih valuta kojima se na jednom tržištu direktno NE trguje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250-1150-4E9A-BDC9-BC13FB80E0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NB kaž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735200"/>
            <a:ext cx="84596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Verdana"/>
              </a:rPr>
              <a:t>Tečajevi lokalnih valuta izračunati su na osnovi srednjeg tečaja američkog dolara prema kuni, koji je na  dan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  1. ožujka 2006. iznosio 6,152571 HRK za jedan USD</a:t>
            </a:r>
            <a:r>
              <a:rPr b="0" lang="hr-HR" sz="2300" spc="-1" strike="noStrike">
                <a:solidFill>
                  <a:srgbClr val="000000"/>
                </a:solidFill>
                <a:latin typeface="Verdana"/>
              </a:rPr>
              <a:t>, kao i na osnovi srednjih tečajeva stranih valuta prema američkom dolaru i euru navedenih u "Financial Times Guide to World Currencies". </a:t>
            </a:r>
            <a:br>
              <a:rPr sz="2300"/>
            </a:br>
            <a:r>
              <a:rPr b="0" lang="hr-HR" sz="2300" spc="-1" strike="noStrike">
                <a:solidFill>
                  <a:srgbClr val="000000"/>
                </a:solidFill>
                <a:latin typeface="Verdana"/>
              </a:rPr>
              <a:t>Napominjemo da ovaj tablični pregled nije službena tečajna lista Hrvatske narodne banke te molimo eventualne korisnike ovog pregleda da se o tečaju pojedinih valuta, naznačenih u ovom pregledu, informiraju putem financijskih servisa REUTERS ili Bloomberg, koji su dostupni većini poslovnih banaka u  Republici Hrvatskoj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530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A51-1345-41DF-A5EA-D1314AB54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vizno tržiš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ajveće i najlikvidnije u svije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ema centralnog, jednog tržišta već ima nekoliko ključnih (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don, New York, Tokyo, Frankfurt,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ingapore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Korištenje nove tehnologije (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veza) sve više umanjuje korisnost arbitraž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ko su sudionici na deviznom tržištu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mercijalne bank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rporaci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bankarske financijske instituci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Centralne bank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6F7-8BD8-4831-8933-7E28387E7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z toga slijede i transakcije.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zmeđu komercijalnih banaka i njihovih komiten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zmeđu domaćih banaka (preko broker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zmeđu domaćih i stranih ban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zmeđu centralnih ban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sc. 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8BC-44A4-4722-B6FC-741BB0C759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7:18:00Z</dcterms:created>
  <dc:creator>Mia Mikic</dc:creator>
  <dc:description/>
  <dc:language>en-US</dc:language>
  <cp:lastModifiedBy>Ekonomski fakultet Rijeka</cp:lastModifiedBy>
  <dcterms:modified xsi:type="dcterms:W3CDTF">2006-04-06T10:36:34Z</dcterms:modified>
  <cp:revision>12</cp:revision>
  <dc:subject/>
  <dc:title>Devizni tečaj i devizno tržište I</dc:title>
</cp:coreProperties>
</file>