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E61-ED9A-4E52-B4AA-3A3AA078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BFE-8201-460E-A25C-00884147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7CA-6678-4052-9AFD-44B963B5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05E-C253-4E50-A5FC-473AFD9C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9EB8-7C23-44CE-B244-FED00752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813A-8E83-40DF-86A0-1798E695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F0C7-275D-411D-9159-4F123890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8ED8-B481-4250-8452-0D471203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1B87-0087-4B54-9699-66A596C0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2F8B-C4CE-47FA-97A7-4C74CF63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265C-2764-4CDD-A873-56F3AC6F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35C-B0DF-4DA3-994A-903483DA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A37A-D209-4E81-9541-6F0AD12A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A9D8-14F4-4D03-81E7-CC4B1CB9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8C8B-3A14-4707-AA41-77BC947D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7F7A-FC90-46ED-8923-10A01851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ABAE-822E-4F0C-83A0-FFE65C95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483-48D9-45E8-8F7E-72D5EADB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054-E56A-482A-BD58-6DBB97CB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01F-C6D8-40A6-AEBC-05253BAE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97E-CCD4-4DA6-844D-D790A024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367-B972-4C31-B6EE-BA210314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5AE-9CFF-4B6D-BBA6-1E12E6E7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9F6-724F-4128-93B4-787C604D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130A-6E81-47CC-A515-ACEF45960FD5}" type="slidenum"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8E6F-4D9B-4156-BD52-87FE85198287}" type="slidenum"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eorija komparativnih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rednosti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362320" y="5105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vid Ricardo</a:t>
            </a:r>
            <a:r>
              <a:rPr b="0" lang="hr-HR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imje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roizvodnj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ošulja i maslinovog ulja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Za jedan sat rada mog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 je proizvesti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Hrvatskoj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 komada košulja i 1 lit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ulj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Italiji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4 komada košulja i 3 litre ulj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EB5-B179-4B65-AB04-F8AC83A3DD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PM Hrvatsk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400800" cy="612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FEE-2590-4CBE-95DB-E58626088C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PM Italij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7208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553-79FC-40CC-9F6D-3FB36EEE04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KPM Hrvatska + Italij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57208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7F7-D51A-4CB6-B59A-3CA6FDFF9B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 Narrow"/>
              </a:rPr>
              <a:t>KPM Hrvatska + Italij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rvatska: vrijednost rada sadržana u 1 litri maslinovog ulja ista kao kod 3 komada košulj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talija: vrijednost rada sadržana u 3 litre maslinovog ulja ista kao kod 4 komada košulj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3E9-D84B-4606-8807-7EE2D51C4B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R + I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03640" y="76320"/>
            <a:ext cx="3193920" cy="678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6495-F0E3-4F98-906C-299A01462E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R + I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36766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259092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057400" y="358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5486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ALIJ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35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RVATSK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927-EA6D-488E-9E75-C453BCBC3D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KPM Hrvatska + Italij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kratko: Hrvatska je relatino produktivnija u proizvodnji košulja, a Italija u proizvodnji m. ulja ili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lativna produktivnost Hrvatske je veća u proizvodnji košulja il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rvatska ima komparativne prednosti u proizvodnji košulj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28A-E051-4C1C-813A-B13DE50176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Korist od trgov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 n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n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rvatska proizvod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ošulj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a trgovinom 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alijo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roizvod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m. ulj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ndirektn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mora biti efikasnija od direkt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D1F-EDB9-44FE-AE86-7E1316E9F7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Korist od trgov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alij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"proizvo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"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šulj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fikasnije proizvodnjo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linovog ulj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jegovo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zmjenom za košulj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83F-5536-4A50-A4A3-D88A0376B5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zl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i sudjelovanja u 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unarodnoj trgovini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obi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azlike iz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 d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va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konomija obujma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2D8-C3CC-4C18-92F7-7F86A40A74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 Narrow"/>
              </a:rPr>
              <a:t>zaključak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jednaki su odnosi cijena između država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rvatska ima komparativne prednosti u proizvodnji košulj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talija ima komparativne prednosti u proizvodnji maslinovog ulj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mjena je korisna za potrošače iz obje države jer povećava njihovo blagostanj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ECB-EE53-4853-B448-E7661AF88E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mitov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Slobodna trgovina je korisna samo ako je naša država jača od strane konkurencije. Konkurentske prednosti jedne industrije ne ovise jedino o produktivnosti u usporedbi sa stranom industrijom, već i o domaćim nadnicama u usporedbi sa stranima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E3A-7EF5-40A1-95AD-4F25C22694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mitov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Trgovina eksploatira države i čini ih siromašnijima ukoliko radnici primaju niže plaće nego u drugim državama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CB1-7A10-45C6-B18A-2AB9C138E0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mitov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trana konkurencija je nepoštena i bolna za druge dr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ve kada su bazirane na niskim pla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ma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8BE-35CF-46AE-90E5-997A7CCA1B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Zašto?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vaka se država specijalizira u proizvodnji robe u kojoj ima komparativne prednosti.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87B-197F-4825-979A-D48695CE9B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67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Kada komparativn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rednosti postoje?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2742840"/>
            <a:ext cx="6782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Kada je oportunitetni trošak proizvodnje te robe u usporedbi s drugom robom niži nego u drugoj državi</a:t>
            </a:r>
            <a:r>
              <a:rPr b="0" lang="hr-HR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410-25AE-41AB-94B1-288B879065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67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Kada komparativne prednosti donose korist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742840"/>
            <a:ext cx="7467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rgovina iz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 d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va donije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 koristi za obje d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ve ako svaka d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va izvozi robe u kojima ima komparativne prednost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F2B-59AA-4988-BE2A-1F6F593368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67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Tko d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avam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od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uje što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 proizvoditi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2640" y="2819520"/>
            <a:ext cx="7162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Naravno, ne postoji neki centralni organ, nego je to ponuda i potr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nj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E7D-A010-497D-82F9-A7838E3A38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67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utor teorije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2819520"/>
            <a:ext cx="7162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David Ricardo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inciples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of Political Economy and Taxation, 1817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2E5-C5A5-4EAE-8D2D-12F3E4F1B9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6792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novne postavke teorij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nalizir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amo jedan faktor proizvodnj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rad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omatraj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dvije d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v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matraju se dvije rob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nemaruju se transportni troškov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976-4F87-4B9B-8821-697998D46C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oje dvije države, Hrvatska i Italij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riste jedan proizvodni faktor (rad) i proizvode maslinovo ulje i košulj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7CD-CB21-4E16-965D-0A9202EAAC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konomski fakultet Rijeka</cp:lastModifiedBy>
  <dcterms:modified xsi:type="dcterms:W3CDTF">2008-03-03T08:51:41Z</dcterms:modified>
  <cp:revision>16</cp:revision>
  <dc:subject/>
  <dc:title> Teorija komparativnih  prednosti </dc:title>
</cp:coreProperties>
</file>