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1642-A2AB-4FA2-AB67-A0B10FC2D192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6AC8-D267-4519-87F9-D46C274E5D4A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086-DACE-4116-964D-0A1350C9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5C8-7D0F-4BAB-9C34-B76E8DFF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E63-249B-44C8-8BCF-A57D784F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6B5-B107-4D3C-A096-A6377871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5FC9-1E2B-4DAD-91BC-DF349278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DEA9-1A24-413B-ABEB-2650C752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8C6F-2BED-44BE-B216-0591157D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A254-D615-4AC9-A4E9-523B0BF2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6F54-DCAE-496C-93B9-C000BE94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E677-131B-4C16-87F7-DC2B3283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EC10-55F0-4579-9561-717B41A5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B0C-C75B-4039-A11A-C5EA7EA0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9D45-6163-4803-A616-94BDB5BE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1D7B-FC87-4A91-B6DA-888FA420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31C7-DC8A-480E-B997-A36A6839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C42C-D60F-4CC8-8D4C-D7238C95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9DA1-CBA7-4967-A1E1-08EC006B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77C-49EB-4FA3-9323-B549C418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BA1-B6D4-46C7-94DE-76A7243C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41E-1C9C-4133-8002-B4DC68A3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587-D1AB-4B41-96F8-65840EC2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EF1-5CA2-499B-A641-ED219812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1AF-16F8-4718-BEBC-2142EDB9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1E8-547A-41B4-878A-21E15797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A8EB-E3A9-4A75-87B6-D80529890B7C}" type="slidenum"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6102-B010-4A4A-89E0-C8C06F9CA6BB}" type="slidenum">
              <a:rPr b="0" lang="hr-H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MERKANTILIZA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123720" y="41911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XVI. – XVIII. stoljeć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0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PRIMJENA MERKANTILISTIČKIH MJERA DANA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TICANJE IZVOZ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iroka lepeza mjera – subvencije, damping..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GRANIČAVANJE UVOZ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iroka lepeza mjera – necarinske barijere (preko 500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A3F-CA48-405E-A0C7-CE45879532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RAZLOZI PRIMJENE MERKANTILISTIČKIH MJERA DANA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čuvanje monopolske pozicije na tržiš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izanje veće koristi od usmjerene međunarodne razmje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ćanje zaposlenosti u držav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lažavanje deficita nacionalne platne bila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36E-9D48-4202-98AA-FD92C1C6DD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0" y="2590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eorija apsolutnih prednos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038120" y="49528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am Smith 1723 - 1790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vod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 gospodarstva, bez obzira na svoju veličinu, ovise u određenoj mjeri o drugim gospodarstvima i događajima izvan svojih gran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A07-A61F-43C4-BA33-EA0C0AE8E3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novne postav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na teorija vrijednos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matraju se dvije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liziraju se dva proizvod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anemaruju se transportni troškov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955-E2DA-43D6-BEEC-D06A7902C7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vije d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gleska i Portuga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va proizvo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pšenica i vino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jene proizvoda iz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e u satima rada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2B8-1E8B-45FF-8A5C-5739CD548E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3200400"/>
          <a:ext cx="6096240" cy="22604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lesk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ug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šenic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n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753120" y="2286000"/>
            <a:ext cx="77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jene proizvoda iz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e u satima r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D6C-1BEA-44B7-8589-7AAE36EBFC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krivulj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oizvodnih mog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kazuje koliko se maksimalno m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proizvoditi proizvoda X uz određenu k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u proizvoda 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koliko postoji samo jedan faktor proizvodnje, krivulja proizvodnih mog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sti je ravna lini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29F-9679-42D0-8490-9D41D58569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819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rivulja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izvodnih mogućnosti Englesk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4900680" y="2606760"/>
            <a:ext cx="0" cy="301608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00680" y="5622840"/>
            <a:ext cx="3078000" cy="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0680" y="3017880"/>
            <a:ext cx="2008080" cy="260496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514600"/>
            <a:ext cx="1719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pše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76960" y="5761080"/>
            <a:ext cx="147168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v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65720" y="3017880"/>
            <a:ext cx="40140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40560" y="5761080"/>
            <a:ext cx="40176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930-121B-471D-92BE-BD2B74ABC9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819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rivulja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izvodnih mogućnost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ugal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4238640" y="2286000"/>
            <a:ext cx="0" cy="315900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38640" y="5445000"/>
            <a:ext cx="414324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438280"/>
            <a:ext cx="16081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pše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34080" y="5589720"/>
            <a:ext cx="12668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v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78200" y="3865680"/>
            <a:ext cx="34452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1400" y="5589720"/>
            <a:ext cx="34452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114800"/>
            <a:ext cx="3683160" cy="1292400"/>
          </a:xfrm>
          <a:prstGeom prst="line">
            <a:avLst/>
          </a:prstGeom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286-A968-444E-B538-C74F81D7C6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ARAKTERISTIK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ZRAZIT INTERES ZA VANJSKU TRGOVIN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redstvo povećanja nacionalnog bogatstv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cionalističko reguliranje trgovine, proizvodnje i međunarodnih ekonomskih odno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231-7ABA-4527-A93F-9997363150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>
            <a:off x="3497400" y="2133720"/>
            <a:ext cx="0" cy="3720960"/>
          </a:xfrm>
          <a:prstGeom prst="line">
            <a:avLst/>
          </a:prstGeom>
          <a:ln w="54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28800" y="2446200"/>
            <a:ext cx="6629400" cy="4030920"/>
            <a:chOff x="1828800" y="2446200"/>
            <a:chExt cx="6629400" cy="4030920"/>
          </a:xfrm>
        </p:grpSpPr>
        <p:sp>
          <p:nvSpPr>
            <p:cNvPr id="181" name=""/>
            <p:cNvSpPr/>
            <p:nvPr/>
          </p:nvSpPr>
          <p:spPr>
            <a:xfrm>
              <a:off x="3497400" y="5856120"/>
              <a:ext cx="4960800" cy="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28800" y="3048120"/>
              <a:ext cx="1523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Q pšen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02400" y="6012000"/>
              <a:ext cx="151596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Q v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46240" y="4151160"/>
              <a:ext cx="41292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31280" y="6012000"/>
              <a:ext cx="41400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97400" y="4460760"/>
              <a:ext cx="4410000" cy="1395360"/>
            </a:xfrm>
            <a:prstGeom prst="line">
              <a:avLst/>
            </a:prstGeom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3497040" y="2601720"/>
              <a:ext cx="1654200" cy="3254040"/>
            </a:xfrm>
            <a:prstGeom prst="line">
              <a:avLst/>
            </a:prstGeom>
            <a:ln w="66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5120" y="6012000"/>
              <a:ext cx="41292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46240" y="2446200"/>
              <a:ext cx="41292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86080" y="3067200"/>
              <a:ext cx="827280" cy="61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E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40280" y="4616280"/>
              <a:ext cx="963720" cy="46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Arial"/>
                </a:rPr>
                <a:t>P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416-7EFA-4FEB-8DA8-47FEB1D8AE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ezultat primjera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2895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gleska proizvodi isključivo pšenic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rtugal proizvodi isključivo vi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895480" y="2514600"/>
            <a:ext cx="5829480" cy="3429000"/>
            <a:chOff x="2895480" y="2514600"/>
            <a:chExt cx="5829480" cy="3429000"/>
          </a:xfrm>
        </p:grpSpPr>
        <p:sp>
          <p:nvSpPr>
            <p:cNvPr id="195" name=""/>
            <p:cNvSpPr/>
            <p:nvPr/>
          </p:nvSpPr>
          <p:spPr>
            <a:xfrm>
              <a:off x="6248520" y="342900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993366"/>
                  </a:solidFill>
                  <a:latin typeface="Arial"/>
                </a:rPr>
                <a:t>rezultantna </a:t>
              </a:r>
              <a:r>
                <a:rPr b="1" lang="hr-HR" sz="2400" spc="-1" strike="noStrike">
                  <a:solidFill>
                    <a:srgbClr val="993366"/>
                  </a:solidFill>
                  <a:latin typeface="Arial"/>
                  <a:ea typeface="Arial"/>
                </a:rPr>
                <a:t>k</a:t>
              </a:r>
              <a:r>
                <a:rPr b="1" lang="hr-HR" sz="2400" spc="-1" strike="noStrike">
                  <a:solidFill>
                    <a:srgbClr val="993366"/>
                  </a:solidFill>
                  <a:latin typeface="Arial"/>
                </a:rPr>
                <a:t>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59160" y="2514600"/>
              <a:ext cx="0" cy="293688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59160" y="5454720"/>
              <a:ext cx="4465800" cy="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251160"/>
              <a:ext cx="123984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Q pšen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43480" y="5576760"/>
              <a:ext cx="13654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Q v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63800" y="4108320"/>
              <a:ext cx="3715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80480" y="5576760"/>
              <a:ext cx="372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59160" y="4352760"/>
              <a:ext cx="3969000" cy="1101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4258800" y="2884320"/>
              <a:ext cx="1489320" cy="257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00800" y="5576760"/>
              <a:ext cx="3715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63800" y="2760840"/>
              <a:ext cx="37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00600" y="3657600"/>
              <a:ext cx="7444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E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76960" y="4230720"/>
              <a:ext cx="86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Arial"/>
                </a:rPr>
                <a:t>P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59160" y="2884320"/>
              <a:ext cx="3969000" cy="2570400"/>
            </a:xfrm>
            <a:prstGeom prst="line">
              <a:avLst/>
            </a:prstGeom>
            <a:ln w="92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DDC-1FDB-4F48-80C6-5081409DB4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ezultat primjer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solutna specijalizacij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žava u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izvodnji robe s iskazanim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solutnim prednosti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BAF-E7FD-47B3-B3F7-8FA625FDBA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4160" y="1143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Krivulje indiferencij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rivulje koje spajaju točke istog zadovoljstva potrošač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arakterist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 sijeku s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laze svakom točkom I. kvadran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a ih beskonačno mnog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nkav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ema ishodiš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ED0-D15E-4D54-A97B-DC915E4AED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zult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adovoljstvo potrošača u Portugalu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dređeno je krivuljom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124080" y="886320"/>
            <a:ext cx="6171480" cy="5057280"/>
            <a:chOff x="3124080" y="886320"/>
            <a:chExt cx="6171480" cy="5057280"/>
          </a:xfrm>
        </p:grpSpPr>
        <p:sp>
          <p:nvSpPr>
            <p:cNvPr id="216" name=""/>
            <p:cNvSpPr/>
            <p:nvPr/>
          </p:nvSpPr>
          <p:spPr>
            <a:xfrm>
              <a:off x="6275520" y="5559480"/>
              <a:ext cx="1284120" cy="3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Q v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124080" y="886320"/>
              <a:ext cx="6171480" cy="5057280"/>
              <a:chOff x="3124080" y="886320"/>
              <a:chExt cx="6171480" cy="5057280"/>
            </a:xfrm>
          </p:grpSpPr>
          <p:sp>
            <p:nvSpPr>
              <p:cNvPr id="218" name=""/>
              <p:cNvSpPr/>
              <p:nvPr/>
            </p:nvSpPr>
            <p:spPr>
              <a:xfrm>
                <a:off x="7910640" y="5559480"/>
                <a:ext cx="349200" cy="38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3124080" y="886320"/>
                <a:ext cx="6171480" cy="4781880"/>
                <a:chOff x="3124080" y="886320"/>
                <a:chExt cx="6171480" cy="47818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08560" y="2362320"/>
                  <a:ext cx="0" cy="3070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08560" y="5432400"/>
                  <a:ext cx="4201920" cy="0"/>
                </a:xfrm>
                <a:prstGeom prst="line">
                  <a:avLst/>
                </a:prstGeom>
                <a:ln w="507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124080" y="3129120"/>
                  <a:ext cx="1166760" cy="76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80"/>
                      </a:solidFill>
                      <a:latin typeface="Arial"/>
                    </a:rPr>
                    <a:t>Q pšen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41640" y="4024440"/>
                  <a:ext cx="349200" cy="384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419720" y="4267080"/>
                  <a:ext cx="3735360" cy="115092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459400" y="4152960"/>
                  <a:ext cx="816120" cy="384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r-HR" sz="2000" spc="-1" strike="noStrike">
                      <a:solidFill>
                        <a:srgbClr val="000000"/>
                      </a:solidFill>
                      <a:latin typeface="Arial"/>
                    </a:rPr>
                    <a:t>P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9796800">
                  <a:off x="5199480" y="1357920"/>
                  <a:ext cx="3733200" cy="306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9796800">
                  <a:off x="4732560" y="2126160"/>
                  <a:ext cx="3732480" cy="306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9796800">
                  <a:off x="4966200" y="1742040"/>
                  <a:ext cx="3733200" cy="306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677000" y="4152960"/>
                  <a:ext cx="466920" cy="384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524480" y="3513240"/>
                  <a:ext cx="468360" cy="525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641840" y="4792680"/>
                  <a:ext cx="466560" cy="511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37D-F09B-47D6-8D04-8CD91D8808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zult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adovoljstvo potrošača 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dređeno je krivuljom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00400" y="811440"/>
            <a:ext cx="5638680" cy="4674960"/>
            <a:chOff x="3200400" y="811440"/>
            <a:chExt cx="5638680" cy="4674960"/>
          </a:xfrm>
        </p:grpSpPr>
        <p:sp>
          <p:nvSpPr>
            <p:cNvPr id="235" name=""/>
            <p:cNvSpPr/>
            <p:nvPr/>
          </p:nvSpPr>
          <p:spPr>
            <a:xfrm>
              <a:off x="4640400" y="1773360"/>
              <a:ext cx="0" cy="31813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640400" y="4952520"/>
              <a:ext cx="4198680" cy="32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590920"/>
              <a:ext cx="15303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Q pšen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45400" y="5089680"/>
              <a:ext cx="1515960" cy="39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Q v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640040" y="2173320"/>
              <a:ext cx="1654200" cy="2782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18120" y="5089680"/>
              <a:ext cx="412920" cy="39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89240" y="2039760"/>
              <a:ext cx="41292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15000" y="2971800"/>
              <a:ext cx="826920" cy="53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E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0587000">
              <a:off x="5555520" y="876240"/>
              <a:ext cx="2202480" cy="318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0587000">
              <a:off x="5002560" y="1406880"/>
              <a:ext cx="2206080" cy="318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0587000">
              <a:off x="5279040" y="1142280"/>
              <a:ext cx="2203200" cy="318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9560" y="41911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hr-H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F7A-87DB-4D4B-90A2-084BD6A8AD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zult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adovoljstvo potrošač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k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đunarodne razmjene prikazano je krivuljom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4824360" y="2590920"/>
            <a:ext cx="0" cy="3070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24360" y="5661000"/>
            <a:ext cx="431964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3357720"/>
            <a:ext cx="1199880" cy="76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 pše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45320" y="5788080"/>
            <a:ext cx="131904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 v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4840" y="4253040"/>
            <a:ext cx="3603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424720" y="5788080"/>
            <a:ext cx="35892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24360" y="4510080"/>
            <a:ext cx="3840120" cy="1150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824360" y="2974680"/>
            <a:ext cx="1440000" cy="268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44840" y="2846520"/>
            <a:ext cx="3603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3741840"/>
            <a:ext cx="719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04000" y="4381560"/>
            <a:ext cx="84132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24360" y="2975040"/>
            <a:ext cx="3840120" cy="268596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424720" y="4381560"/>
            <a:ext cx="47952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4120" y="5021280"/>
            <a:ext cx="48096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0587000">
            <a:off x="5376240" y="1923120"/>
            <a:ext cx="1920240" cy="30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58000">
            <a:off x="5777640" y="2962440"/>
            <a:ext cx="4079520" cy="230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0299000">
            <a:off x="5873400" y="771840"/>
            <a:ext cx="4558320" cy="38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3D4-658E-47DD-A7FB-B6F58AE1A6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zaklj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gleska proizvodi isklj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vo pšenic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rtugal proizvodi isklj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vo vin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troš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u Engleskoj, kao i potroš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u Portugalu pov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vaju zadovoljstvo, jer su u mog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sti trošiti na višoj krivulji indiferencij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đunarodna razmjena pov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va blagostanje u obje d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v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075-A98F-406F-910A-8521EB9134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UTEMELJITELJI DOKTR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osiah Chil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an Bodi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homas Man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erard Malyn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ntch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i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8B7-1C47-464A-8B7D-00E22C273B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OSNOVNE POSTAVK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JEDINO BOGATSTVO JE NOVAC (ZLATO I SREBRO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BOGATSTVO SE OSTVARUJE VANJSKOM TRGOVINOM, ODNOSNO IZVOZNIM VIŠKO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FAD-451E-4CF4-A5BE-23798AAF73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REALIZACIJA CILJ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AKTIVNA TRGOVINSKA BILAN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o promet između država povećava količinu novca u državi i njeno bogatstv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nutrašnji promet ne ostvaruje profit za držav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B8A-8034-4D0E-BA03-D9335CD8C1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RANI MERKANTILIZA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2057040"/>
            <a:ext cx="8964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TEMELJ: INDIVIDUALNA BILANCA TRGOVINSKIH TRANSAKCIJA POJEDINIH TRGOVACA MORA BITI POZITIVN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 trgovini se ne smije smanjivati zaliha plemenitih metal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troga kontrola nad deviznim transakcijam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graničavanje izvoza kapitala (plemenitih metala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epatriiranje prihoda od prodaje u inozemstvu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08B-E05F-4D4D-9AE7-708622197C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RAZVIJENI MERKANTILIZA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2057040"/>
            <a:ext cx="89647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MELJ: AKTIVNA NACIONALNA BILANCA TRGOVINSKIH TRANSAKCIJA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pušta se težište na deviznoj kontroli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muliranje domaće proizvodnje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viranje izvoz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graničenje uvoz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graničenje domaće potrošnj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668-42D8-40DE-A644-91B16290F7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TRGOVINSKA POLITIKA MERKANTILIZM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MJE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timuliranje izvoza robe i vršenja usluga (brodarstvo, reeksport, oplemenjivanje strane robe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graničavanje uvoz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ržavne reglementacij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ržavna prisila nad pojedincima da djeluju u cilju nacionalnih interes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010-9D3A-4445-A51C-19B99F8B8C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ZABLUDE MERKANTILIZM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cjenjivanje značenja aktivne   trgovinske bila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tivnu bilancu je lako i brzo ostvariti strogim mjerama, ali nauštrb gospodarskog razvoj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tivna se bilanca može postići i devalvacijom ili deflacijom, uz mnogo manje negativne posljedic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iva nije nezdrava – to je normalna posljedica gospodarskog razvoj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9FA-4E8C-4890-8DE9-6392270DC3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15:47:31Z</dcterms:created>
  <dc:creator>Ekonomski fakultet Rijeka</dc:creator>
  <dc:description/>
  <dc:language>en-US</dc:language>
  <cp:lastModifiedBy>Ekonomski fakultet Rijeka</cp:lastModifiedBy>
  <dcterms:modified xsi:type="dcterms:W3CDTF">2008-03-03T08:49:55Z</dcterms:modified>
  <cp:revision>7</cp:revision>
  <dc:subject/>
  <dc:title>Teorija apsolutnih prednosti </dc:title>
</cp:coreProperties>
</file>