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6EA2-1739-4989-A15F-B5B270B68676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A94D-EE1A-4EF8-BEA3-B6A00AF99797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5181-9D68-4995-BACF-3A31E6E68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F7BE-B19F-4218-8E99-752186AA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C028-D637-4D46-82E0-9B5EAAC9D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3579-4D7C-4516-AF38-D621D83F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4604-96CB-4B7E-9544-08A56D0BB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D75BA-BFA2-4312-A884-00185996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E61E-D094-494C-A82C-74F75B5E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068F-393E-4608-9C51-F3A9792D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48F4-3B53-4508-A406-20DDEE7F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55D3-0CF9-4622-8E3C-819023E8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C811-B02A-4F8E-979B-A97A4124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4B72-BBAD-44FC-B1BE-8E156BC0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7FDF-9F42-4608-9227-9C3F3282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74DB-F282-424D-A2A9-BCFBE3E9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77BE-8D6C-442B-9350-8801F6CA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A535-1C58-47FC-AF56-B76D86FC8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FC52-A252-453F-A21F-D2084734C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DBDD-7AF2-4B6F-AEA7-7B5A4FC6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14F3-7F1B-46FE-B07F-868BA564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30E7-4244-422A-82A8-37A76F55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B162-5967-489F-A9E0-33F8AB14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A0D7-9672-4CA3-8B8C-BEA76121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D3D7-E711-4002-9695-9B9A4AAA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E8FF-973F-426F-B892-68411CCC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C9B2-DBF3-4281-897F-54106DF083BB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AF8A-F86B-460D-A4C3-A3DC5DE2FA17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MERKANTILIZAM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3123720" y="419112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XVI. – XVIII. stoljeć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80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PRIMJENA MERKANTILISTIČKIH MJERA DANAS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TICANJE IZVOZ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Široka lepeza mjera – subvencije, damping..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GRANIČAVANJE UVOZ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Široka lepeza mjera – necarinske barijere (preko 500)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4864-F8DE-4E99-9E66-5E8D9B5D84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RAZLOZI PRIMJENE MERKANTILISTIČKIH MJERA DANAS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čuvanje monopolske pozicije na tržišt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izanje veće koristi od usmjerene međunarodne razmjen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većanje zaposlenosti u državi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blažavanje deficita nacionalne platne bilanc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1F96-E550-4F2B-8E5E-CEB6EDADA0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0" y="2590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Teorija apsolutnih prednost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038120" y="4952880"/>
            <a:ext cx="4876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dam Smith 1723 - 1790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vod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a gospodarstva, bez obzira na svoju veličinu, ovise u određenoj mjeri o drugim gospodarstvima i događajima izvan svojih granic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C2A6-F529-4997-8878-0D4865A80D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snovne postav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k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dna teorija vrijednosti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omatraju se dvije 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v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aliziraju se dva proizvod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zanemaruju se transportni troškovi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D732-45F4-4336-8EE7-80EDC19AE0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primjer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vije d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ngleska i Portugal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va proizvod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pšenica i vino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ijene proizvoda iz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ne u satima rada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4163-8E5D-4A5B-8CDD-D8A294B5F9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primjer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23880" y="3200400"/>
          <a:ext cx="6096240" cy="22604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75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glesk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uga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šenic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n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753120" y="2286000"/>
            <a:ext cx="774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ijene proizvoda iz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ne u satima ra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6109-D060-4B4D-86F7-40F6505A78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krivulja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proizvodnih mogu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nosti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kazuje koliko se maksimalno m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 proizvoditi proizvoda X uz određenu ko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u proizvoda 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koliko postoji samo jedan faktor proizvodnje, krivulja proizvodnih mog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osti je ravna linij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CD4A-53BA-4F5B-B62A-3AC85386D2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primjer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8195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rivulja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izvodnih mogućnosti Englesk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"/>
          <p:cNvSpPr/>
          <p:nvPr/>
        </p:nvSpPr>
        <p:spPr>
          <a:xfrm>
            <a:off x="4900680" y="2606760"/>
            <a:ext cx="0" cy="3016080"/>
          </a:xfrm>
          <a:prstGeom prst="line">
            <a:avLst/>
          </a:prstGeom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00680" y="5622840"/>
            <a:ext cx="3078000" cy="0"/>
          </a:xfrm>
          <a:prstGeom prst="line">
            <a:avLst/>
          </a:prstGeom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0680" y="3017880"/>
            <a:ext cx="2008080" cy="260496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52680" y="2514600"/>
            <a:ext cx="17193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 pšen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176960" y="5761080"/>
            <a:ext cx="1471680" cy="41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 v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365720" y="3017880"/>
            <a:ext cx="401400" cy="41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40560" y="5761080"/>
            <a:ext cx="401760" cy="41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6A2D-B9A2-426B-B082-7CB50A1D66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primjer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8195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rivulja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izvodnih mogućnost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ugal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"/>
          <p:cNvSpPr/>
          <p:nvPr/>
        </p:nvSpPr>
        <p:spPr>
          <a:xfrm>
            <a:off x="4238640" y="2286000"/>
            <a:ext cx="0" cy="315900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38640" y="5445000"/>
            <a:ext cx="414324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43200" y="2438280"/>
            <a:ext cx="16081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 pšen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34080" y="5589720"/>
            <a:ext cx="126684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 v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78200" y="3865680"/>
            <a:ext cx="34452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91400" y="5589720"/>
            <a:ext cx="34452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67080" y="4114800"/>
            <a:ext cx="3683160" cy="1292400"/>
          </a:xfrm>
          <a:prstGeom prst="line">
            <a:avLst/>
          </a:prstGeom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9B16-8571-4398-8FB2-8C9B960B3D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KARAKTERISTIK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IZRAZIT INTERES ZA VANJSKU TRGOVIN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redstvo povećanja nacionalnog bogatstv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cionalističko reguliranje trgovine, proizvodnje i međunarodnih ekonomskih odnos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0F0A-E6C9-4BFC-9110-106822AFFC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primjer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835280" y="1844640"/>
            <a:ext cx="6629400" cy="4343400"/>
            <a:chOff x="1835280" y="1844640"/>
            <a:chExt cx="6629400" cy="4343400"/>
          </a:xfrm>
        </p:grpSpPr>
        <p:sp>
          <p:nvSpPr>
            <p:cNvPr id="180" name=""/>
            <p:cNvSpPr/>
            <p:nvPr/>
          </p:nvSpPr>
          <p:spPr>
            <a:xfrm>
              <a:off x="3503880" y="1844640"/>
              <a:ext cx="0" cy="3720960"/>
            </a:xfrm>
            <a:prstGeom prst="line">
              <a:avLst/>
            </a:prstGeom>
            <a:ln w="54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1835280" y="2157120"/>
              <a:ext cx="6629400" cy="4030920"/>
              <a:chOff x="1835280" y="2157120"/>
              <a:chExt cx="6629400" cy="4030920"/>
            </a:xfrm>
          </p:grpSpPr>
          <p:sp>
            <p:nvSpPr>
              <p:cNvPr id="182" name=""/>
              <p:cNvSpPr/>
              <p:nvPr/>
            </p:nvSpPr>
            <p:spPr>
              <a:xfrm>
                <a:off x="3503880" y="5567040"/>
                <a:ext cx="4960800" cy="0"/>
              </a:xfrm>
              <a:prstGeom prst="line">
                <a:avLst/>
              </a:prstGeom>
              <a:ln w="540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835280" y="2759040"/>
                <a:ext cx="152388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80"/>
                    </a:solidFill>
                    <a:latin typeface="Arial"/>
                  </a:rPr>
                  <a:t>Q pšeni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08880" y="5722920"/>
                <a:ext cx="1515960" cy="465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80"/>
                    </a:solidFill>
                    <a:latin typeface="Arial"/>
                  </a:rPr>
                  <a:t>Q vin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952720" y="3862080"/>
                <a:ext cx="412920" cy="465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637760" y="5722920"/>
                <a:ext cx="414000" cy="465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503880" y="4171680"/>
                <a:ext cx="4410000" cy="1395360"/>
              </a:xfrm>
              <a:prstGeom prst="line">
                <a:avLst/>
              </a:prstGeom>
              <a:ln w="66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 flipV="1">
                <a:off x="3503520" y="2312640"/>
                <a:ext cx="1654200" cy="3254040"/>
              </a:xfrm>
              <a:prstGeom prst="line">
                <a:avLst/>
              </a:prstGeom>
              <a:ln w="66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881600" y="5722920"/>
                <a:ext cx="412920" cy="465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952720" y="2157120"/>
                <a:ext cx="412920" cy="465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192560" y="2778120"/>
                <a:ext cx="827280" cy="61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0000"/>
                    </a:solidFill>
                    <a:latin typeface="Arial"/>
                  </a:rPr>
                  <a:t>E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846760" y="4327200"/>
                <a:ext cx="963720" cy="465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000000"/>
                    </a:solidFill>
                    <a:latin typeface="Arial"/>
                  </a:rPr>
                  <a:t>P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60B9-4C8B-497F-8B90-376E041B5E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ezultat primjera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28954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gleska proizvodi isključivo pšenicu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rtugal proizvodi isključivo vi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895480" y="2514600"/>
            <a:ext cx="5829480" cy="3429000"/>
            <a:chOff x="2895480" y="2514600"/>
            <a:chExt cx="5829480" cy="3429000"/>
          </a:xfrm>
        </p:grpSpPr>
        <p:sp>
          <p:nvSpPr>
            <p:cNvPr id="196" name=""/>
            <p:cNvSpPr/>
            <p:nvPr/>
          </p:nvSpPr>
          <p:spPr>
            <a:xfrm>
              <a:off x="6248520" y="3429000"/>
              <a:ext cx="182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993366"/>
                  </a:solidFill>
                  <a:latin typeface="Arial"/>
                </a:rPr>
                <a:t>rezultantna </a:t>
              </a:r>
              <a:r>
                <a:rPr b="1" lang="hr-HR" sz="2400" spc="-1" strike="noStrike">
                  <a:solidFill>
                    <a:srgbClr val="993366"/>
                  </a:solidFill>
                  <a:latin typeface="Arial"/>
                  <a:ea typeface="Arial"/>
                </a:rPr>
                <a:t>k</a:t>
              </a:r>
              <a:r>
                <a:rPr b="1" lang="hr-HR" sz="2400" spc="-1" strike="noStrike">
                  <a:solidFill>
                    <a:srgbClr val="993366"/>
                  </a:solidFill>
                  <a:latin typeface="Arial"/>
                </a:rPr>
                <a:t>p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59160" y="2514600"/>
              <a:ext cx="0" cy="2936880"/>
            </a:xfrm>
            <a:prstGeom prst="line">
              <a:avLst/>
            </a:prstGeom>
            <a:ln w="50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259160" y="5454720"/>
              <a:ext cx="4465800" cy="0"/>
            </a:xfrm>
            <a:prstGeom prst="line">
              <a:avLst/>
            </a:prstGeom>
            <a:ln w="50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895480" y="3251160"/>
              <a:ext cx="1239840" cy="73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Arial"/>
                </a:rPr>
                <a:t>Q pšen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43480" y="5576760"/>
              <a:ext cx="136548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Arial"/>
                </a:rPr>
                <a:t>Q vi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63800" y="4108320"/>
              <a:ext cx="37152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980480" y="5576760"/>
              <a:ext cx="37296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59160" y="4352760"/>
              <a:ext cx="3969000" cy="1101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4258800" y="2884320"/>
              <a:ext cx="1489320" cy="25704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00800" y="5576760"/>
              <a:ext cx="37152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763800" y="2760840"/>
              <a:ext cx="371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800600" y="3657600"/>
              <a:ext cx="74448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0000"/>
                  </a:solidFill>
                  <a:latin typeface="Arial"/>
                </a:rPr>
                <a:t>E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76960" y="4230720"/>
              <a:ext cx="866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000000"/>
                  </a:solidFill>
                  <a:latin typeface="Arial"/>
                </a:rPr>
                <a:t>P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59160" y="2884320"/>
              <a:ext cx="3969000" cy="2570400"/>
            </a:xfrm>
            <a:prstGeom prst="line">
              <a:avLst/>
            </a:prstGeom>
            <a:ln w="92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8E15-13DC-48C6-852D-B1705AFC4A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ezultat primjer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psolutna specijalizacija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žava u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izvodnji robe s iskazanim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psolutnim prednostim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C610-FA5D-4D3A-A9FD-7BC3CC982E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4160" y="11430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  <a:ea typeface="Arial"/>
              </a:rPr>
              <a:t>Krivulje indiferencije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rivulje koje spajaju točke istog zadovoljstva potrošač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arakteristi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 sijeku se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laze svakom točkom I. kvadrant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a ih beskonačno mnog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onkav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prema ishodišt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FCBC-4305-4853-9EA2-9D460660C2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zult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zadovoljstvo potrošača u Portugalu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dređeno je krivuljom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124080" y="886320"/>
            <a:ext cx="6171480" cy="5057280"/>
            <a:chOff x="3124080" y="886320"/>
            <a:chExt cx="6171480" cy="5057280"/>
          </a:xfrm>
        </p:grpSpPr>
        <p:sp>
          <p:nvSpPr>
            <p:cNvPr id="217" name=""/>
            <p:cNvSpPr/>
            <p:nvPr/>
          </p:nvSpPr>
          <p:spPr>
            <a:xfrm>
              <a:off x="6275520" y="5559480"/>
              <a:ext cx="1284120" cy="38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Arial"/>
                </a:rPr>
                <a:t>Q vi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3124080" y="886320"/>
              <a:ext cx="6171480" cy="5057280"/>
              <a:chOff x="3124080" y="886320"/>
              <a:chExt cx="6171480" cy="5057280"/>
            </a:xfrm>
          </p:grpSpPr>
          <p:sp>
            <p:nvSpPr>
              <p:cNvPr id="219" name=""/>
              <p:cNvSpPr/>
              <p:nvPr/>
            </p:nvSpPr>
            <p:spPr>
              <a:xfrm>
                <a:off x="7910640" y="5559480"/>
                <a:ext cx="349200" cy="38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3124080" y="886320"/>
                <a:ext cx="6171480" cy="4781880"/>
                <a:chOff x="3124080" y="886320"/>
                <a:chExt cx="6171480" cy="478188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4408560" y="2362320"/>
                  <a:ext cx="0" cy="3070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408560" y="5432400"/>
                  <a:ext cx="4201920" cy="0"/>
                </a:xfrm>
                <a:prstGeom prst="line">
                  <a:avLst/>
                </a:prstGeom>
                <a:ln w="507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124080" y="3129120"/>
                  <a:ext cx="1166760" cy="768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80"/>
                      </a:solidFill>
                      <a:latin typeface="Arial"/>
                    </a:rPr>
                    <a:t>Q pšenic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941640" y="4024440"/>
                  <a:ext cx="349200" cy="384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419720" y="4267080"/>
                  <a:ext cx="3735360" cy="115092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459400" y="4152960"/>
                  <a:ext cx="816120" cy="384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r-HR" sz="2000" spc="-1" strike="noStrike">
                      <a:solidFill>
                        <a:srgbClr val="000000"/>
                      </a:solidFill>
                      <a:latin typeface="Arial"/>
                    </a:rPr>
                    <a:t>Po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rot="9796800">
                  <a:off x="5199480" y="1357920"/>
                  <a:ext cx="3733200" cy="3069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44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rot="9796800">
                  <a:off x="4732560" y="2126160"/>
                  <a:ext cx="3732480" cy="3069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44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rot="9796800">
                  <a:off x="4966200" y="1742040"/>
                  <a:ext cx="3733200" cy="3069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44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677000" y="4152960"/>
                  <a:ext cx="466920" cy="384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r>
                    <a:rPr b="1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524480" y="3513240"/>
                  <a:ext cx="468360" cy="525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r>
                    <a:rPr b="1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641840" y="4792680"/>
                  <a:ext cx="466560" cy="511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r>
                    <a:rPr b="1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4947-70F8-4A15-8E77-08DE3BCA8FF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zult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zadovoljstvo potrošača 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dređeno je krivuljom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3200400" y="811440"/>
            <a:ext cx="5638680" cy="4674960"/>
            <a:chOff x="3200400" y="811440"/>
            <a:chExt cx="5638680" cy="4674960"/>
          </a:xfrm>
        </p:grpSpPr>
        <p:sp>
          <p:nvSpPr>
            <p:cNvPr id="236" name=""/>
            <p:cNvSpPr/>
            <p:nvPr/>
          </p:nvSpPr>
          <p:spPr>
            <a:xfrm>
              <a:off x="4640400" y="1773360"/>
              <a:ext cx="0" cy="31813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4640400" y="4952520"/>
              <a:ext cx="4198680" cy="324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200400" y="2590920"/>
              <a:ext cx="153036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Arial"/>
                </a:rPr>
                <a:t>Q pšen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45400" y="5089680"/>
              <a:ext cx="1515960" cy="39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Arial"/>
                </a:rPr>
                <a:t>Q vi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flipV="1">
              <a:off x="4640040" y="2173320"/>
              <a:ext cx="1654200" cy="2782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18120" y="5089680"/>
              <a:ext cx="412920" cy="39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89240" y="2039760"/>
              <a:ext cx="41292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15000" y="2971800"/>
              <a:ext cx="826920" cy="53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0000"/>
                  </a:solidFill>
                  <a:latin typeface="Arial"/>
                </a:rPr>
                <a:t>E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0587000">
              <a:off x="5555520" y="876240"/>
              <a:ext cx="2202480" cy="318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0587000">
              <a:off x="5002560" y="1406880"/>
              <a:ext cx="2206080" cy="318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0587000">
              <a:off x="5279040" y="1142280"/>
              <a:ext cx="2203200" cy="318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9560" y="4191120"/>
              <a:ext cx="333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A665-8AF5-4DE7-AEE9-E14C2A4995F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zult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zadovoljstvo potrošač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k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đunarodne razmjene prikazano je krivuljom 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0" name=""/>
          <p:cNvSpPr/>
          <p:nvPr/>
        </p:nvSpPr>
        <p:spPr>
          <a:xfrm>
            <a:off x="4824360" y="2590920"/>
            <a:ext cx="0" cy="3070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24360" y="5661000"/>
            <a:ext cx="431964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05320" y="3357720"/>
            <a:ext cx="1199880" cy="76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Q pšen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45320" y="5788080"/>
            <a:ext cx="1319040" cy="38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Q v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344840" y="4253040"/>
            <a:ext cx="360360" cy="38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424720" y="5788080"/>
            <a:ext cx="358920" cy="38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24360" y="4510080"/>
            <a:ext cx="3840120" cy="1150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4824360" y="2974680"/>
            <a:ext cx="1440000" cy="2685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44840" y="2846520"/>
            <a:ext cx="360360" cy="38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545080" y="3741840"/>
            <a:ext cx="719280" cy="51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E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904000" y="4381560"/>
            <a:ext cx="841320" cy="38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24360" y="2975040"/>
            <a:ext cx="3840120" cy="268596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424720" y="4381560"/>
            <a:ext cx="479520" cy="38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64120" y="5021280"/>
            <a:ext cx="480960" cy="51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0587000">
            <a:off x="5376240" y="1923120"/>
            <a:ext cx="1920240" cy="306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rot="10758000">
            <a:off x="5777640" y="2962440"/>
            <a:ext cx="4079520" cy="2301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10299000">
            <a:off x="5873400" y="771840"/>
            <a:ext cx="4558320" cy="383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FFE5-6732-4A41-A3E2-6F705A02B86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zaklju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a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gleska proizvodi isklju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vo pšenicu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ortugal proizvodi isklju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vo vin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otroš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 u Engleskoj, kao i potroš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 u Portugalu pov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vaju zadovoljstvo, jer su u mogu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osti trošiti na višoj krivulji indiferencij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đunarodna razmjena pov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va blagostanje u obje dr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v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32F7-DA73-4794-B0AC-05AB474AF47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UTEMELJITELJI DOKTRIN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Josiah Chil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Jean Bodi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homas Man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Gerard Malyn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ontch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tie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68D7-D79B-4B55-80B7-9DCCF20C7E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OSNOVNE POSTAVK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JEDINO BOGATSTVO JE NOVAC (ZLATO I SREBRO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BOGATSTVO SE OSTVARUJE VANJSKOM TRGOVINOM, ODNOSNO IZVOZNIM VIŠKO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006E-F253-4333-B32A-B1B820A72C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REALIZACIJA CILJ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AKTIVNA TRGOVINSKA BILANC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amo promet između država povećava količinu novca u državi i njeno bogatstv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nutrašnji promet ne ostvaruje profit za držav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E537-BACC-459C-A6B1-67EE021F34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RANI MERKANTILIZAM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2057040"/>
            <a:ext cx="8964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TEMELJ: INDIVIDUALNA BILANCA TRGOVINSKIH TRANSAKCIJA POJEDINIH TRGOVACA MORA BITI POZITIVN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U trgovini se ne smije smanjivati zaliha plemenitih metala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Stroga kontrola nad deviznim transakcijama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Ograničavanje izvoza kapitala (plemenitih metala)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Repatriiranje prihoda od prodaje u inozemstvu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78F7-4583-4A18-B44F-5E9B413115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RAZVIJENI MERKANTILIZAM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2057040"/>
            <a:ext cx="896472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EMELJ: AKTIVNA NACIONALNA BILANCA TRGOVINSKIH TRANSAKCIJA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pušta se težište na deviznoj kontroli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imuliranje domaće proizvodnje 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moviranje izvoza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graničenje uvoza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graničenje domaće potrošnje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2BCD-FD47-42EA-82EB-50DBEE40B8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TRGOVINSKA POLITIKA MERKANTILIZMA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MJER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Stimuliranje izvoza robe i vršenja usluga (brodarstvo, reeksport, oplemenjivanje strane robe)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Ograničavanje uvoza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Državne reglementacije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Državna prisila nad pojedincima da djeluju u cilju nacionalnih interesa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037F-6963-4F37-820E-B7D0F6C816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ZABLUDE MERKANTILIZM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9280" y="1828800"/>
            <a:ext cx="89647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cjenjivanje značenja aktivne   trgovinske bilanc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ktivnu bilancu je lako i brzo ostvariti strogim mjerama, ali nauštrb gospodarskog razvoja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ktivna se bilanca može postići i devalvacijom ili deflacijom, uz mnogo manje negativne posljedice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iva nije nezdrava – to je normalna posljedica gospodarskog razvoja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4694-F406-428C-8B5D-A6FB39F550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15:47:31Z</dcterms:created>
  <dc:creator>Ekonomski fakultet Rijeka</dc:creator>
  <dc:description/>
  <dc:language>en-US</dc:language>
  <cp:lastModifiedBy>Ekonomski fakultet Rijeka</cp:lastModifiedBy>
  <dcterms:modified xsi:type="dcterms:W3CDTF">2008-03-04T12:01:22Z</dcterms:modified>
  <cp:revision>7</cp:revision>
  <dc:subject/>
  <dc:title>Teorija apsolutnih prednosti </dc:title>
</cp:coreProperties>
</file>