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37C-AB27-491C-B3AC-B77F754D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948-2EE5-4BA0-A354-CA953D9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E04-87DC-4671-A4FC-6FD5C08B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1EB-D872-46CA-804C-9EF85052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9AA8-21F7-4E6B-A4AD-51B80149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67B4-0D47-4D5C-BD36-0690957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596D-1268-4661-B2B2-3DD4932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73FB-E14F-4A20-87F5-F5EDFBA9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953-C9E9-4831-90E8-F305A44C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AE3D-D88B-424F-A81C-2B9E245E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B1EE-A721-476F-A08C-65E01973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5CF-8B56-4A23-BB0B-6E36110A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5CE-5B2D-4E8C-9985-C9E6211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90C-D18C-4CF5-9A93-F0F755D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E60-1FBC-446E-A5C2-C0DBE08E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ECF0-94A0-4019-81EC-5F3D1BF6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C03-1621-4F2C-9DB1-B2D21408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FF9-E864-41AD-8DF5-290EF7E8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7C4-1DDA-4C96-9CD0-76455C6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10D-1E8F-4FDB-B9F7-B6C5F40A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3E6-7B1B-4047-B667-73EAF33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C2A-6528-40AF-B56B-B9A6865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F5C-DBAF-470A-AE72-3335CCE9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B0A-1E46-4734-9BA4-4C38483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623B-CA11-4726-9FC4-6C6C32A6B5C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7326-4BF2-41A6-A0E0-7BD144B2C29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003366"/>
                </a:solidFill>
                <a:latin typeface="Arial"/>
              </a:rPr>
              <a:t>Međunarodni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003366"/>
                </a:solidFill>
                <a:latin typeface="Arial"/>
              </a:rPr>
              <a:t>monetarni fo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Kvote u IMF-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523880"/>
            <a:ext cx="7924320" cy="4876920"/>
            <a:chOff x="990720" y="1523880"/>
            <a:chExt cx="7924320" cy="4876920"/>
          </a:xfrm>
        </p:grpSpPr>
        <p:grpSp>
          <p:nvGrpSpPr>
            <p:cNvPr id="149" name=""/>
            <p:cNvGrpSpPr/>
            <p:nvPr/>
          </p:nvGrpSpPr>
          <p:grpSpPr>
            <a:xfrm>
              <a:off x="996480" y="1526400"/>
              <a:ext cx="7912080" cy="4871520"/>
              <a:chOff x="996480" y="1526400"/>
              <a:chExt cx="7912080" cy="48715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996480" y="1526400"/>
                <a:ext cx="1581480" cy="1444320"/>
                <a:chOff x="996480" y="1526400"/>
                <a:chExt cx="1581480" cy="14443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082160" y="1526400"/>
                  <a:ext cx="14104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96480" y="1526400"/>
                  <a:ext cx="1581480" cy="144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578320" y="1526400"/>
                <a:ext cx="3164040" cy="340200"/>
                <a:chOff x="2578320" y="1526400"/>
                <a:chExt cx="3164040" cy="3402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578320" y="1526400"/>
                  <a:ext cx="3164040" cy="340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2578320" y="1526400"/>
                  <a:ext cx="3163680" cy="340200"/>
                  <a:chOff x="2578320" y="1526400"/>
                  <a:chExt cx="3163680" cy="3402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2664000" y="1526400"/>
                    <a:ext cx="2991960" cy="340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r-HR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KVO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578320" y="1526400"/>
                    <a:ext cx="316368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" name=""/>
              <p:cNvGrpSpPr/>
              <p:nvPr/>
            </p:nvGrpSpPr>
            <p:grpSpPr>
              <a:xfrm>
                <a:off x="5742720" y="1526400"/>
                <a:ext cx="3165840" cy="340200"/>
                <a:chOff x="5742720" y="1526400"/>
                <a:chExt cx="3165840" cy="340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742720" y="1526400"/>
                  <a:ext cx="3165840" cy="340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5742720" y="1526400"/>
                  <a:ext cx="3165480" cy="340200"/>
                  <a:chOff x="5742720" y="1526400"/>
                  <a:chExt cx="3165480" cy="3402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5828400" y="1526400"/>
                    <a:ext cx="2993760" cy="340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r-HR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GLASOVI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742720" y="1526400"/>
                    <a:ext cx="316548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" name=""/>
              <p:cNvGrpSpPr/>
              <p:nvPr/>
            </p:nvGrpSpPr>
            <p:grpSpPr>
              <a:xfrm>
                <a:off x="2578320" y="1866600"/>
                <a:ext cx="1581840" cy="1104120"/>
                <a:chOff x="2578320" y="1866600"/>
                <a:chExt cx="1581840" cy="1104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578320" y="1866600"/>
                  <a:ext cx="1581840" cy="1104120"/>
                </a:xfrm>
                <a:prstGeom prst="rect">
                  <a:avLst/>
                </a:pr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2578320" y="1866600"/>
                  <a:ext cx="1581480" cy="1104120"/>
                  <a:chOff x="2578320" y="1866600"/>
                  <a:chExt cx="1581480" cy="1104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2664000" y="1866600"/>
                    <a:ext cx="1409760" cy="1104120"/>
                  </a:xfrm>
                  <a:prstGeom prst="rect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632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Milijuna SDR-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578320" y="1866600"/>
                    <a:ext cx="1581480" cy="110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60880" y="1866600"/>
                <a:ext cx="1581480" cy="1104120"/>
                <a:chOff x="4160880" y="1866600"/>
                <a:chExt cx="1581480" cy="110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160880" y="1866600"/>
                  <a:ext cx="1581480" cy="1104120"/>
                </a:xfrm>
                <a:prstGeom prst="rect">
                  <a:avLst/>
                </a:pr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4160880" y="1866600"/>
                  <a:ext cx="1581120" cy="1104120"/>
                  <a:chOff x="4160880" y="1866600"/>
                  <a:chExt cx="1581120" cy="11041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4246200" y="1866600"/>
                    <a:ext cx="1410120" cy="1104120"/>
                  </a:xfrm>
                  <a:prstGeom prst="rect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r-HR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% od ukupne kvo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160880" y="1866600"/>
                    <a:ext cx="1581120" cy="110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5742720" y="1866600"/>
                <a:ext cx="1581480" cy="1104120"/>
                <a:chOff x="5742720" y="1866600"/>
                <a:chExt cx="1581480" cy="1104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742720" y="1866600"/>
                  <a:ext cx="1581480" cy="1104120"/>
                </a:xfrm>
                <a:prstGeom prst="rect">
                  <a:avLst/>
                </a:pr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5742720" y="1866600"/>
                  <a:ext cx="1581120" cy="1104120"/>
                  <a:chOff x="5742720" y="1866600"/>
                  <a:chExt cx="1581120" cy="11041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828400" y="1866600"/>
                    <a:ext cx="1410120" cy="1104120"/>
                  </a:xfrm>
                  <a:prstGeom prst="rect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632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Broj glasov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742720" y="1866600"/>
                    <a:ext cx="1581120" cy="110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7324920" y="1866600"/>
                <a:ext cx="1583640" cy="1104120"/>
                <a:chOff x="7324920" y="1866600"/>
                <a:chExt cx="1583640" cy="1104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324920" y="1866600"/>
                  <a:ext cx="1583640" cy="1104120"/>
                </a:xfrm>
                <a:prstGeom prst="rect">
                  <a:avLst/>
                </a:pr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7324920" y="1866600"/>
                  <a:ext cx="1583280" cy="1104120"/>
                  <a:chOff x="7324920" y="1866600"/>
                  <a:chExt cx="1583280" cy="11041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7410600" y="1866600"/>
                    <a:ext cx="1411560" cy="1104120"/>
                  </a:xfrm>
                  <a:prstGeom prst="rect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r-HR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% od ukupnog broj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324920" y="1866600"/>
                    <a:ext cx="1583280" cy="110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996480" y="2970720"/>
                <a:ext cx="7912080" cy="348120"/>
                <a:chOff x="996480" y="2970720"/>
                <a:chExt cx="7912080" cy="348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96480" y="2970720"/>
                  <a:ext cx="7912080" cy="3481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996480" y="2970720"/>
                  <a:ext cx="7911720" cy="348120"/>
                  <a:chOff x="996480" y="2970720"/>
                  <a:chExt cx="7911720" cy="348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082160" y="2970720"/>
                    <a:ext cx="7740000" cy="34812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996480" y="2970720"/>
                    <a:ext cx="7911720" cy="34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996480" y="3318840"/>
                <a:ext cx="1581480" cy="340200"/>
                <a:chOff x="996480" y="3318840"/>
                <a:chExt cx="1581480" cy="34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082160" y="331884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96480" y="331884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578320" y="3318840"/>
                <a:ext cx="1581840" cy="340200"/>
                <a:chOff x="2578320" y="3318840"/>
                <a:chExt cx="1581840" cy="340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664000" y="331884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,149.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78320" y="331884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60880" y="3318840"/>
                <a:ext cx="1581480" cy="340200"/>
                <a:chOff x="4160880" y="3318840"/>
                <a:chExt cx="1581480" cy="340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46200" y="331884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.1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60880" y="331884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742720" y="3318840"/>
                <a:ext cx="1581480" cy="340200"/>
                <a:chOff x="5742720" y="3318840"/>
                <a:chExt cx="1581480" cy="340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828400" y="331884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1,74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742720" y="331884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324920" y="3318840"/>
                <a:ext cx="1583640" cy="340200"/>
                <a:chOff x="7324920" y="3318840"/>
                <a:chExt cx="1583640" cy="340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410600" y="331884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.8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920" y="331884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996480" y="3659400"/>
                <a:ext cx="1581480" cy="340200"/>
                <a:chOff x="996480" y="3659400"/>
                <a:chExt cx="1581480" cy="340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082160" y="365940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p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996480" y="365940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578320" y="3659400"/>
                <a:ext cx="1581840" cy="340200"/>
                <a:chOff x="2578320" y="3659400"/>
                <a:chExt cx="1581840" cy="3402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664000" y="365940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,312.8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578320" y="365940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60880" y="3659400"/>
                <a:ext cx="1581480" cy="340200"/>
                <a:chOff x="4160880" y="3659400"/>
                <a:chExt cx="1581480" cy="340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46200" y="365940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1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60880" y="365940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742720" y="3659400"/>
                <a:ext cx="1581480" cy="340200"/>
                <a:chOff x="5742720" y="3659400"/>
                <a:chExt cx="1581480" cy="340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828400" y="365940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3,378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742720" y="365940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324920" y="3659400"/>
                <a:ext cx="1583640" cy="340200"/>
                <a:chOff x="7324920" y="3659400"/>
                <a:chExt cx="1583640" cy="340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410600" y="365940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0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324920" y="365940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996480" y="3999600"/>
                <a:ext cx="1581480" cy="340200"/>
                <a:chOff x="996480" y="3999600"/>
                <a:chExt cx="1581480" cy="340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082160" y="399960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jemačk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96480" y="399960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578320" y="3999600"/>
                <a:ext cx="1581840" cy="340200"/>
                <a:chOff x="2578320" y="3999600"/>
                <a:chExt cx="1581840" cy="340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664000" y="399960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,008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578320" y="399960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160880" y="3999600"/>
                <a:ext cx="1581480" cy="340200"/>
                <a:chOff x="4160880" y="3999600"/>
                <a:chExt cx="1581480" cy="3402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46200" y="399960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60880" y="399960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742720" y="3999600"/>
                <a:ext cx="1581480" cy="340200"/>
                <a:chOff x="5742720" y="3999600"/>
                <a:chExt cx="1581480" cy="340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828400" y="399960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0,33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742720" y="399960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324920" y="3999600"/>
                <a:ext cx="1583640" cy="340200"/>
                <a:chOff x="7324920" y="3999600"/>
                <a:chExt cx="1583640" cy="3402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410600" y="399960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.9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324920" y="399960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996480" y="4340160"/>
                <a:ext cx="1581480" cy="340200"/>
                <a:chOff x="996480" y="4340160"/>
                <a:chExt cx="1581480" cy="340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082160" y="434016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l Britanij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996480" y="434016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578320" y="4340160"/>
                <a:ext cx="1581840" cy="340200"/>
                <a:chOff x="2578320" y="4340160"/>
                <a:chExt cx="1581840" cy="340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664000" y="434016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,738.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78320" y="434016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160880" y="4340160"/>
                <a:ext cx="1581480" cy="340200"/>
                <a:chOff x="4160880" y="4340160"/>
                <a:chExt cx="1581480" cy="340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246200" y="434016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9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60880" y="434016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742720" y="4340160"/>
                <a:ext cx="1581480" cy="340200"/>
                <a:chOff x="5742720" y="4340160"/>
                <a:chExt cx="1581480" cy="3402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828400" y="434016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7,63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42720" y="434016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324920" y="4340160"/>
                <a:ext cx="1583640" cy="340200"/>
                <a:chOff x="7324920" y="4340160"/>
                <a:chExt cx="1583640" cy="340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410600" y="434016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8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24920" y="434016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996480" y="4680360"/>
                <a:ext cx="1581480" cy="340200"/>
                <a:chOff x="996480" y="4680360"/>
                <a:chExt cx="1581480" cy="340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082160" y="468036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rancusk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96480" y="468036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578320" y="4680360"/>
                <a:ext cx="1581840" cy="340200"/>
                <a:chOff x="2578320" y="4680360"/>
                <a:chExt cx="1581840" cy="340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664000" y="468036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,738.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578320" y="468036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60880" y="4680360"/>
                <a:ext cx="1581480" cy="340200"/>
                <a:chOff x="4160880" y="4680360"/>
                <a:chExt cx="1581480" cy="340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46200" y="468036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9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60880" y="468036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742720" y="4680360"/>
                <a:ext cx="1581480" cy="340200"/>
                <a:chOff x="5742720" y="4680360"/>
                <a:chExt cx="1581480" cy="3402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28400" y="468036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7,63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42720" y="468036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324920" y="4680360"/>
                <a:ext cx="1583640" cy="340200"/>
                <a:chOff x="7324920" y="4680360"/>
                <a:chExt cx="1583640" cy="3402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7410600" y="468036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8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324920" y="468036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996480" y="5020920"/>
                <a:ext cx="7912080" cy="348120"/>
                <a:chOff x="996480" y="5020920"/>
                <a:chExt cx="7912080" cy="3481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996480" y="5020920"/>
                  <a:ext cx="7912080" cy="3481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996480" y="5020920"/>
                  <a:ext cx="7911720" cy="348120"/>
                  <a:chOff x="996480" y="5020920"/>
                  <a:chExt cx="7911720" cy="3481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082160" y="5020920"/>
                    <a:ext cx="7740000" cy="34812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996480" y="5020920"/>
                    <a:ext cx="7911720" cy="34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996480" y="5369040"/>
                <a:ext cx="1581480" cy="340200"/>
                <a:chOff x="996480" y="5369040"/>
                <a:chExt cx="1581480" cy="340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082160" y="536904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rvatsk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96480" y="536904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578320" y="5369040"/>
                <a:ext cx="1581840" cy="340200"/>
                <a:chOff x="2578320" y="5369040"/>
                <a:chExt cx="1581840" cy="340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664000" y="536904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5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78320" y="536904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160880" y="5369040"/>
                <a:ext cx="1581480" cy="340200"/>
                <a:chOff x="4160880" y="5369040"/>
                <a:chExt cx="1581480" cy="3402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246200" y="536904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1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160880" y="536904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5742720" y="5369040"/>
                <a:ext cx="1581480" cy="340200"/>
                <a:chOff x="5742720" y="5369040"/>
                <a:chExt cx="1581480" cy="3402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828400" y="536904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,90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742720" y="536904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324920" y="5369040"/>
                <a:ext cx="1583640" cy="340200"/>
                <a:chOff x="7324920" y="5369040"/>
                <a:chExt cx="1583640" cy="3402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410600" y="536904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324920" y="536904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996480" y="5709600"/>
                <a:ext cx="7912080" cy="348120"/>
                <a:chOff x="996480" y="5709600"/>
                <a:chExt cx="7912080" cy="348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996480" y="5709600"/>
                  <a:ext cx="7912080" cy="3481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996480" y="5709600"/>
                  <a:ext cx="7911720" cy="348120"/>
                  <a:chOff x="996480" y="5709600"/>
                  <a:chExt cx="7911720" cy="3481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082160" y="5709600"/>
                    <a:ext cx="7740000" cy="34812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996480" y="5709600"/>
                    <a:ext cx="7911720" cy="34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996480" y="6057720"/>
                <a:ext cx="1581480" cy="340200"/>
                <a:chOff x="996480" y="6057720"/>
                <a:chExt cx="1581480" cy="3402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82160" y="605772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kup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96480" y="605772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578320" y="6057720"/>
                <a:ext cx="1581840" cy="340200"/>
                <a:chOff x="2578320" y="6057720"/>
                <a:chExt cx="1581840" cy="3402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664000" y="6057720"/>
                  <a:ext cx="14101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6,747.8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78320" y="6057720"/>
                  <a:ext cx="15818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60880" y="6057720"/>
                <a:ext cx="1581480" cy="340200"/>
                <a:chOff x="4160880" y="6057720"/>
                <a:chExt cx="1581480" cy="340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46200" y="605772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.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60880" y="605772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742720" y="6057720"/>
                <a:ext cx="1581480" cy="340200"/>
                <a:chOff x="5742720" y="6057720"/>
                <a:chExt cx="1581480" cy="3402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828400" y="6057720"/>
                  <a:ext cx="14104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,208,98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42720" y="6057720"/>
                  <a:ext cx="158148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324920" y="6057720"/>
                <a:ext cx="1583640" cy="340200"/>
                <a:chOff x="7324920" y="6057720"/>
                <a:chExt cx="1583640" cy="340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410600" y="6057720"/>
                  <a:ext cx="14119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24920" y="6057720"/>
                  <a:ext cx="1583640" cy="34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990720" y="1523880"/>
              <a:ext cx="79243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72F-1AD6-499E-A4C6-740E41CDA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3366"/>
                </a:solidFill>
                <a:latin typeface="Arial"/>
                <a:ea typeface="Arial"/>
              </a:rPr>
              <a:t>MEĐUNARODNE BANKE Z</a:t>
            </a:r>
            <a:r>
              <a:rPr b="0" i="1" lang="hr-HR" sz="72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13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3366"/>
                </a:solidFill>
                <a:latin typeface="Arial"/>
                <a:ea typeface="Arial"/>
              </a:rPr>
              <a:t>FINANCIRANJE RAZVOJ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Grupa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Svjetsk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 bank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đunarodna banka za obnovu i razvoj (IB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đunarodno udruženje za razvoj (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đunarodna financijska korporacija (IF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đunarodna agencija za osiguranje investicija (M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đunarodni centar za rješavanje investicijskih sporova (ICSI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4D6-5C73-4A9E-BE73-3DA6AF4CC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Regionalne razvojene bank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eđuamerička razvojna banka (IA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frička razvojna banka (Af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zijska razvojna banka (As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Europska banka za obnovu i razvoj (EB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B9C-0E3E-4202-BA42-995824DEA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Arial"/>
              </a:rPr>
              <a:t>Financijske institucije povezane s E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Europska investicijska banka (EI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Europski investicijski fond (E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Europski fond za razvoj (EDF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vojna banka Vijeća Europe (CE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003-5508-415B-B741-5C99BF44FE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Međunarodna banka za obnovu i razvoj (IBRD)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l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dugoročno financiranje poslijeratne obnove i gospodarskog razvoja slabije razvijenih država čla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zvori financiran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jznačajniji izvor financiranja je zaduživanje banke na međunarodnom tržištu kapitala.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nitet AA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obrava kredite po komercijalnim uvje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AE7-2C8B-4710-BB2B-835B0EA26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Međunarodna banka za obnovu i razvoj (IBRD)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558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reditiranj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ipov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redi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jektni kre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ktorski kredi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rediti za strukturnu prilagodb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rediti za tehničku pomo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rediti za obnov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761-9ED3-411B-BDFA-33AE49BF4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Međunarodno udruženje za razvoj (IDA)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nje financijske pomoći pod koncesijskim uvje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jski izvor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donacije država članica iz najrazvijenijih država svijeta, kao i dio dohotka kojeg u redovitom poslovanju ostvaruje IBRD, te otplate kredita odobrenih u prošlos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5AC-B7DE-4845-92CB-A690D4CE5C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Međunarodno udruženje za razvoj (IDA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Financijski plasman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– sredstva se odobravaju putem kredita, s dugim rokom otplate (35 do 40 godina, uz poček od 10 godina, bez ka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65 USD p/c godiš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je 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vibnju 2007. godine granic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štenja kredita iz IDA-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8C3-2F7F-4C3E-B96D-759E5A1447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Međunarodna financijska korporacija (IFC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C je usmjeren isključivo prema financiranju privatnog sek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ljevi i članstvo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istup sredstvima IFC-a imaju sve države u razvoju i države u tranziciji koje su članice instituci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jski plasman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rediti pod komercijalnim uvjet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234-B23A-4E3A-99E9-7A36A4B34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rovna financijska institucija i najznačajniji element svjetskog monetarnog sust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novan 1944. godine u Bretton Wood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na zadaća IMF-a je kontroliranje stabilnosti deviznih tečajeva valuta država članica te osiguranje sredstava državama za financiranje platnobilančnog def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14C-F2EF-434F-A324-DF69B0192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Međunarodna agencija za osiguranje investicija (MIGA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snovana s ciljem povećanja direktnih inozemnih investicija u državama u razvoju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iljev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- osiguravanje investicija od nekomercijalnih rizika, tehnička pomoć kod izvođenja direktnih inozemnih invest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jski plasman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nisu klasični kao kod IBRD-a, IDA-a ili IFC-a, to police osiguranja investicija u države u razvoju i tranzicij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E42-C09B-450C-8658-E097AEF8EC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  <a:ea typeface="Arial"/>
              </a:rPr>
              <a:t>EUROPSKA BANKA ZA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  <a:ea typeface="Arial"/>
              </a:rPr>
              <a:t>OBNOVU I RAZVOJ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Djelatnost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na banka za finaniranje razoja u državama Srednje i Istočne Europe (CEEC) i jedina regionalna banka koja financira projekte i u Hrvatsk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AEA-B41F-46B8-B672-97317B5803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Ciljevi EBRD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mjeravanje pozornosti na specifične probleme r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ticanje realizacije regionalnih projekata/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lo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atalizatora za privlačenje drugih izvora sredstava u reg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dupiranje procesa tranzi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639-4779-45EC-A8A9-CD6C937E6E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Finanaciranje EBRD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jski izvor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zaduživanje na međunarodnom financijskom tržištu, dobit ba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jski plasm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editi s državnom garancij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editi bez garancije drž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nička ulagan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3B8-15BC-4FC5-8083-EA4770EEFB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EUROPSKA INVESTICIJSKA BANKA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(EIB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jska institucij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lj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v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nje uravnoteženog razvoja unutarnjeg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moć u financiranju projekata povezanih s uvođenjem zajedničkog tržišta, odnosno financiranja u budućnos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D46-920D-46D4-B1AE-0AC0FF23EB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Namjena zajmo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ekonomski razvoj manje razvijenih područja i reg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poboljšanje transeuropske mreže sektora transporta roba i ljudi, telekomunikacija i e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jačanje međunarodne konkurentnosti industrije Unije te poticanje malih i srednjih poduzeć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zaštita okoliša i životne razine unapređenjem urbanog razvoja, zaštita kulturne i arhitektonske baštine 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stvarivanje zajedničkih energetskih ciljeva korištenjem internih resursa, štednjom energije i diverzifikacijom uvo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AB8-062B-4AC4-BEDF-C60F549390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82598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  <a:ea typeface="Arial"/>
              </a:rPr>
              <a:t>Organizacija Ujedinjenih naroda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  <a:ea typeface="Arial"/>
              </a:rPr>
              <a:t>za industrijski razvoj (UNIDO</a:t>
            </a:r>
            <a:r>
              <a:rPr b="0" lang="hr-HR" sz="60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Djelatnost UNIDO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lj UNIDO-a je pomoći državama u razvoju i tranziciji u borbi protiv marginaliza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IDO je odgovoran za promoviranje industrijalizacije u suradnji sa svoje 172 države član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031-00AE-4464-B193-4D304B6CCF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UNIDO-vi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modul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o upravljanje i statist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nvesticije i promocija tehnolo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a konkurentnost i trgo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voj privatnog sek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gro-indust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rživa energija i klimatske promje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otokol iz Montre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nadžment zaštite okoliš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00B-0B97-49AA-8823-48B587A3AA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Broj država članica IMF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bout" descr="Growth in IMF Membership"/>
          <p:cNvPicPr/>
          <p:nvPr/>
        </p:nvPicPr>
        <p:blipFill>
          <a:blip r:embed="rId1"/>
          <a:stretch/>
        </p:blipFill>
        <p:spPr>
          <a:xfrm>
            <a:off x="1219320" y="1905120"/>
            <a:ext cx="7238880" cy="35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9FD-EBA4-4A2B-8DF7-03609957D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56160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  <a:ea typeface="Arial"/>
              </a:rPr>
              <a:t>Konferencija Ujedinjenih naroda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  <a:ea typeface="Arial"/>
              </a:rPr>
              <a:t>za trgovinu i razvoj (UNCTAD)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Djelatnost UNIDO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novan 1964. godine s ciljem promocije razvoja i integracije država u razvoju u svjetsko gospodarst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l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m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 oštroj debati i promišljanju o razvoju, te posebno pomoć u osiguranju sukladnosti domaćih politika i međunarodnih akcija s održivim razvojem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66B-3AA1-4BAF-9700-CB6BF08926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hr-HR" sz="4000" spc="-1" strike="noStrike">
                <a:solidFill>
                  <a:srgbClr val="003366"/>
                </a:solidFill>
                <a:latin typeface="Arial"/>
                <a:ea typeface="Arial"/>
              </a:rPr>
              <a:t>ri osnovne funkcije UNCTAD</a:t>
            </a:r>
            <a:r>
              <a:rPr b="0" lang="hr-HR" sz="4000" spc="-1" strike="noStrike">
                <a:solidFill>
                  <a:srgbClr val="003366"/>
                </a:solidFill>
                <a:latin typeface="Arial"/>
              </a:rPr>
              <a:t>-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Forum za međuvladinu deliber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oduzima istraživanja, analizu politika i prikupljanje podataka za vladine predstavnike i stručnj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sigurava tehničku pomoć uz poseban naglasak na potrebe najmanje razvijenih država i država u tranzi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F51-F658-4B22-A997-72A3AA916E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Arial"/>
                <a:ea typeface="Arial"/>
              </a:rPr>
              <a:t>Najva</a:t>
            </a:r>
            <a:r>
              <a:rPr b="0" lang="hr-HR" sz="40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0" lang="hr-HR" sz="4000" spc="-1" strike="noStrike">
                <a:solidFill>
                  <a:srgbClr val="003366"/>
                </a:solidFill>
                <a:latin typeface="Arial"/>
                <a:ea typeface="Arial"/>
              </a:rPr>
              <a:t>nije aktivnosti UNCTAD-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rgovina i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nvesticije, tehnologija i razvoj poduz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akroekonomske politike, dug i financiranje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ransport, carine i informacijska tehn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rika, nerazvijene države, izolirane države, mali nerazvijeni otoci -držav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474-37EB-498E-96D1-31462F59F9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7200" spc="-1" strike="noStrike">
                <a:solidFill>
                  <a:srgbClr val="003366"/>
                </a:solidFill>
                <a:latin typeface="Arial"/>
                <a:ea typeface="Arial"/>
              </a:rPr>
              <a:t>Organizacija za hranu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13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7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1" lang="hr-HR" sz="7200" spc="-1" strike="noStrike">
                <a:solidFill>
                  <a:srgbClr val="003366"/>
                </a:solidFill>
                <a:latin typeface="Arial"/>
                <a:ea typeface="Arial"/>
              </a:rPr>
              <a:t>poljoprivredu UN-a (FAO)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Aktivnosti FAO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edvodi međunarodnu borbu za suzbijanje gl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maže nerazvijenim državama i državama u tranziciji u modernizaciji i poboljšanju poljoprivrede, šumarstva i ribarstva u cilju osiguranja hrane za s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ebno fokusiran na razvoj ruralnih područja kao doma 70% gladnih na svije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E2B-51DC-48CE-9967-F486E7E622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  <a:ea typeface="Arial"/>
              </a:rPr>
              <a:t>Aktivnosti FAO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četiri glavna područ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ktiv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užanje informacija o postignuć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mjena iskust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iguranje mjesta sus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cija znanja na teren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B70-F994-4F2B-8BF5-20D201F193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Ciljevi IMF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vijanje međunarodne monetarn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uradnje kroz savjetovanje 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uradnju kod međunarodnih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onetarnih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spanzi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i uravnotežen razvoj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eđunarodne trgov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abilnost deviznih teča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B0E-81D6-48AB-912D-7E7CCDFD72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Ciljevi IMF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ulirati devizne restrikcije koj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nemogućuju razvoj svjetsk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čati povjerenje u države članice na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ačin da imaju pravo na privremen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porabu sredstava IMF-a u cilj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tklanjanja platnobilančnih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oremeć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kratiti trajanje i smanjiti obujam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vnoteže u platnim bilancam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ržava čla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5F3-7B31-40FE-BD0B-F4EFC8254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tri temeljne skupine aktivnos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dgled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jm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hnička pomo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D6A-BA51-4F5E-A8DC-520DF6685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Vrste zajmova IMF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Zajmovi za smanjenje siromaštva i porast mogućnost (PRG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Zajmovi za anuliranje egzogenih šokova (E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tand-by aranžmani (SB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Extended Fund Facility (E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upplemental Reserve Facility (S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Compensatory Financing Facility (CFF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moć u nevo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E9A-9858-4321-875C-F4F897A9E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66"/>
                </a:solidFill>
                <a:latin typeface="Arial"/>
                <a:ea typeface="Arial"/>
              </a:rPr>
              <a:t>Specijalna prava vučenja (SDR)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luta” IMF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lika važnost prije sloma B-W sustava deviznih teča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nas se koristi ogranič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 1. siječnja 2006. godin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šarica od 4 valute čini S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: američki dolar (USD) 44%, euro (EUR) 34%, japanski yen (JPY) 11% i britanska funta (GBP) 1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660-BC3E-43BA-B0E4-1219F4346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Kvote u IMF-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vota se računa po posebnoj formuli koja uključu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isi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BDP-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isi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eviznih rezer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d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k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 tekućem računu platne bilance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vota se izračunava temeljem dva kriter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čelo jednakosti država (bazični glasovi) –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čelo gospodarske snage – za svakih 100.000 SDR-a kvote pojedine države jedan dodatni 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568-184F-4BF2-A959-BCF05DD04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4:17:37Z</dcterms:created>
  <dc:creator>Ekonomski fakultet Rijeka</dc:creator>
  <dc:description/>
  <dc:language>en-US</dc:language>
  <cp:lastModifiedBy>Ekonomski fakultet Rijeka</cp:lastModifiedBy>
  <dcterms:modified xsi:type="dcterms:W3CDTF">2008-01-16T10:10:22Z</dcterms:modified>
  <cp:revision>2</cp:revision>
  <dc:subject/>
  <dc:title>Međunarodni </dc:title>
</cp:coreProperties>
</file>