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B34B-FEDF-44F1-A76D-F6AD5F5D1109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Do sada smo u modelu “zatvorenog gospodrstva” polazili od toga da domaću potražnju “Z” određuju tri njezine sastavne komponente: C+I+G. U “otvorenom gospodarstvu”, da bi mogli realno definirati veličinu “ukupne    potrošnje za dobrima i uslugama na domaćem tržištu”, moramo potražnji u modelu “zatvorenog gospodarstva”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oduzeti domaću potražnju za inozemnim dobrima (što znači sve ono što se odnosi na uvezena dobra i usluge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dodati potražnju inozemstva za domaćim (našim) proizvodima i uslugama (što znači sveono što se odnosi na izvezena dobra i usluge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i tome moramo voditi računa da ne možemo oduzimati i zbrajati “kruške i jabuke”. Naime, da bi vrijednost dobara i usluga koja su proizvedena u inozemstvu (a koja uvozimo) mogla biti komparabilna svrijednošću dobara proizvedenih u domaćem gospodarstvu, moramo vrijednost uvezenih dobara i usluga “izraziti u vrijednosnom mjerilu domaćih dobara”. To ćemo učiniti ako vrijednost uvoza (IM) pomnožimo sa realnim tečajem (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)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F739-EC5C-41A0-AB2F-DE42D708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7C91-A24A-42C9-A627-A4A4923D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50B0-0F84-4E32-BEB5-91C63FA47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7757-16EC-4D48-BB7E-8D6791248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5959-C2B5-4E73-96BA-71CC6E20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D83D-AA29-47B0-AC27-3EFDAE8F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95A3-9736-4EB9-95AB-AA21E792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A58A-CB36-455E-A3F8-2B3A2214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EF98-080D-4B80-A374-8820FF55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DE85-07E6-4AFF-8B25-A1E96F17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751B-2F37-435D-82F8-CB5FE613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013C-2AB9-4926-BBED-4DB6885C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57C7-32D1-4697-89C7-B49A1F546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5640" y="333360"/>
            <a:ext cx="777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Ravnoteža na tržištu dob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u otvorenom gospodarst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2781360"/>
            <a:ext cx="86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tražnja za domaćim dobrima u otvorenom gospodarstvu**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 = C + I + G -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IM +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170028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otvorenom gospodarstvu dio domaće potražnje odnosi se na inozemna dobra, a dio potražnje za domaćim dobrima potječe iz inozemst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4076640"/>
            <a:ext cx="8642160" cy="18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Gdje s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 + I + G      domaća potražnja za dobr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M      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oličina uvoza (IM) pomnožena s realnim tečajem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izvo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0920" y="206064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stoji negativan odnos između domaće kamatne stope i tečaj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18900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tpostavka: očekivani budući tečaj je zadan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Ē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 = i* +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Ē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E)/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11970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Ē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/1+i-i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2781360"/>
            <a:ext cx="849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rast domaće kamatne stope dovodi do smanjenja tečaja i aprecijacije domaće valute.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(i↑ </a:t>
            </a:r>
            <a:r>
              <a:rPr b="1" lang="hr-H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E↓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manjenje domaće kamatne stope dovodi do porasta tečaja i deprecijacije domaće valute.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(i↓ </a:t>
            </a:r>
            <a:r>
              <a:rPr b="1" lang="hr-H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E↑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IS LM model u otvorenom gospodarstv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1628640"/>
            <a:ext cx="864216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vnoteža na tržištu doba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Y = C (Y – T) + I (Y, r) + G -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IM (Y,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 + X (Y*,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3429000"/>
            <a:ext cx="871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285264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li         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Y = C (Y – T) + I (Y, r) + G - NX (Y, Y*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3573360"/>
            <a:ext cx="8642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vnoteža na financijskim tržišti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/p = Y L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4724280"/>
            <a:ext cx="8642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vjet kamatnog parite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Ē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/1+i-i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345440" cy="4464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9640" y="6667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Grafikon 4. IS LM model u otvorenom gospodarstv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0920" y="404640"/>
            <a:ext cx="856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činci porasta kamatne st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 IS relacij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134136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direktan učinak na pad investicija i pad domaćeg proizv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indirektan učinak u otvorenom gospodarstvu putem deviznog tečaja:   aprecijacija domaće valute, pad neto izvoza i pad domaćeg proizv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3429000"/>
            <a:ext cx="864216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na LM relacij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činak isti kao i u zatvorenom gospodarstvu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 danu razinu realne količine novca (M/p), porast domaćeg proizvoda dovodi do porasta potražnje za novcem i do porasta ravnotežne kamatne sto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rivulja LM je rastućeg nagiba jer porast dohotka dovodi do porasta ravnotežne kamatne sto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256536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rivulja IS je opadajućeg nagiba jer porast kamatne stope dovodi do pada domaćeg proizvo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0920" y="112536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1) Učinci fiskalne politike u otvorenom gospodarstv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87280" y="2708280"/>
            <a:ext cx="6553440" cy="3889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333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Utjecaj ekonomske politike u otvorenom gospodarst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184464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Grafikon 5. Učinci porasta državne potroš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189000"/>
            <a:ext cx="84247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činci povećanja državne potrošnje za </a:t>
            </a:r>
            <a:r>
              <a:rPr b="0" lang="hr-HR" sz="2000" spc="-1" strike="noStrike">
                <a:solidFill>
                  <a:srgbClr val="000000"/>
                </a:solidFill>
                <a:latin typeface="SimSun"/>
                <a:ea typeface="SimSun"/>
              </a:rPr>
              <a:t>△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0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mak IS krivulje udesno na IS’ → porast domaćeg proizvoda na Y’ i porast kamatne stope na i’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rast kamatne stope dovodi do pada deviznog tečaja i aprecijacije domaće valute (domaće obveznice postaju atraktivnije → aprecijacija domaće valu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3141720"/>
            <a:ext cx="842472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ržavna potrošnja raste po pretpostav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sobna potrošnja raste zbog rasta dohotk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nvesticije ovise i o domaćem proizvodu (+) i kamatnoj stopi (-) → investicije rastu ili padaju ovisno o tome koji je od ova dva učinka dominant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eto izvoz pada zbog aprecijacije (pad izvoza) i rasta uvoza (rast domaćeg proizvoda) → pogoršanje VT bil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256536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Što se dešava s različitim komponentama A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609300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računski deficit dovodi do vanjskotrgovinskog deficit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00" y="40464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2) Učinci monetarne politike u otvorenom gospodarstv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32000" y="2079720"/>
            <a:ext cx="6480000" cy="3725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24000" y="112536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Grafikon 6. Učinci restriktivne monetarne polit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24000" y="476280"/>
            <a:ext cx="84247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činci smanjenja novčane mase za </a:t>
            </a:r>
            <a:r>
              <a:rPr b="0" lang="hr-HR" sz="2000" spc="-1" strike="noStrike">
                <a:solidFill>
                  <a:srgbClr val="000000"/>
                </a:solidFill>
                <a:latin typeface="SimSun"/>
                <a:ea typeface="SimSun"/>
              </a:rPr>
              <a:t>△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0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mak LM krivulje lijevo gore na LM’ → pad domaćeg proizvoda na Y’ i porast kamatne stope na i’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rast kamatne stope dovodi do pada deviznog tečaja i aprecijacije domaće val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278136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Što se dešava s različitim komponentama A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3500280"/>
            <a:ext cx="86407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sobna potrošnja pada zbog pada Y i rasta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nvesticije padaju zbog pada Y i rasta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eto izvoz pada zbog aprecijacije domaće valute, ali se i uvoz smanjuje zbog pada Y (ovisno o elastičnosti uvoza i uvoznoj zavisnost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4046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Odrednice potražnje za domaćim dobr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1268280"/>
            <a:ext cx="8713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(1) Odrednice osobne, investicijske i budžetske potrošnj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 + I + G = C (Y - T) + I (Y, r) +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   +   )      (+, 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2781360"/>
            <a:ext cx="87138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(2) Odrednice uvoz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IM = IM (Y,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+, 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3789360"/>
            <a:ext cx="87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oličina uvoza pozitivno je korelirana s dohotkom i negativno s deviznim tečajem. Viši realni tečaj čini inozemna dobra relativno skupljim, što dovodi do smanjenja količine uvo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4869000"/>
            <a:ext cx="878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(3) Odrednice izvoz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X = X (Y*,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+, 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616572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zvoz je pozitivno koreliran s inozemnim proizvodom (Y*) i realnim deviznim tečaj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260280"/>
            <a:ext cx="849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Ravnotežni domaći proizvod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vanjskotrgovinska bila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628640"/>
            <a:ext cx="8785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ržište dobara je u ravnoteži kad je domaći proizvod jednak potražnji za domaćim dobri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 =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314172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 = C (Y – T) + I (Y, r) + G -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IM (Y,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+ X (Y*,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4005360"/>
            <a:ext cx="87854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 ravnotežnoj razini domaćeg proizvoda vanjskotrgovinska bilanca može biti u suficitu i u deficit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zina domaćeg proizvoda pri kojoj je vanjskotrgovinska bilanca u ravnoteži određena je uvjetom X =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50920" y="981000"/>
            <a:ext cx="4256280" cy="5543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4000" y="26028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Grafikon 1. Ravnotežni domaći proizvod i neto izvo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920" y="0"/>
            <a:ext cx="856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Učinci povećanja potraž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ovećanje domaće potraž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5292720" cy="4941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219640" y="1989000"/>
            <a:ext cx="367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tražnja prije povećanja G prikazana krivuljom ZZ, a ravnoteža u točki A u kojoj je ravnotežni domaći proizvod na razini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3933720"/>
            <a:ext cx="432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rast G dovodi do pomaka krivulje potražnje na ZZ’ i porasta domaćeg proizvoda s Y na Y’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51640" y="5229360"/>
            <a:ext cx="331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rast G uzrokuje vanjsko-trgovinski deficit koji je jednak udaljenosti B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126828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Grafikon 2. Učinci povećanja državne potroš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95280" y="549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476280"/>
            <a:ext cx="86421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ključ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Porast potražnje u otvorenom gospodarstvu (povećanje državne potrošnje) uzrokuje vanjskotrgovinski deficit. Razlog je taj što dio porasta potražnje otpada na uvoz, a izvoz ostaje nepromijenjen, što rezultira vanjskotrgovinskim deficit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270828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Učinak državne potrošnje na domaći proizvod manji je nego u slučaju zatvorenog gospodarstva tj. multiplikator državne potrošnje manji je u otvorenom nego u zatvorenom gospodarstv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22100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) Povećanje dohotka imat će manji efekt na potražnju za domaćim dobrima nego što bi ga imao u zatvorenom gospodarstvu, što rezultira manjim multiplikator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4000" y="18900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2) Povećanje inozemne potraž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1290600"/>
            <a:ext cx="4752720" cy="5378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148360" y="112536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nicijalnoj ravnoteži (u točki A) odgovara ravnoteža VT bilance (neto izvoz 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59280" y="2276640"/>
            <a:ext cx="410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rast ino potražnje povećava potražnju za domaćim dobrima sa ZZ na ZZ’ i povećava domaći proizvod na Y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3716280"/>
            <a:ext cx="439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omaći proizvod Y povećava se za </a:t>
            </a:r>
            <a:r>
              <a:rPr b="0" lang="hr-HR" sz="2000" spc="-1" strike="noStrike">
                <a:solidFill>
                  <a:srgbClr val="000000"/>
                </a:solidFill>
                <a:latin typeface="SimSun"/>
                <a:ea typeface="SimSun"/>
              </a:rPr>
              <a:t>△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, a pravac NX koji prikazuje neto izvoz kao funkciju domaćeg proizvoda, pomiče se prema gore na NX’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5661000"/>
            <a:ext cx="43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ključak: porast inozemne potražnje dovodi do porasta domaćeg proizvoda i do VT sufici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69228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Grafikon 3. Učinci povećanja inozemne potraž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68360" y="26028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Ravnoteža na financijskim tržišt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u otvorenom gospodarst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141300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tpostavka: postoje samo dva oblika financijske imovine (novac i obveznice). U uvjetima otvorenog gospodarstva postoji izbor između domaćih i inozemnih obvezn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270828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1. izbor: Novac ili obvezni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3429000"/>
            <a:ext cx="8569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vnoteža na financijskom tržištu u zatvorenom gospodarstv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/p = L (Y, 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/p = Y L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558972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ealna potražnja za novcem (L) ovisi o razini transakcija u gospodarstvu mjerenoj realnim domaćim proizvodom (Y) i oportunitetnom trošku držanja novca umjesto obveznica tj. nominalnoj kamatnoj stopi na obveznice (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0920" y="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otvorenom gospodarstvu potražnja za domaćim novcem i dalje je najvećim dijelom potražnja domaćih rezidenata. Ona i dalje ovisi o istim faktorima (Y, 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98900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2. izbor: Domaće obveznice ili inozemne obvezni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2637000"/>
            <a:ext cx="8569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jvažniji faktor o kojemu to ovisi je: očekivana stopa povr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vjet ravnoteže: domaće i inozemne obveznice imaju istu očekivanu stopu povrata, pri čemu mora vrijediti “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uvjet kamatnog pariteta”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3860640"/>
            <a:ext cx="8569080" cy="16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+ (E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t+1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E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)/E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vjet kamatnog pariteta znači da domaća kamatna stopa (i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) mora biti jednaka inozemnoj kamatnoj stopi (i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) plus očekivana stopa deprecijacije domaće valute (E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t+1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E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)/E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445000"/>
            <a:ext cx="8569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vjet 2 ravnoteže na financijskim tržišti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čekivana stopa povrata na domaće obveznice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čekivana stopa povrata na inozemne obvezn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052640"/>
            <a:ext cx="856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vjet 1 ravnoteže na financijskim tržišti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nuda novca = potražnja za novc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AS IVAN</cp:lastModifiedBy>
  <dcterms:modified xsi:type="dcterms:W3CDTF">2008-05-25T17:03:33Z</dcterms:modified>
  <cp:revision>28</cp:revision>
  <dc:subject/>
  <dc:title>PowerPoint Presentation</dc:title>
</cp:coreProperties>
</file>