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F80-1ABA-49BF-94E9-0E77EE73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A2D-6B9D-4A42-A6A5-3C8DD88B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DB5D-E231-434E-AB80-09CC9B0E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40A-7FF6-4CBA-A996-FE23A370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BEFC-13CA-4B16-BF25-BCAD85D5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AAB7-71F0-4AEB-ADA1-4B38E16A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0A3C-ED38-43BA-8CE6-B0996DA4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8112-0414-4C8B-A513-E9F84741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7532-0133-4D78-A648-EC4EB051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CD65-FB14-49B5-996D-625D0F95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D22C-5E71-47C7-B01B-3E1D9388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008-7354-4F92-9E93-FC8B4AA6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1BEE-931C-47C7-950C-BB345290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EEF2-2EAD-42C0-B359-8C9ABCB0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F61C-71C1-4096-8412-1F77B7D5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8BE4-D2C1-4901-944C-90597856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DF4D-2820-4F28-A824-7486CDC4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93A-073B-415B-8EF7-E7E2B65F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CFF-271F-49BB-83BF-2ABAFB6F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CA0-9B5A-4634-AF24-EA0F8062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445-CA9E-470F-9BE2-502D27E5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34D-DED8-4882-A4F0-BCDBC415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3A0-CA86-435A-8DBD-0951731A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84A-788E-4C29-BB0E-BCC3F564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147E-A149-407B-BAE7-AB3EDC987D8A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2029-1FF9-400D-A81E-1D06157E74B7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Arial"/>
              </a:rPr>
              <a:t>TEOREMI H-O TEORIJE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hr-HR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Rybczynski teore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"Ako se ponuda jednog proizvodnog 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č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imbenika pove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ć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ava dok je ponuda drugog 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č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imbenika konstantna, apsolutna proizvodnja robe, u kojoj se relativno manje upotrebljava upravo onaj 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č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imbenik 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č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ija je ponuda pove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ć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ana, smanjit 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ć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e se da bi se cijena robe odr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ž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ala na ist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oj razini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."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788-657E-4650-87EB-CD7D638D5B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hr-HR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Rybczynski teore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"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Pri konstantnim cijenama promatrane robe, porast u bogatstvu jednog faktora uzrokovat će u većoj proporciji porast </a:t>
            </a:r>
            <a:r>
              <a:rPr b="0" i="1" lang="hr-HR" sz="3200" spc="-1" strike="noStrike">
                <a:solidFill>
                  <a:srgbClr val="00264c"/>
                </a:solidFill>
                <a:latin typeface="Arial"/>
              </a:rPr>
              <a:t>outputa 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robe u kojoj se intenzivnije koristi taj faktor i smanjiti </a:t>
            </a:r>
            <a:r>
              <a:rPr b="0" i="1" lang="hr-HR" sz="3200" spc="-1" strike="noStrike">
                <a:solidFill>
                  <a:srgbClr val="00264c"/>
                </a:solidFill>
                <a:latin typeface="Arial"/>
              </a:rPr>
              <a:t>output 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druge robe.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"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CFC-08BC-455C-96BE-E71614FD2F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Rybczynski teore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1995480"/>
            <a:ext cx="9144000" cy="3871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002440" y="441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84E-0F1B-47F7-992D-073AEE084C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Leontijevljev paradok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Testiranje H-O teorije 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na primjeru SAD-a 1947. godin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Rezultati iznenađujući (suprotni zaključcima H-O teorije), zato je i nazvan paradoksom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Objašnjenje paradoksa – diferenciran pristup faktoru rada i uvođenju pojma ljudskog kapital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2E7-C749-488B-9406-6E11DB4AE7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Stolper-Samuelsonov teore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Pretpostavk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e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(1) uvoz (izvoz) dr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ž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ave se sastoji od one robe u kojoj je prete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ž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no sadr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ž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an relativno oskudan (obilan) faktor,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(2) uvo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đ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enje uvozne carine pove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ć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at 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ć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e cijenu robi koja se proizvodi u promatranoj dr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ž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avi, ali i uvozi,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252-49B5-479C-A462-B9BBA542CE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Stolper-Samuelsonov teore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Pretpostavk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e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(3) uz postojanje malog otvorenog gospodarstva, uvo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đ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enje uvozne carine ne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ć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e utjecati na promjenu strukture me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đ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unarodne razmjen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5B3-EB68-4556-B03E-C8B0DF5817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Stolper-Samuelsonov teore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219320" y="1163520"/>
            <a:ext cx="11887920" cy="8537400"/>
            <a:chOff x="1219320" y="1163520"/>
            <a:chExt cx="11887920" cy="8537400"/>
          </a:xfrm>
        </p:grpSpPr>
        <p:sp>
          <p:nvSpPr>
            <p:cNvPr id="100" name=""/>
            <p:cNvSpPr/>
            <p:nvPr/>
          </p:nvSpPr>
          <p:spPr>
            <a:xfrm>
              <a:off x="1219320" y="2325600"/>
              <a:ext cx="6512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264c"/>
                  </a:solidFill>
                  <a:latin typeface="Times New Roman"/>
                </a:rPr>
                <a:t>K</a:t>
              </a:r>
              <a:r>
                <a:rPr b="1" lang="hr-HR" sz="1800" spc="-1" strike="noStrike" baseline="-25000">
                  <a:solidFill>
                    <a:srgbClr val="00264c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320" y="4129560"/>
              <a:ext cx="65124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264c"/>
                  </a:solidFill>
                  <a:latin typeface="Times New Roman"/>
                </a:rPr>
                <a:t>K</a:t>
              </a:r>
              <a:r>
                <a:rPr b="1" lang="hr-HR" sz="1800" spc="-1" strike="noStrike" baseline="-25000">
                  <a:solidFill>
                    <a:srgbClr val="00264c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21800" y="6097320"/>
              <a:ext cx="74340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264c"/>
                  </a:solidFill>
                  <a:latin typeface="Times New Roman"/>
                </a:rPr>
                <a:t>L</a:t>
              </a:r>
              <a:r>
                <a:rPr b="1" lang="hr-HR" sz="1800" spc="-1" strike="noStrike" baseline="-25000">
                  <a:solidFill>
                    <a:srgbClr val="00264c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12520" y="6097320"/>
              <a:ext cx="74376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264c"/>
                  </a:solidFill>
                  <a:latin typeface="Times New Roman"/>
                </a:rPr>
                <a:t>L</a:t>
              </a:r>
              <a:r>
                <a:rPr b="1" lang="hr-HR" sz="1800" spc="-1" strike="noStrike" baseline="-25000">
                  <a:solidFill>
                    <a:srgbClr val="00264c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33280" y="1834560"/>
              <a:ext cx="569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33280" y="5768280"/>
              <a:ext cx="569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33280" y="1834560"/>
              <a:ext cx="0" cy="39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31360" y="1834560"/>
              <a:ext cx="0" cy="39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033280" y="1834560"/>
              <a:ext cx="5697720" cy="39333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 rot="10800000">
              <a:off x="2033280" y="1834200"/>
              <a:ext cx="11073960" cy="78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87" y="5"/>
                  </a:moveTo>
                  <a:arcTo wR="10800" hR="10800" stAng="-5499613" swAng="54996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87" y="5"/>
                  </a:moveTo>
                  <a:arcTo wR="10800" hR="10800" stAng="-5499613" swAng="5499613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36120" y="2161800"/>
              <a:ext cx="1952640" cy="13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974600">
              <a:off x="4652280" y="1212120"/>
              <a:ext cx="1955520" cy="12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12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12177"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033280" y="2325600"/>
              <a:ext cx="2930040" cy="344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98480" y="1834560"/>
              <a:ext cx="0" cy="39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3280" y="3145680"/>
              <a:ext cx="569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033280" y="3148560"/>
              <a:ext cx="1464840" cy="262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98480" y="1834560"/>
              <a:ext cx="4232520" cy="13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208400">
              <a:off x="2683800" y="5282640"/>
              <a:ext cx="163440" cy="1464840"/>
            </a:xfrm>
            <a:custGeom>
              <a:avLst/>
              <a:gdLst>
                <a:gd name="textAreaLeft" fmla="*/ 104400 w 163440"/>
                <a:gd name="textAreaRight" fmla="*/ 163800 w 163440"/>
                <a:gd name="textAreaTop" fmla="*/ 38160 h 1464840"/>
                <a:gd name="textAreaBottom" fmla="*/ 1426680 h 146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8400">
              <a:off x="5532840" y="3898800"/>
              <a:ext cx="163440" cy="4232520"/>
            </a:xfrm>
            <a:custGeom>
              <a:avLst/>
              <a:gdLst>
                <a:gd name="textAreaLeft" fmla="*/ 104400 w 163440"/>
                <a:gd name="textAreaRight" fmla="*/ 163800 w 163440"/>
                <a:gd name="textAreaTop" fmla="*/ 110160 h 4232520"/>
                <a:gd name="textAreaBottom" fmla="*/ 4122360 h 423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07480" y="1834560"/>
              <a:ext cx="162720" cy="1311120"/>
            </a:xfrm>
            <a:custGeom>
              <a:avLst/>
              <a:gdLst>
                <a:gd name="textAreaLeft" fmla="*/ 104040 w 162720"/>
                <a:gd name="textAreaRight" fmla="*/ 163080 w 162720"/>
                <a:gd name="textAreaTop" fmla="*/ 34200 h 1311120"/>
                <a:gd name="textAreaBottom" fmla="*/ 1276920 h 131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07480" y="3145680"/>
              <a:ext cx="162720" cy="2622240"/>
            </a:xfrm>
            <a:custGeom>
              <a:avLst/>
              <a:gdLst>
                <a:gd name="textAreaLeft" fmla="*/ 104040 w 162720"/>
                <a:gd name="textAreaRight" fmla="*/ 163080 w 162720"/>
                <a:gd name="textAreaTop" fmla="*/ 68040 h 2622240"/>
                <a:gd name="textAreaBottom" fmla="*/ 2554200 h 26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09960" y="2653200"/>
              <a:ext cx="65124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264c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09960" y="2652120"/>
              <a:ext cx="48816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1832040"/>
              <a:ext cx="4881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10840" y="5777280"/>
              <a:ext cx="57420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264c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1360" y="1600200"/>
              <a:ext cx="574200" cy="6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264c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84D-7B71-4253-8654-0DD54A0794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Stolper-Samuelsonov teore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Prema grafikon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u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, horizontalna os predstavlja snabdjevenost radnom snagom, a vertikalna kapitalom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Promatrana dr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ž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ava izvozi robu X i uvozi robu Y, odnosno roba X je kapitalno intenzivnija od robe 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ECE3-4BA2-4E81-8505-FBACBEE7A1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Stolper-Samuelsonov teore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Ishodište produkcijskih izokvanti za robu X se nalazi u lijevom donjem, a za robu Y u desnom gornjem kutu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To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č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ka A predstavlja produkcijsku to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č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ku za robe X i Y prije, a to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č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ka B poslije uvo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đ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enja carine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DB7-BCC6-408D-BB8C-F30CA79E50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Stolper-Samuelsonov teore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P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roizvodnja 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ć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e se preorijentirati u pravcu ve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ć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e proizvodnje robe Y, dakle odnos kapitala i rada (K/L) 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ć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e rasti u razmjeru pomjeranja proizvodnje iz to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č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ke A u to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č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ku B.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2AD-C68B-415B-9E4C-D20C402F36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Stolper-Samuelsonov teore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Sukladno ovom teoremu, uvo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đ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enjem carine nacionalna ekonomija u cjelini gubi, ali ona mo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ž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e povoljno djelovati na razvoj odre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đ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enog proizvodnog sektora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B10-C3CB-4684-890B-9326EBC8BF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Rybczynski teore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64c"/>
                </a:solidFill>
                <a:latin typeface="Arial"/>
                <a:ea typeface="Times New Roman"/>
              </a:rPr>
              <a:t>Dopunjava H-O teoriju u pravcu detaljnijeg prou</a:t>
            </a:r>
            <a:r>
              <a:rPr b="0" lang="hr-HR" sz="3600" spc="-1" strike="noStrike">
                <a:solidFill>
                  <a:srgbClr val="00264c"/>
                </a:solidFill>
                <a:latin typeface="Arial"/>
              </a:rPr>
              <a:t>č</a:t>
            </a:r>
            <a:r>
              <a:rPr b="0" lang="hr-HR" sz="3600" spc="-1" strike="noStrike">
                <a:solidFill>
                  <a:srgbClr val="00264c"/>
                </a:solidFill>
                <a:latin typeface="Arial"/>
                <a:ea typeface="Times New Roman"/>
              </a:rPr>
              <a:t>avanja ponude i potra</a:t>
            </a:r>
            <a:r>
              <a:rPr b="0" lang="hr-HR" sz="3600" spc="-1" strike="noStrike">
                <a:solidFill>
                  <a:srgbClr val="00264c"/>
                </a:solidFill>
                <a:latin typeface="Arial"/>
              </a:rPr>
              <a:t>ž</a:t>
            </a:r>
            <a:r>
              <a:rPr b="0" lang="hr-HR" sz="3600" spc="-1" strike="noStrike">
                <a:solidFill>
                  <a:srgbClr val="00264c"/>
                </a:solidFill>
                <a:latin typeface="Arial"/>
                <a:ea typeface="Times New Roman"/>
              </a:rPr>
              <a:t>nje odre</a:t>
            </a:r>
            <a:r>
              <a:rPr b="0" lang="hr-HR" sz="3600" spc="-1" strike="noStrike">
                <a:solidFill>
                  <a:srgbClr val="00264c"/>
                </a:solidFill>
                <a:latin typeface="Arial"/>
              </a:rPr>
              <a:t>đ</a:t>
            </a:r>
            <a:r>
              <a:rPr b="0" lang="hr-HR" sz="3600" spc="-1" strike="noStrike">
                <a:solidFill>
                  <a:srgbClr val="00264c"/>
                </a:solidFill>
                <a:latin typeface="Arial"/>
                <a:ea typeface="Times New Roman"/>
              </a:rPr>
              <a:t>enih proizvodnih </a:t>
            </a:r>
            <a:r>
              <a:rPr b="0" lang="hr-HR" sz="3600" spc="-1" strike="noStrike">
                <a:solidFill>
                  <a:srgbClr val="00264c"/>
                </a:solidFill>
                <a:latin typeface="Arial"/>
              </a:rPr>
              <a:t>č</a:t>
            </a:r>
            <a:r>
              <a:rPr b="0" lang="hr-HR" sz="3600" spc="-1" strike="noStrike">
                <a:solidFill>
                  <a:srgbClr val="00264c"/>
                </a:solidFill>
                <a:latin typeface="Arial"/>
                <a:ea typeface="Times New Roman"/>
              </a:rPr>
              <a:t>imbenika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64c"/>
                </a:solidFill>
                <a:latin typeface="Arial"/>
                <a:ea typeface="Times New Roman"/>
              </a:rPr>
              <a:t>Osnovna ideja spomenutog teorema mo</a:t>
            </a:r>
            <a:r>
              <a:rPr b="0" lang="hr-HR" sz="3600" spc="-1" strike="noStrike">
                <a:solidFill>
                  <a:srgbClr val="00264c"/>
                </a:solidFill>
                <a:latin typeface="Arial"/>
              </a:rPr>
              <a:t>ž</a:t>
            </a:r>
            <a:r>
              <a:rPr b="0" lang="hr-HR" sz="3600" spc="-1" strike="noStrike">
                <a:solidFill>
                  <a:srgbClr val="00264c"/>
                </a:solidFill>
                <a:latin typeface="Arial"/>
                <a:ea typeface="Times New Roman"/>
              </a:rPr>
              <a:t>e se prezentirati pomo</a:t>
            </a:r>
            <a:r>
              <a:rPr b="0" lang="hr-HR" sz="3600" spc="-1" strike="noStrike">
                <a:solidFill>
                  <a:srgbClr val="00264c"/>
                </a:solidFill>
                <a:latin typeface="Arial"/>
              </a:rPr>
              <a:t>ć</a:t>
            </a:r>
            <a:r>
              <a:rPr b="0" lang="hr-HR" sz="3600" spc="-1" strike="noStrike">
                <a:solidFill>
                  <a:srgbClr val="00264c"/>
                </a:solidFill>
                <a:latin typeface="Arial"/>
                <a:ea typeface="Times New Roman"/>
              </a:rPr>
              <a:t>u Rybczynskijeve postavke</a:t>
            </a:r>
            <a:r>
              <a:rPr b="0" lang="hr-HR" sz="3600" spc="-1" strike="noStrike">
                <a:solidFill>
                  <a:srgbClr val="00264c"/>
                </a:solidFill>
                <a:latin typeface="Arial"/>
              </a:rPr>
              <a:t>:</a:t>
            </a:r>
            <a:r>
              <a:rPr b="0" lang="hr-HR" sz="3200" spc="-1" strike="noStrike">
                <a:solidFill>
                  <a:srgbClr val="00264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370-90D9-4A54-AACE-BC6C24B8F3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5:03:33Z</dcterms:created>
  <dc:creator>Ekonomski fakultet Rijeka</dc:creator>
  <dc:description/>
  <dc:language>en-US</dc:language>
  <cp:lastModifiedBy>Ekonomski fakultet Rijeka</cp:lastModifiedBy>
  <dcterms:modified xsi:type="dcterms:W3CDTF">2007-03-18T15:37:19Z</dcterms:modified>
  <cp:revision>4</cp:revision>
  <dc:subject/>
  <dc:title>TEOREMI H-O TEORIJE</dc:title>
</cp:coreProperties>
</file>