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93A-EB4F-43D1-82D3-78FA5279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2B2-677B-419A-AFFF-1C3FB856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B9D-DBB6-438B-B248-60DAF915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717-C9F8-45FC-BD65-5905F6FF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9F73-460C-4C31-9074-B4D37F2A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0CA9-3B6A-43F9-9341-F6586464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7EC9-1D51-4DB4-A96C-953B8912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5403-37DF-4CAD-80E9-6009E01B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B8DE-0302-4B47-A953-8B4F284D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3E83-058C-426E-A63B-3FAB05E2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CDFE-EE84-4D55-8B69-54C6ABA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23D-F3B9-4A52-B1A5-37CFA17D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C185-4D56-43A2-8D6F-49E41A0F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D466-EC0B-42BD-9B6D-E458A414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724A-83B3-420A-9ACF-23EE4727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D7D9-C064-4D8D-A133-6F68919F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69E4-24B5-422D-9B31-BB4BF779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8C5-4B00-474E-B0F3-449CE4B9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529-54EC-4F0E-9DF5-43677DCC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AC0-DD10-4722-9AE8-9F7E057A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5DA-688A-4922-BD37-AA3EF4A4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C15-14A7-4D2C-B843-62766C8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C24-49A8-4C3D-A542-9D6D671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86A-F412-4E9B-B6AF-0CA5DACA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3632-688D-4999-BD59-3CD52EDF76AA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13A9-062B-4205-B9B5-50AABF74A746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565360"/>
            <a:ext cx="7086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RAZVRSTAVANJE I GRUPIRANJE EKONOMSKIH AKTIVNOSTI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KLASIFIKACIJE DJELAT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588960"/>
            <a:ext cx="8496000" cy="62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 obzirom da su težnje Hrvatske od osamostaljenja usmjerene ka uključivanju u EU, prevagnulo je opredjeljenje za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rihvaćanje NACE Rev.1 kao našeg nacionalnog standard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razvrstavanja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U zemljama EU ona se primjenjuje od 1.1.1993. godine, a prijelazno je razdoblje bilo do 31.12.1994. godine. Naša je NKD u primjeni od 1.01.199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U NACE Rev.1 postoje 4 stupnja i jedan međustupanj razvrstavanj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i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1. stupanj razvrstavanja –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PODRUČJE (SECTION)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i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ojeg slijedi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MEĐUSTUPANJ – PODPODRUČJ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(SUBSE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2. stupanj razvrstavanja-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ODJELJ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3. stupanj razvrstavanja –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SKUPINA (GROU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4. stupanj razvrstavanja –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RAZRED (CLA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11280" y="1341360"/>
            <a:ext cx="799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ACE Rev.1 ima 17 područja, 16 potpodručja, 60 odjeljaka, 222 skupine i 512 razre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Hrvatska Nacionalna klasifikacija djelatnosti sadržava podjelu u 4 stupnja i 2 međustupnja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Od NACE Rev.1 razlikuje se po tome što iza zadnjeg stupnja (podjela na razrede) sadrži i međustupanj PODRAZ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333360"/>
            <a:ext cx="835164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upnjevi razvrstavanja ekonomskih aktivnosti prema Nacionalnoj klasifikaciji djelatnos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PODRUČJ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JEDNOSLOVNA OZNA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- POTPODRUČJ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DVOSLOVNA OZNA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2. ODJELJCI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DVOSLOVNA I DVOZNAMENKASTA OZNA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3.</a:t>
            </a:r>
            <a:r>
              <a:rPr b="1" i="1" lang="hr-H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SKUPIN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DVOSLOVNA I TROZNAMENKASTA OZNA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4. RAZREDI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DVOSLOVNA I ČETVEROZNAMENKASTA OZNA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- PODRAZREDI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hr-HR" sz="2400" spc="-1" strike="noStrike">
                <a:solidFill>
                  <a:srgbClr val="ffffff"/>
                </a:solidFill>
                <a:latin typeface="Times New Roman"/>
              </a:rPr>
              <a:t>DVOSLOVNA I PETEROZNAMENKASTA OZNA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primjer"/>
          <p:cNvPicPr/>
          <p:nvPr/>
        </p:nvPicPr>
        <p:blipFill>
          <a:blip r:embed="rId1"/>
          <a:stretch/>
        </p:blipFill>
        <p:spPr>
          <a:xfrm>
            <a:off x="1566720" y="222120"/>
            <a:ext cx="601056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truktura"/>
          <p:cNvPicPr/>
          <p:nvPr/>
        </p:nvPicPr>
        <p:blipFill>
          <a:blip r:embed="rId1"/>
          <a:stretch/>
        </p:blipFill>
        <p:spPr>
          <a:xfrm>
            <a:off x="1577880" y="63360"/>
            <a:ext cx="598644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preradjivacka_industrija"/>
          <p:cNvPicPr/>
          <p:nvPr/>
        </p:nvPicPr>
        <p:blipFill>
          <a:blip r:embed="rId1"/>
          <a:stretch/>
        </p:blipFill>
        <p:spPr>
          <a:xfrm>
            <a:off x="1835280" y="0"/>
            <a:ext cx="527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SIC Rev4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8280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Klasifikacije djelatnosti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 predstavljaju društvene konvencije o razvrstavanju ekonomskih aktiv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ogu bi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acional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međunarodne (ISIC – Međunarodna standardna klasifikacija djelatnosti UN, Nace Rev. 1 – Opća klasifikacija djelatnosti EU)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611280" y="6922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00"/>
                </a:solidFill>
                <a:uFillTx/>
                <a:latin typeface="Times New Roman"/>
              </a:rPr>
              <a:t>ZBOG ČEGA SE VRŠI RAZVRSTAVANJE EKONOMSKIH AKTIVNOSTI ODNOSNO ČEMU SLUŽE KLASIFIKACIJE DJELAT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26920" y="2205000"/>
            <a:ext cx="6985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 potrebe gospodars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 potrebe statističkog praćenja ekonomskih t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 potrebe nositelja ekonomske polit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 potrebe stručnih i znanstvenih istraž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95280" y="1268280"/>
            <a:ext cx="8352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Kriteriji za razvrstavanje ekonomskih aktivnos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dentičnost tehničko-tehnoloških, ekonomskih i organizacijskih obilježj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stovrsnost predmeta rada, sredstava za rad i tehničko-tehnoloških postupaka koji se primjenjuju u obavljanju djelatnost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stovrsnost roba i usluga koje su rezultat obavljanja pojedine djelat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24000" y="549360"/>
            <a:ext cx="8424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lasifikacije djelatnosti mijenjaju se prvenstveno pod utjecajem tehničko-tehnološkog napretka i promjena koje on donosi (u Hrvatskoj u posljednjih  50 godina u primjeni su bile tri klasifikacije djelatnost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 KOJIH PROMJENA DOLAZI POD UTJECAJEM TEHNIČKO-TEHNOLOŠKOG NAPRETK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24000" y="3500280"/>
            <a:ext cx="8424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eke djelatnosti nestaju ili mijenjaju karakter, a neprestano se pojavljuju i nove djelat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ljoprivreda nekad i d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udarstvo nekad i d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azvoj industrijske struk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azvoj turizma kao masovne poj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azvoj: zdravstva, obrazovanja i zna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JKD1"/>
          <p:cNvPicPr/>
          <p:nvPr/>
        </p:nvPicPr>
        <p:blipFill>
          <a:blip r:embed="rId1"/>
          <a:stretch/>
        </p:blipFill>
        <p:spPr>
          <a:xfrm>
            <a:off x="826920" y="403200"/>
            <a:ext cx="7490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JKD2"/>
          <p:cNvPicPr/>
          <p:nvPr/>
        </p:nvPicPr>
        <p:blipFill>
          <a:blip r:embed="rId1"/>
          <a:stretch/>
        </p:blipFill>
        <p:spPr>
          <a:xfrm>
            <a:off x="468360" y="1330200"/>
            <a:ext cx="83516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95280" y="476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NAKON OSAMOSTALJENJA HRVATSKA JE PREUZELA JKD O BIVŠE SFRJ, ALI  VEĆ 1995. GODINE DONOSI NOVU NACIONALNU KLASIFIKACIJU DJELATNOSTI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9640" y="1773360"/>
            <a:ext cx="8280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ffffff"/>
                </a:solidFill>
                <a:latin typeface="Times New Roman"/>
              </a:rPr>
              <a:t>Do tada važeća Jedinstvena klasifikacija privrednih i neprivrednih djelatnosti nije odražavala promjene što su se zbile u gospodarstvu Republike Hrvatske nakon 1990. godin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437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ffffff"/>
                </a:solidFill>
                <a:latin typeface="Times New Roman"/>
              </a:rPr>
              <a:t>U svijetu je sve veći broj zemalja koje primjenjuju klasifikacije što su ih donijele međunarodne institucije ili regionalne integracije (UN, EU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437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ffffff"/>
                </a:solidFill>
                <a:latin typeface="Times New Roman"/>
              </a:rPr>
              <a:t>Međunarodne financijske institucije svoje aranžmane zemljama u tranziciji uvjetuju dobivanjem statističkih podataka i pokazatelja o gospodarskom stanju i gospodarskim kretanjima koji su usporedivi sa zemljama tržišnih gospodarstava. Pretpostavka toga jest prijelaz na jednu od međunarodnih klasifikacija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NKD95"/>
          <p:cNvPicPr/>
          <p:nvPr/>
        </p:nvPicPr>
        <p:blipFill>
          <a:blip r:embed="rId1"/>
          <a:stretch/>
        </p:blipFill>
        <p:spPr>
          <a:xfrm>
            <a:off x="176364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52:22Z</dcterms:modified>
  <cp:revision>95</cp:revision>
  <dc:subject/>
  <dc:title>PowerPoint Presentation</dc:title>
</cp:coreProperties>
</file>