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898-731C-4847-BD0E-F2A05D9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3C3-458C-4A04-A035-9C742DD9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C60-154F-47AF-9642-19E23F62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F1D-23AB-4E44-A573-539C366D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FD4-F0D5-4F69-8642-E27A3CBB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D6E3-9430-42D7-9402-5850751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CE68-51A6-47F7-9029-51D661E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7ED-8A74-495E-96BC-2487EFF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5D7-2FB2-47EA-A877-E0C491B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862-D80F-4AEE-BECD-2F038E34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CB0-BC53-40A6-96F5-608E34D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C55-30EB-4AB6-80DB-62B2F3F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10E-192D-478F-B4D6-EC0CD16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422E-DAC0-40F7-B035-98B590A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0EF0-39F1-471F-9D78-C2B5F42A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C17-81E0-4539-9DA8-C3203E74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BE5-197F-4892-AE88-6F15D90E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6C2-142D-4BB4-92A6-5B69E34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0B4-838B-4398-81AE-AAFC98BE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78C-F07A-4400-84ED-C4C43C47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E9A-98B5-485D-A919-4ADDF7D0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878-9E00-4EAF-AB18-CAE0D67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F23-E9AA-4939-AC1B-1F99497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696-DDD9-42E5-A1CC-CA850D8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71A-9F4D-4A0D-82C2-CF75C0608501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66B-A79B-4ECE-BCB2-AFB5B5CDBA59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ASPODJELA (UPOTREBA) BDP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5280" y="333360"/>
            <a:ext cx="8353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ERASPODJEL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JE MEĐUFAZA DRUŠTVENE RASPODJELE U KOJOJ KRAJNJI KORISNICI DOBIVAJU PRORAČUNSKA SRED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UBJEKTI PRERASPODJ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ositelji javne vlasti (zakonodavne, izvršne, sudbe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stanove koje svojom djelatnošću zadovoljavaju neku od javnih potr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javna poduzeć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rgovačka druš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građa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1484280"/>
            <a:ext cx="842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Jedinice lokalne uprave i samouprave pribavljaju sredstva za financiranje javne potrošnje sukladno Zakonu o financiranju jedinica lokalne uprave i samouprave (JLSU).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Njihove izvore čin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1. vlastiti prihod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2. zajednički prihod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3. dotacije državnog (ili županijskog) proraču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95280" y="260280"/>
            <a:ext cx="8497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1.) VLASTITI PRIH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VLASTITE PRIHODE U ŽUPANIJAMA ČINE: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nasljedstva i dar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cestovna motorna vozi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plovne obje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zabavne i sportske prired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26920" y="3213000"/>
            <a:ext cx="84981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VLASTITE PRIHODE GRADOVA I OPĆINA ČINE: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općinski (gradski) porez na plaće zaposlen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korištenje javnih površ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munalne nakn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kuće za odm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rekl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rez na tvrt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324000" y="549360"/>
            <a:ext cx="8569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2.) ZAJEDNIČKI PRIH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IHODI U KOJIMA PARTICIPIRAJU SVE RAZINE JAVNE VLASTI U DRŽAVI (SREDIŠNJA VLAST, ŽUPANIJSKA VLAST, GRADSKA I OPĆINSKE VLASTI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porez na dodanu vrijed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porez na prihod od imov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porez na prihod od autorskih pr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porez na promet nekretni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porez na dobitke od igara na sreć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administrativne i sudske tak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55640" y="1197000"/>
            <a:ext cx="7777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ASPODJELA BDP ZA POJEDINE NAMJENE VRŠI SE KROZ TRI FAZE I JEDNU MEĐUFAZU DRUŠTVENE RASPODJ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33"/>
                </a:solidFill>
                <a:latin typeface="Times New Roman"/>
              </a:rPr>
              <a:t>ŠTO JE DRUŠTVENA RASPODJEL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765000"/>
            <a:ext cx="828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U PROCESU DRUŠTVENE RASPODJELE KLJUČNA JE ULOGA TRŽIŠT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JER O ODNOSU PONUDE I POTRAŽNJE OVISI CI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OIZVODNIH FAK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OBA I USL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37162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NO, I DRŽAVA  TJ. NOSITELJI EKONOMSKE POLITIKE “UPLIĆU SE” U RASPODJELU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907920"/>
            <a:ext cx="842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FAZE DRUŠTVENE RASPODJELE S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MARNA RASPODJEL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stjecanje dohot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EKUNDARNA RASPODJEL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raspoređivanje dohot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INTERNA RASPODJEL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raspoređivanje dohot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422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00"/>
                </a:solidFill>
                <a:latin typeface="Times New Roman"/>
              </a:rPr>
              <a:t>PRERASPODJELA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 JE ČIN TIJEKOM KOJEGA KRAJNJI KORISNICI DOBIVAJU PRORAČUNSKA SREDSTV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RIMARNA RASPODJELA"/>
          <p:cNvPicPr/>
          <p:nvPr/>
        </p:nvPicPr>
        <p:blipFill>
          <a:blip r:embed="rId1"/>
          <a:stretch/>
        </p:blipFill>
        <p:spPr>
          <a:xfrm>
            <a:off x="1933560" y="333360"/>
            <a:ext cx="5276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imbenici"/>
          <p:cNvPicPr/>
          <p:nvPr/>
        </p:nvPicPr>
        <p:blipFill>
          <a:blip r:embed="rId1"/>
          <a:stretch/>
        </p:blipFill>
        <p:spPr>
          <a:xfrm>
            <a:off x="255600" y="289080"/>
            <a:ext cx="863136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24000" y="333360"/>
            <a:ext cx="849600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EKUNDARNA RASPODJ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Cilj: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zadovoljenje potreba poduzeć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zadovoljenje javnih potreb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Subjekti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poduzeć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ustano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državni organ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hr-HR" sz="2200" spc="-1" strike="noStrike">
                <a:solidFill>
                  <a:srgbClr val="ffff00"/>
                </a:solidFill>
                <a:latin typeface="Times New Roman"/>
              </a:rPr>
              <a:t>Sredstv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porez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- doprinos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CILJ SVAKE RASPODJELE U DRUŠTVU JE ZADOVOLJENJE POTREBA.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260280"/>
            <a:ext cx="83534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Prema Zakonu o javnim potrebama, javnim potrebama smatraju se one koje se financiraju iz javnih prihod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. To s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brana i zašt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konom utvrđeni zadaci javne uprave, lokalne uprave i samoupr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bveze iz međunarodnih odn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brazovanje, znanost, zdravstvo, kultura, socijalna zaštita, mirovinsko i invalidsko osigur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obne rez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rži razvoj gospodarski nedovoljno razvijenih područ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tervencije u gospodarst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bveze prema javnim poduzeći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9640" y="692280"/>
            <a:ext cx="7921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INTERNA RASPODJ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vija se u poduzeću, a u okviru nje stečeni dohodak raspoređuje se 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sredstva zajedničke potroš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invest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rez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naknade ulagačima (dividen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povećanje društvenog kapit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34:21Z</dcterms:modified>
  <cp:revision>133</cp:revision>
  <dc:subject/>
  <dc:title>PowerPoint Presentation</dc:title>
</cp:coreProperties>
</file>