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573-0E22-4FEF-9FDA-7C1C6BC5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13C-AD7E-4CC2-9A6D-678782D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EBC-CF76-4828-B496-36524A09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CDD-F9AD-48CF-A897-B9AEF41D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86C0-1A4A-48D7-A0AD-C0B11009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9F9-A7C1-4C69-BFDC-FF268C23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A70-8EBE-40F4-A81E-220DC71E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64C-0A1C-49A6-8EB1-73C6DD5E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606-8F5B-4623-8F0E-45AE9A7C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98C-3CC1-4B2F-B939-1A2027D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B29-1D1F-47CD-968F-B9630DB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4B3-57EE-49C3-A626-8DAD109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961-6CF6-4F62-8662-692FCF2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A26F-C8A8-4248-BFA9-D0F87DB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739-33EB-49E1-9C06-90BDDC5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BC5-49FE-41A9-ABD7-D5AB1D11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515F-EE2A-4DE1-8F5F-9EEA2C8E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456-7B45-4A7F-99FE-B365FC8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2A8-4C36-4A49-9F9B-59A6132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D5D-6369-4DD9-BB6C-3DF01C9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BC9-AB6B-46A7-90BD-17088006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D1F-AE01-4D7D-9E06-00EE8A8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D1D-2957-470A-B373-14DCC84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829-2588-45A3-8BD1-41B0C28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DCC-FB31-4DE4-960C-10C0529DDB1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43C-363B-47AF-824B-06D4623FBB38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TANOVNIŠT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5092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ope nataliteta, mortaliteta i prirodnog prirasta 1991.-2006.* u Hrvatsk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16000" y="5734080"/>
            <a:ext cx="72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Izvor: SLJH-2007., str. 9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* - procjene sredinom razdobl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8"/>
          <p:cNvGraphicFramePr/>
          <p:nvPr/>
        </p:nvGraphicFramePr>
        <p:xfrm>
          <a:off x="179280" y="765000"/>
          <a:ext cx="878544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878544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260280"/>
            <a:ext cx="83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Stanovništvo prema popisima od 1857. do 2001. god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tanovništvo prema popisima"/>
          <p:cNvPicPr/>
          <p:nvPr/>
        </p:nvPicPr>
        <p:blipFill>
          <a:blip r:embed="rId1"/>
          <a:stretch/>
        </p:blipFill>
        <p:spPr>
          <a:xfrm>
            <a:off x="1332000" y="907920"/>
            <a:ext cx="65736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4000" y="260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roj stanovnika Republike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732720" y="6165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vor: SLJH-2007, str.9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476360" y="620640"/>
          <a:ext cx="48988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48988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50920" y="333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d MIGRACIJAMA podrazumijevamo prostornu pokretljivost stanovništva. Možemo ih podijeli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19280" y="981000"/>
            <a:ext cx="8424720" cy="52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Prema kriteriju vremenskog trajanj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stal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sezonsk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dnev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Prema teritorijalnom kriteriju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unutrašnje: lokalne, regionalne, međuregional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vanjske: kontinentalne, međukontinentaln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Prema uzrocim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ekonomsk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političk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socijal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migracijski saldo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55640" y="404640"/>
            <a:ext cx="7415280" cy="5438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042920" y="602136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Izvor: Družić, I. (et. al.): Hrvatski gospodarski razvoj, Zagreb, 2003., str. 4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404640"/>
            <a:ext cx="83516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bilježja suvremenih migracij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emigrira mlado stanov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emigrira obrazovano stanov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Gubici nacionalnih ekonomija uzrokovani suvremenom emigracijom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1. gubitak sredstava investiranih u obraz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2. gubitak zbog neostvarenog dohot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250920" y="988920"/>
          <a:ext cx="856908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8920"/>
                    <a:ext cx="85690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684360" y="3573360"/>
          <a:ext cx="777708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77770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539640" y="1773360"/>
          <a:ext cx="7920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7920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8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DJELE (STRUKTURE)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4360" y="895320"/>
            <a:ext cx="7991280" cy="56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PREMA DJELATNO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a) poljoprivred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b) nepoljoprivredno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PREMA MJESTU STANOVAN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a) seosko (rural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b) gradsko (urba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PREMA RADNOJ SPOSOBNO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a) radni kontin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b) neradni kontingent  - predradn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postradni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539640" y="333360"/>
            <a:ext cx="7993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REMA STAROSTI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– starosni razredi ili sku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REMA SPO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) mušk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) žensk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REMA PISME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) pism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) nepism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PREMA STRUČ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) po stupnjevima stručne spreme (NSS, SSS, VŠS, V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) po kvalifikacijskoj ljestvici (NKV, PKV, KV, VK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324000" y="476280"/>
            <a:ext cx="75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ANOVNIŠTVO I EKONOMSKI RA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emografske teor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emograf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4221000"/>
            <a:ext cx="75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3.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ANOVNIŠTVO KAO IZVOR RADNE SN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dni kontin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ekonomski aktivno stanov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2349360"/>
            <a:ext cx="75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ČINITELJI BROJNOSTI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rodno kretanje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haničko kretanje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68360" y="260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obno-spolna struktura hrvatskog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dobno spolna struktura"/>
          <p:cNvPicPr/>
          <p:nvPr/>
        </p:nvPicPr>
        <p:blipFill>
          <a:blip r:embed="rId1"/>
          <a:stretch/>
        </p:blipFill>
        <p:spPr>
          <a:xfrm>
            <a:off x="755640" y="1112760"/>
            <a:ext cx="7848720" cy="476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2920" y="602136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Izvor: Družić, I. (et. al.): Hrvatski gospodarski razvoj, Zagreb, 2003., str. 4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042920" y="345960"/>
            <a:ext cx="7058160" cy="5891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332000" y="63817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Izvor: DZ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stanovnistvo prema strucnoj spremi"/>
          <p:cNvPicPr/>
          <p:nvPr/>
        </p:nvPicPr>
        <p:blipFill>
          <a:blip r:embed="rId1"/>
          <a:stretch/>
        </p:blipFill>
        <p:spPr>
          <a:xfrm>
            <a:off x="539640" y="890640"/>
            <a:ext cx="79200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33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ANOVNIŠTVO I VELIČINA UNUTRAŠNJEG TRŽ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68360" y="105264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Faktori veličine unutrašnjeg tržišta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rojnost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DP po stanovniku (pokazatelj kupovne moć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68360" y="2997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Times New Roman"/>
              </a:rPr>
              <a:t>Zemljama velikog unutarnjeg tržišta smatraju se zemlje s više od 100 milijuna stanovnika: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Kina, Indija, SAD, Indonezija, Brazil, Rusija, Pakistan, Japan, Bangladeš, Niger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68360" y="4581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Times New Roman"/>
              </a:rPr>
              <a:t>Zemlje slične Hrvatskoj s obzirom na broj stanovnika: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Norveška, Danska, Finska, Irska, Litva, Moldav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836640"/>
            <a:ext cx="79912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Ograničenja zemalja malog unutrašnjeg tržišta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maju skuplju gospodarsku infrastruktu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eže ostvaruju visok stupanj specijalizacije u proizvodn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e mogu (osim ako su značajni izvoznici) ostvariti efekte ekonomije obuj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unkcija troškova"/>
          <p:cNvPicPr/>
          <p:nvPr/>
        </p:nvPicPr>
        <p:blipFill>
          <a:blip r:embed="rId1"/>
          <a:stretch/>
        </p:blipFill>
        <p:spPr>
          <a:xfrm>
            <a:off x="250920" y="836640"/>
            <a:ext cx="5975280" cy="417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funkcija troškova2"/>
          <p:cNvPicPr/>
          <p:nvPr/>
        </p:nvPicPr>
        <p:blipFill>
          <a:blip r:embed="rId2"/>
          <a:stretch/>
        </p:blipFill>
        <p:spPr>
          <a:xfrm>
            <a:off x="4284720" y="5013360"/>
            <a:ext cx="4279680" cy="1474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116000" y="18900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Funkcija troško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924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ANOVNIŠTVO KAO FAKTOR VELIČINE UNUTRNJEG TRŽ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134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TRUKTURE STANOVNIŠTVA KOJE UTJEČU NA EKONOMSKE TIJEK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39640" y="33336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189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66"/>
                </a:solidFill>
                <a:latin typeface="Times New Roman"/>
              </a:rPr>
              <a:t>DEMOGRAFSKE TEORIJE  - UČENJA O STANOVNIŠTVU I NJEGOVU UTJECAJU NA GOSPODARSKI RAZV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teorije o stanovništvu"/>
          <p:cNvPicPr/>
          <p:nvPr/>
        </p:nvPicPr>
        <p:blipFill>
          <a:blip r:embed="rId1"/>
          <a:stretch/>
        </p:blipFill>
        <p:spPr>
          <a:xfrm>
            <a:off x="1484280" y="907920"/>
            <a:ext cx="569448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1413000"/>
            <a:ext cx="7848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Demografske polit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Aktivna populacijska politika ili natalističk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emografska politik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politika koja potiče rast stanovništva povećanjem broja djece u obitel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Antipopulacijska ili antinatalistička demografska politik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politika koja destimulira prirodni porast stanovni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68360" y="1700280"/>
            <a:ext cx="813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rodno kretanje stanovništva ovisi o rađanju (natalitetu) i umiranju (mortalitetu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topu nataliteta i mortaliteta nazivamo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VITALNIM KOEFICIJENTIM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2400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Formule za izračunavanje vitalnih koeficijen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vitalni koeficijenti"/>
          <p:cNvPicPr/>
          <p:nvPr/>
        </p:nvPicPr>
        <p:blipFill>
          <a:blip r:embed="rId1"/>
          <a:stretch/>
        </p:blipFill>
        <p:spPr>
          <a:xfrm>
            <a:off x="826920" y="1268280"/>
            <a:ext cx="36784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italni koeficijenti2"/>
          <p:cNvPicPr/>
          <p:nvPr/>
        </p:nvPicPr>
        <p:blipFill>
          <a:blip r:embed="rId2"/>
          <a:stretch/>
        </p:blipFill>
        <p:spPr>
          <a:xfrm>
            <a:off x="4643280" y="2133720"/>
            <a:ext cx="424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484360" y="1557360"/>
            <a:ext cx="468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ipovi prirodnog priras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izak (do 5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mjeren (od 5 do 15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)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visok (od 15 do 25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vrlo visok (veći od 25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324000" y="260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Odabrane zemlje, visina dohotka i stope rasta stanovništva 2005./2004.  god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1704960" y="692280"/>
          <a:ext cx="518328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692280"/>
                    <a:ext cx="51832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21:48Z</dcterms:modified>
  <cp:revision>126</cp:revision>
  <dc:subject/>
  <dc:title>PowerPoint Presentation</dc:title>
</cp:coreProperties>
</file>