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0DE-F863-4852-B8CF-8D1AB5BD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025-4827-409C-A4C1-CF990E3C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F6A-6A5A-411F-A931-399EB539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C4F-83DF-4D74-A79A-BAE0B492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FBE-5048-4DFB-B17B-BC24035E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4986-16A6-411B-A943-AE33E1E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7BC-D474-4C91-9D73-789400ED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04E-6C5C-4997-AD61-4EC37A5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C195-B7FC-4BD4-A91E-A2F7F3E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ADF5-60EA-4BD6-9F66-918346BD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F711-ABCA-4DB8-95CA-B3043F6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AB9-8003-474D-8183-80BF9A4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8AFF-A33A-4C5C-81A0-62EC42A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E0A2-4479-4EEF-9288-6FABB8F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E8E7-CCA7-43E1-9F9E-C173443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E2F-3CB5-4EFE-9192-561572D3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C30-DA5B-48BC-8BAB-65946A63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96F-AD2F-4052-94B6-B272501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618-0F75-4635-8B8B-F0BC1FF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480-B32E-49E3-9937-272C2E3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77B-EEB1-4E14-AAA4-69B6935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7E7-0159-43E9-8140-D2274989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5D2-CFC9-4F3E-8C09-AFDCECA4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18A-8E81-4339-AD7A-01266A5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BB4E-B142-44A3-8D0E-965C504D5D7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68B-7514-4DF8-9328-892F0C035EB9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781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VESTI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24000" y="2349360"/>
            <a:ext cx="287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5. PREMA IZVORIMA INVESTICIJSKIH SREDSTAVA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(izvori: amortizacija, vlastita akumulacija, tuđa akumulacija, primarna emisij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851280" y="16286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domaće investi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5128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nozemne investi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851280" y="443700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ješovite investicije (zajednička ulaganja – joint ven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588000" y="213372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direktna inozemna ulaganja (FD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6588000" y="299736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tfolio investi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588000" y="378936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zajmo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3132000" y="2060280"/>
            <a:ext cx="719280" cy="1081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3132000" y="3213000"/>
            <a:ext cx="719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132000" y="3284640"/>
            <a:ext cx="576360" cy="1439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6300720" y="2636640"/>
            <a:ext cx="2872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6300720" y="321300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6300720" y="3357720"/>
            <a:ext cx="287280" cy="57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32400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SNOVNA PITANJA INVESTICIJSKE POLIT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360" y="981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KOLIKO INVESTIRA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lika treba biti stopa investi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2771640" y="1916280"/>
                <a:ext cx="1397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8"/>
          <p:cNvSpPr/>
          <p:nvPr/>
        </p:nvSpPr>
        <p:spPr>
          <a:xfrm>
            <a:off x="971640" y="328464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    kolika treba biti stopa neto investi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3933720"/>
                <a:ext cx="1656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95280" y="549360"/>
            <a:ext cx="763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2. U ŠTO INVESTIRA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3. KAKVA JE EFIKASNOST INVESTICIJA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692360" y="2637000"/>
                <a:ext cx="3527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B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BD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95280" y="40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 obzirom na postojanje aktivizacijskog razdoblja točnije je mjerenje efikasnosti investicija uz pomoć </a:t>
            </a:r>
            <a:r>
              <a:rPr b="1" lang="hr-HR" sz="2400" spc="-1" strike="noStrike">
                <a:solidFill>
                  <a:srgbClr val="00ffff"/>
                </a:solidFill>
                <a:latin typeface="Times New Roman"/>
              </a:rPr>
              <a:t>razmaknutog graničnog kapitalnog koeficijent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755640" y="2349360"/>
                <a:ext cx="280836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DP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Text Box 6"/>
          <p:cNvSpPr/>
          <p:nvPr/>
        </p:nvSpPr>
        <p:spPr>
          <a:xfrm>
            <a:off x="4067280" y="2060640"/>
            <a:ext cx="38894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1" lang="hr-HR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– razmaknuti granični kapitalni koeficij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 – investi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P – promjena ukupne dodane vrijed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– vrij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– aktivizacijsko razdobl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95280" y="1844640"/>
            <a:ext cx="835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INVESTICIJ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su ulaganja u proizvodne fondove kojima je cilj pribaviti nove proizvodne fondove, modernizirati, adaptirati ili rekonstruirati postojeće proizvodne fond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INVESTICIJE SU IZVOR EKONOMSKOG RA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ODJELA INVESTI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1. PREMA NAMJ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716360" y="191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vesticije u fiksne fond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88000" y="321300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vesticije u obrtne fond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3924360" y="2276280"/>
            <a:ext cx="6476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3924360" y="2852640"/>
            <a:ext cx="71892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24000" y="2276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2. PREMA IZVORIMA INV. SREDSTAVA U VRIJEDNOSNOJ STRUKTURI PROIZVODNJ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izvori: amortizacija, akumulacij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227640" y="184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ruto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300720" y="29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eto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22764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ove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 flipV="1">
            <a:off x="5003640" y="2276280"/>
            <a:ext cx="100836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003640" y="3213000"/>
            <a:ext cx="1152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5003640" y="3357720"/>
            <a:ext cx="1008360" cy="86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411280" y="1844640"/>
            <a:ext cx="432144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Times New Roman"/>
              </a:rPr>
              <a:t>BI = Am + A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Times New Roman"/>
              </a:rPr>
              <a:t>NI = A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r-HR" sz="40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hr-HR" sz="4000" spc="-1" strike="noStrike">
                <a:solidFill>
                  <a:srgbClr val="ffffff"/>
                </a:solidFill>
                <a:latin typeface="Times New Roman"/>
              </a:rPr>
              <a:t>I = BI - 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95280" y="249228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3. PREMA UTJECAJU NA RAST BDP-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0" y="1989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emografske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2000" y="3645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ekonomske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3780000" y="2420640"/>
            <a:ext cx="79200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708360" y="3213000"/>
            <a:ext cx="79236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4000" y="26028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DEMOGRAFSKE INVESTICIJ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517680" y="1011240"/>
                <a:ext cx="2584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Text Box 4"/>
          <p:cNvSpPr/>
          <p:nvPr/>
        </p:nvSpPr>
        <p:spPr>
          <a:xfrm>
            <a:off x="3780000" y="1052640"/>
            <a:ext cx="4824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Id – demografske investi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– marginalni kapitalni koeficij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423720" y="2852640"/>
                <a:ext cx="30765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B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BD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Text Box 6"/>
          <p:cNvSpPr/>
          <p:nvPr/>
        </p:nvSpPr>
        <p:spPr>
          <a:xfrm>
            <a:off x="611280" y="4149720"/>
            <a:ext cx="475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r-HR" sz="2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– stopa prirodnog prirašt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58920" y="4724280"/>
          <a:ext cx="6048360" cy="1737000"/>
        </p:xfrm>
        <a:graphic>
          <a:graphicData uri="http://schemas.openxmlformats.org/drawingml/2006/table">
            <a:tbl>
              <a:tblPr/>
              <a:tblGrid>
                <a:gridCol w="1942920"/>
                <a:gridCol w="1008360"/>
                <a:gridCol w="309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pa prirodnog priraštaja u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1" lang="hr-HR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mografske investicije (udio u BDP) u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468360" y="476280"/>
                <a:ext cx="2556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3"/>
          <p:cNvSpPr/>
          <p:nvPr/>
        </p:nvSpPr>
        <p:spPr>
          <a:xfrm>
            <a:off x="3564000" y="333360"/>
            <a:ext cx="482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I – ukupne investi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Id – demografske investi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Ie – ekonomske investi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582480" y="2089080"/>
                <a:ext cx="2505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5"/>
          <p:cNvSpPr/>
          <p:nvPr/>
        </p:nvSpPr>
        <p:spPr>
          <a:xfrm>
            <a:off x="3564000" y="2133720"/>
            <a:ext cx="3887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ili k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x P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ili k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X BDP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11280" y="3213000"/>
            <a:ext cx="5761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Ie – ekonomske investi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– marginalni kapitalni koeficij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= BDP</a:t>
            </a:r>
            <a:r>
              <a:rPr b="1" lang="hr-HR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– stopa rasta BDP per cap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4797360"/>
          <a:ext cx="6769080" cy="1841400"/>
        </p:xfrm>
        <a:graphic>
          <a:graphicData uri="http://schemas.openxmlformats.org/drawingml/2006/table">
            <a:tbl>
              <a:tblPr/>
              <a:tblGrid>
                <a:gridCol w="1800360"/>
                <a:gridCol w="847440"/>
                <a:gridCol w="881280"/>
                <a:gridCol w="1008000"/>
                <a:gridCol w="936720"/>
                <a:gridCol w="1295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pa prirodnog prirašta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1" lang="hr-HR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hr-HR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hr-HR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5280" y="2708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4. PREMA TEHNIČKOJ STRUK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716360" y="177336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vesticije u građevinske ob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716360" y="27082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vesticije u opre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716360" y="3357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stale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4067280" y="2349360"/>
            <a:ext cx="57600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2924280"/>
            <a:ext cx="649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067280" y="2924280"/>
            <a:ext cx="576000" cy="64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07:46Z</dcterms:modified>
  <cp:revision>152</cp:revision>
  <dc:subject/>
  <dc:title>PowerPoint Presentation</dc:title>
</cp:coreProperties>
</file>