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253-627B-46FC-A6F9-81A55C2C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0C6-94A3-448D-9DE4-D8862CA3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154-1560-4C1C-BC79-6BDE5752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224-9017-4B8A-8336-35EB5BAD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85BE-1B52-4968-BB29-3B1FA71F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82D8-69F9-44CE-99DE-E7643F3C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65F6-E348-4642-AE1F-92B312DE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A9F2-EB2D-4A09-B7C6-403921E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ECAC-34EA-4745-852C-1D6BA4F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0F5D-DADE-4082-B2FA-A1BEC1EA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0F25-C1A4-403C-B9A1-3370010B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310-555F-4638-BEA5-AF1967E1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105A-C87B-436D-9865-8CACE3E1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A629-6E45-4754-9C15-B8D635F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D93A-8184-423D-9365-00E089DD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C35E-FE95-4CF7-8996-7E94AC40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7C0D-4CFA-46BB-8722-A7DD4158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285-D77F-4D65-9DDC-D080D4EC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EE8-3220-4165-AC3C-190F9E78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7FE-5190-4A36-93F3-D6901D10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738-B2CE-4056-BF73-80283032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901-2830-413C-B14A-9A40EC8A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FB7-78CE-4C81-AE21-1FB45C6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E92-F308-4330-91FA-8B30EB0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2E96-545C-4399-A176-71FE7A58930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F3E9-C206-4003-A6BD-7FDA724F4A9A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565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LATNA BIL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39640" y="2205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ve ekonomske transakcije zemlje s inozemstvom tijekom jedne poslovne godine prikazane su sustavno u njenoj PLATNOJ BILAN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95280" y="836640"/>
            <a:ext cx="8280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Vrste međunarodnih transakcija prema predmetu međunarodnih ekonomskih odnosa s inozemstvom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eđunarodni promet ro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eđunarodni promet usl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eđunarodno kretanje kapitala i nov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eđunarodno kretanje ljudi (radna snaga, migracije, turiz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eđunarodni transfer tehnolog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oizvodna kooperacija i poslovno-tehnička surad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68360" y="333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TRUKTURA PLATNE BI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1280" y="981000"/>
            <a:ext cx="80643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BILANCA TEKUĆIH TRANSAKCIJA (TEKUĆI RAČUN BILANCE PLAĆANJ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Trgovinska bilan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ilanca uslu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Jednostrani transfe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Račun dob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9640" y="3500280"/>
            <a:ext cx="80647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BILANCA KAPITALNIH TRANSAKCIJA ili BILANCA KREDITNO-FINANCIJSKIH TRANSAKCIJA (BILANCA KAPITAL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Direktne investi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tfolio investi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ankovni krediti i posud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Nebankovni krediti i posud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Državni krediti i posud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6"/>
          <p:cNvGraphicFramePr/>
          <p:nvPr/>
        </p:nvGraphicFramePr>
        <p:xfrm>
          <a:off x="250920" y="98280"/>
          <a:ext cx="8642160" cy="666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280"/>
                    <a:ext cx="8642160" cy="666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6"/>
          <p:cNvGraphicFramePr/>
          <p:nvPr/>
        </p:nvGraphicFramePr>
        <p:xfrm>
          <a:off x="900000" y="307800"/>
          <a:ext cx="720108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7800"/>
                    <a:ext cx="7201080" cy="636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5"/>
          <p:cNvGraphicFramePr/>
          <p:nvPr/>
        </p:nvGraphicFramePr>
        <p:xfrm>
          <a:off x="539640" y="523800"/>
          <a:ext cx="777744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23800"/>
                    <a:ext cx="777744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6:50:43Z</dcterms:modified>
  <cp:revision>85</cp:revision>
  <dc:subject/>
  <dc:title>PowerPoint Presentation</dc:title>
</cp:coreProperties>
</file>