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610-BDF6-42B6-AA9E-70D78A0B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23E-26D4-42E1-8BAE-686CCF0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3B7-2F88-4132-B1D9-A535052A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704-4D25-4766-8825-382C8D3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F8B-6B8A-449D-89F2-37EAA8B4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6312-009C-4025-BD4E-D0804FE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847-3FB9-4844-9585-79C42C04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66AF-D176-4892-AD63-57F8272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D191-8B49-481F-825B-253F991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30C-2C79-4FE7-A576-5E528A6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4693-745A-4B6A-85D4-A5A175C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B96-3D0F-452B-A2F8-CE93BAE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1D1B-4DF0-4415-9A8C-2CE8A3E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ACEE-4694-4E0E-92CD-10E899D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0411-A05A-414F-A23D-DEB71D92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BF85-CEEF-464B-8041-3A07FFB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FF5-61DF-4935-B57C-917ABF61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B97-FB0C-46AC-93E0-67BFE8D6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E65-37A9-4CCC-81D9-4F43ED5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7F7-7662-4CB9-9C45-04217A0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755-9FF6-44FB-A388-E9C1976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F50-8488-4C27-B924-32817A1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114-E370-4B40-AC7A-F900E80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A1F-5F3C-4196-89A1-28D17C7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BA1-B6D4-4B3C-A88A-97C5C1EA2E85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2C17-70EC-4030-AB0A-B0D74222A8E8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EKTORSKA STRUKTURA NACIONALNOG GOSPODARSTVA I PRAVILNOSTI NJENE PROMJENE U PROCESU GOSPODARSKOG RAZVO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2602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SVE DJELATNOSTI UOBIČAJENO SE GRUPIRAJU ODNOSNO, S ASPEKTA NACIONALNOG GOSPODARSTVA, DIJELE U VEĆE SKUPINE KOJE NAZIVAMO SEKTO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9640" y="1773360"/>
            <a:ext cx="8352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snovna podjela je trosektorsk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PRIMARNI SEKTOR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čine sve djelatnosti koje se zasnivaju na korištenju prirodnih resursa, ali ih ne prerađuju (predmet rada im je na zemlji ili pod zemljo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SEKUNDARNI SEKTOR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čine sve prerađivačke djelat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TERCIJARNI SEKTOR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čine sve uslužne djelat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549360"/>
            <a:ext cx="8569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U novije vrijem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sve više se primjenjuje podjela u 5 sekto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ARNI S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EKUNDARNI S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ERCIJARNI SEKTOR DIJELI SE N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TERCIJARNI SEKTOR U UŽEM SMISLU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čine ga sve djelatnosti koje pružaju klasične poslovne uslu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VARTARNI SEKTOR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čine ga sve djelatnosti koje stvaraju znanje ili formiraju kvalitetne ljudske potencij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VINARNI ILI KVINTARNI SEKTOR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čine ga sve djelatnosti koje pružaju moderne poslovne uslu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50920" y="40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AVILNOSTI PROMJENE GOSPODARSKE STRUKTURE U PROCESU GOSPODARSKOG RAZVO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628640"/>
            <a:ext cx="856908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 najnižem stupnju gospodarskog razvoja dominantan je udio primarnog sektora u strukturi nacionalnog gospodarstv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 srednjem stupnju razvijenosti raste udio sekundarnog sektora i uz njega neposredno vezanih djelatnosti tercijarnog sektora (prvo se razvijaju djelatnosti  koje omogućuju razvoj industrije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Na najvišem stupnju razvijenosti dominantan je udio tercijarnog sektora u strukturi nacionalnog gospodarstv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Times New Roman"/>
              </a:rPr>
              <a:t>Što je zemlja gospodarski razvijenija, uočljivija je razdioba tercijarnog sektora na: tercijarni sektor u užem smislu, kvartarni i kvinarni (kvintarni) sekt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1916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EKTORSKA STRUKTURA UOBIČAJENO SE ISKAZUJE KAO UDIO POJEDINOG SEKTORA U BRUTO DOMAĆEM PROIZVODU I U ZAPOSLE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ektorska struktura"/>
          <p:cNvPicPr/>
          <p:nvPr/>
        </p:nvPicPr>
        <p:blipFill>
          <a:blip r:embed="rId1"/>
          <a:stretch/>
        </p:blipFill>
        <p:spPr>
          <a:xfrm>
            <a:off x="190800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57080" y="404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istribucija radne snage na različitim stupnjevima ekonomske razvije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distribucija radne snage"/>
          <p:cNvPicPr/>
          <p:nvPr/>
        </p:nvPicPr>
        <p:blipFill>
          <a:blip r:embed="rId1"/>
          <a:stretch/>
        </p:blipFill>
        <p:spPr>
          <a:xfrm>
            <a:off x="684360" y="1647720"/>
            <a:ext cx="76327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5280" y="40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ektorska struktura dohotka za Republiku Hrvatsku prema izvješću Svjetske banke za 2003. godi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971640" y="1557360"/>
          <a:ext cx="69055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69055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6"/>
          <p:cNvSpPr/>
          <p:nvPr/>
        </p:nvSpPr>
        <p:spPr>
          <a:xfrm>
            <a:off x="1763640" y="602136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vor: prema World Development Report, World bank, Washington, 200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189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ruktura zaposlenih u pravnim osobama u RH prema NKD-u (stanje 31.3.2006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68360" y="892080"/>
            <a:ext cx="8136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49:33Z</dcterms:modified>
  <cp:revision>85</cp:revision>
  <dc:subject/>
  <dc:title>PowerPoint Presentation</dc:title>
</cp:coreProperties>
</file>