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BC3-BA13-4C30-B0F5-7AE3794F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0D5-25F0-4C81-963B-584995D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D1D-A7E7-4559-94CA-080D6DC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0F1-18FF-4F3A-AD3A-548E36C1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4197-0947-47E6-AC56-9AA5C07B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690-8384-4192-AEE4-6E8D4EF2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D52B-25EE-4E49-85E8-D589B4C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3117-34D0-4A05-BE4C-13B8FA52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73C-8DEB-4B49-9388-3D4A24B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894-4C1C-4912-BB2B-0E99658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0865-246D-4005-A1E2-9D2F785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436-7B21-4A76-B711-E84C820F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770-1F3F-4D37-8D52-C7A0448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C01E-CEEA-4B4A-A986-98BFED2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F35E-1679-4040-BC6A-BFC00B03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2D94-D085-4942-A4FC-7EF50696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25C5-5C3C-40BC-A491-0F67E048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842-70EB-4E95-9762-A2A8FD1A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1CA-6D14-47BD-A1DD-061D8D84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272-1DE9-436B-A750-A457C80E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3F7-DE8F-4B1E-9FE3-805B90F7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C35-4467-437D-8CD6-18750E17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B01-3F52-4B46-905E-2F7E620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0ED-46C9-4719-BD55-6A591E7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C97-EC07-40BB-AEFA-2348A8D8B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F0B-C047-4157-BBC3-9E0514D8C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65680" cy="553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18900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emografska tranzicija u Republici Hrvatsko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645336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Izvor: SLJRH-2001., str. 96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39800" y="965160"/>
            <a:ext cx="5864400" cy="492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2602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anovništvo RH prema dobnim skupinama, Popis 2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1657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Izvor: SLJRH-2001., str. 96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2320" y="947880"/>
            <a:ext cx="5499360" cy="49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89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anovništvo staro 15 i više godina prema završenoj školi (Popis 2001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61657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Izvor: SLJRH-2001., str. 96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16000" y="351000"/>
          <a:ext cx="684072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51000"/>
                    <a:ext cx="684072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332000" y="260280"/>
          <a:ext cx="6624720" cy="62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60280"/>
                    <a:ext cx="6624720" cy="62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476360" y="404640"/>
          <a:ext cx="6624720" cy="60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04640"/>
                    <a:ext cx="662472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Ekonomski fakultet Rijeka</cp:lastModifiedBy>
  <dcterms:modified xsi:type="dcterms:W3CDTF">2006-12-15T10:23:04Z</dcterms:modified>
  <cp:revision>96</cp:revision>
  <dc:subject/>
  <dc:title>PowerPoint Presentation</dc:title>
</cp:coreProperties>
</file>