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E6AC-A659-445E-9F9F-EE1FC46A6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9F75-8EE2-4989-B5AB-887A7821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DDAA-8415-4259-BFA6-3A489E544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C8AA-C877-47D4-8CF4-2F7A273D7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500F-E330-4C4A-A73B-C710FC25B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499D-D2CC-4F47-B5D9-595C9D3E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368A-E1AA-46D6-ACCE-B13EBA90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3FA70-35B0-4043-A9CB-DCF93636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C1AB-E738-47D4-85DC-3DEF8B7B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CB34-2276-473D-8633-363BC658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51A7-65FC-440F-AF41-65430290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D000-F753-442B-B62E-C96CBA83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69373-C1A2-46D6-A0E2-CEF677AC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1603-4763-43FA-8705-0D6E55A3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F571-FA8A-4987-8DD0-015A7E58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DB26-E9BE-4675-A814-0169EAD8A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B2DE-5567-4E2A-9E05-E3E4B77B2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F7E0-A921-449E-93F5-3566AA6D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0EB8-2E60-4B9F-898D-2210FAA6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D79E-7552-4B8C-A535-CCC5C621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77DB-8F0A-41B5-9FAE-61AF33FB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FE87-4EB7-497A-985D-A437BCE7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F22F-D83F-4FD2-BE30-4A412935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0520-17EB-4CAA-9A32-86D206DE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DB45-D05D-40C2-BF1D-A4F7B245F356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4150-A4B9-413B-8377-395B195274C4}" type="slidenum"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6"/>
          <p:cNvSpPr/>
          <p:nvPr/>
        </p:nvSpPr>
        <p:spPr>
          <a:xfrm>
            <a:off x="304920" y="304920"/>
            <a:ext cx="75438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Sveučilište u Rijeci                                                                     Ekonomski fakultet Rijek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GOSPODARSTVO HRVATSK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Prof. dr. sc. Nada Karaman Aksentijević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1116000" y="278136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ROIZVODNI I RAZVOJNI FAKTOR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179280" y="26028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PROIZVODNI I RAZVOJNI FAKTO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95280" y="981000"/>
            <a:ext cx="84247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Prirodni faktori (prirodni resursi, sekundarne sirovine, klimatski uvjeti, zemljopisni smještaj, korištenje i zaštita prirod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Ljudski faktor (stanovništvo i njegova obilježja, zaposlenost, proizvodnost rad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Materijalni faktori (proizvodni fondovi, investicije i njihova efikasnos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Znanost i tehnološki napred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Institucionalni faktori: a) tržišne institucije; b) institucije pravne države; c) institucije civilnog društ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250920" y="40464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POVIJESNI TIJEK STJECANJA PRIMATA POJEDINIH RAZVOJNIH FAKTO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468360" y="242100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Zeml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2050920" y="2421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R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276720" y="24210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Kap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5003640" y="2421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Organizac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7380360" y="242100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Znan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Line 10"/>
          <p:cNvSpPr/>
          <p:nvPr/>
        </p:nvSpPr>
        <p:spPr>
          <a:xfrm>
            <a:off x="1547640" y="263700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2771640" y="263700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4427640" y="263700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Line 13"/>
          <p:cNvSpPr/>
          <p:nvPr/>
        </p:nvSpPr>
        <p:spPr>
          <a:xfrm>
            <a:off x="6877080" y="263700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0T17:17:54Z</dcterms:created>
  <dc:creator>GZ</dc:creator>
  <dc:description/>
  <dc:language>en-US</dc:language>
  <cp:lastModifiedBy>Administrator</cp:lastModifiedBy>
  <dcterms:modified xsi:type="dcterms:W3CDTF">2008-01-17T17:31:52Z</dcterms:modified>
  <cp:revision>162</cp:revision>
  <dc:subject/>
  <dc:title>PowerPoint Presentation</dc:title>
</cp:coreProperties>
</file>