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162-8271-4F62-AEED-041A2497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6F1-3445-495E-BFE7-4E91330D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D99-4311-4492-A01A-DB7F9475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E30-D69C-42B5-ACA1-512B9C64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8DAD-D9B5-41BA-B64A-2764D63B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CB3D-2931-42EA-95BD-7EFE4C2D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2411-BDE7-407D-AB2C-03C92B2D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8C92-DCA6-4460-AD02-A0DE90F0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A2C5-61C4-4764-8B3C-B741DDFF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D917-CD51-43D4-8769-53F21DC0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AA34-FB63-444C-9674-24768A15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8EC-89C2-4110-B8D3-AEC76E44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B5C0-8A54-40A7-B7EE-EEA736C2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7DD6-1E63-4531-B6D8-CB37744F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BA3D-EEAC-4168-9674-CAF233C6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DF80-77B9-4E88-B190-2953F474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C7FA-21B9-47EA-8EAF-5947619D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5A55-8189-4E6C-A868-80BE2DB8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8C3B-37FE-4CDF-82D9-B7B35221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BE3-D477-4613-8E26-2A2F7BA4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1C2-B7D4-4D53-8BDE-355D6215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9A4-9184-4028-9BE4-F2DD4400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159A-D451-46F3-B345-ECC40DD6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6C0-92E0-4AE5-AEE4-4B39B67C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95C7-40C4-4700-A2D0-15435F3D8E73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8890-4CF8-476F-9BF5-205CC4614D82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304920" y="304920"/>
            <a:ext cx="7543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veučilište u Rijeci                                                                     Ekonomski fakultet Rije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GOSPODARSTVO HRVATS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rof. dr. sc. Nada Karaman Aksentijevi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116000" y="256536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AKROEKONOMSKI AGREG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BRUTI DOMAĆI PROIZVOD (BD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250920" y="333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METODE OBRAČUNA BDP-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68360" y="1628640"/>
            <a:ext cx="8351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Realna ili proizvodna meto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Osobna, personalna ili prihodna meto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Rashodna meto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24000" y="485640"/>
            <a:ext cx="8496000" cy="58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Realna ili proizvodna meto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- BDP se izračunava kao zbroj dodatnih vrijednosti svih djelatnosti. Na razini ukupnog gospodarstva u obračun se uključuju stavke koje nisu raspoređene po djelatnostima: usluge financijskog posredovanja i porezi na proizvode umanjene za subvencije na proizvo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2.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Osobna, personalna ili prihodna meto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- BDP se izračunava kao zbroj svih prihoda što ga ostvaruje stanovništvo jedne zemlje, a to s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hodi od rada (najamnine, nadnice, plać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hodi od trgovačkog kapitala (dividen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hodi od financijskog kapitala (kama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hodi od imovine (renta)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2400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3. Rashodna meto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755640" y="836640"/>
            <a:ext cx="792000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ema rashodnoj metodi mjeri se potrošnja gotovih proizvoda i usluga proizvedenih u nacionalnoj  ekonomij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Od ukupne potražnje (potrošnje) za robama i uslugama (osobna /O/, javna /J/, investicijska potrošnja /P/, vrijednost izvoza /I/) oduzima se vrijednost uvoza /U/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763640" y="3141720"/>
            <a:ext cx="56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BDP = O + J + P + (I-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95280" y="476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PRINCIPI ISKAZIVANJA BRUTO DOMAĆEG PROIZVOD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71640" y="1484280"/>
            <a:ext cx="741672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Teritorijalni princip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(dohodak se obračunava u mjestu u kojem se odvija poslovanj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cc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Organizacijski princip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(dohodak se obračunava u mjestu gdje je sjedište poduzeć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cc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Princip čiste djelatnosti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(dohodak se obračunava u djelatnosti u kojoj je ostvar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4. 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Princip pretežite djelatn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(dohodak se obračunava u djelatnosti u kojoj se odvija pretežiti dio poslovanja poduzeć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324000" y="333360"/>
            <a:ext cx="8496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DINAMIKA KRETANJA BDP POKAZUJE DA LI ZEMLJA OSTVARUJE EKONOMSKI RAST, STAGNACIJU ILI ZAOSTAJANJ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Ekonomski rast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– BDP se iz godine u godinu poveć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Ekonomska stagnacij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– BDP se ne mijenja, ostaje na istoj razi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Ekonomsko zaostajanje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– BDP se iz godine u godinu smanju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95280" y="486900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33"/>
                </a:solidFill>
                <a:latin typeface="Times New Roman"/>
              </a:rPr>
              <a:t>OPREZNO S POJMOVIMA RASTA, STAGNACIJE I ZAOSTAJANJA U UVJETIMA INFLACIJE! KOD IZRAČUNA KORISTITI REALNE, A NE NOMINALNE VRIJEDNOSTI!!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95280" y="2637000"/>
            <a:ext cx="8280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IZRAČUN STOPA RASTA BDP U KONTINUIRANIM I DISKONTINUIRANIM VREMENSKIM NIZOV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4"/>
          <p:cNvGraphicFramePr/>
          <p:nvPr/>
        </p:nvGraphicFramePr>
        <p:xfrm>
          <a:off x="1547640" y="3463920"/>
          <a:ext cx="651996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463920"/>
                    <a:ext cx="651996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6"/>
          <p:cNvGraphicFramePr/>
          <p:nvPr/>
        </p:nvGraphicFramePr>
        <p:xfrm>
          <a:off x="1547640" y="189000"/>
          <a:ext cx="6480360" cy="317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189000"/>
                    <a:ext cx="648036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4"/>
          <p:cNvGraphicFramePr/>
          <p:nvPr/>
        </p:nvGraphicFramePr>
        <p:xfrm>
          <a:off x="611280" y="1395360"/>
          <a:ext cx="7705800" cy="41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95360"/>
                    <a:ext cx="7705800" cy="41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4"/>
          <p:cNvGraphicFramePr/>
          <p:nvPr/>
        </p:nvGraphicFramePr>
        <p:xfrm>
          <a:off x="826920" y="692280"/>
          <a:ext cx="7848720" cy="41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92280"/>
                    <a:ext cx="7848720" cy="41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4000" y="33336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BRUTO DOMAĆI PROIZV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95280" y="1125360"/>
            <a:ext cx="83534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Pojam BDP (GDP) i GN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Izračun BD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Vrijednosna struktura BD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Struktura BDP s motrišta potrošn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Utjecaj uvoza i izvoza na mogućnost potrošn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Koncepcije za izračun BD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Metode izračuna BD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Principi iskazivanja BD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Nominalni i realni BD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468360" y="476280"/>
            <a:ext cx="8209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Bruto domaći proizvod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je ukupna vrijednost ostvarene proizvodnje u  zemlji tijekom jedne poslovne godine. Vrijednosno je identičan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GDP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-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GNP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je ukupna vrijednost ostvarene proizvodnje u zemlji uvećana za vrijednost proizvodnje ostvarene domicilnim kapitalom u inozemstv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Kod obračuna BDP  i GDP primjenjuje se princip domicilnosti proizvodnje, a kod GNP princip domicilnosti kapita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539640" y="1197000"/>
            <a:ext cx="82803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BVP – Mt = BDP (bruto dodana vrijedno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hr-HR" sz="2400" spc="-1" strike="noStrike">
                <a:solidFill>
                  <a:srgbClr val="ffffff"/>
                </a:solidFill>
                <a:latin typeface="Times New Roman"/>
              </a:rPr>
              <a:t>BVP – bruto vrijednost proizvod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i="1" lang="hr-HR" sz="2400" spc="-1" strike="noStrike">
                <a:solidFill>
                  <a:srgbClr val="ffffff"/>
                </a:solidFill>
                <a:latin typeface="Times New Roman"/>
              </a:rPr>
              <a:t>MT – materijalni troško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33"/>
                </a:solidFill>
                <a:latin typeface="Times New Roman"/>
              </a:rPr>
              <a:t>Zašto od  bruto vrijednosti proizvodnje moramo oduzeti  materijalne troškove  da bismo izračunali vrijednost ostvarene proizvodnje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BDP – Am = NDV (neto dodana vrijedno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i="1" lang="hr-HR" sz="2400" spc="-1" strike="noStrike">
                <a:solidFill>
                  <a:srgbClr val="ffffff"/>
                </a:solidFill>
                <a:latin typeface="Times New Roman"/>
              </a:rPr>
              <a:t>Am - amortiz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95280" y="76500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Vrijednosna struktura bruto domaćeg proizvoda :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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Troškovi fiksnih fondo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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orezi i doprino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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Neto plać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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Kam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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oslovni višak (jedna od komponenti poslovnog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viška je akumulacija koje je vlastiti izv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investicijskih sredstav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24000" y="404640"/>
            <a:ext cx="842472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33"/>
                </a:solidFill>
                <a:latin typeface="Times New Roman"/>
              </a:rPr>
              <a:t>O VISINI BDP OVISE MOGUĆNOSTI POTROŠNJE U ZEMLJI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ff0033"/>
                </a:solidFill>
                <a:latin typeface="Times New Roman"/>
              </a:rPr>
              <a:t>!!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ffcc66"/>
                </a:solidFill>
                <a:uFillTx/>
                <a:latin typeface="Times New Roman"/>
              </a:rPr>
              <a:t>Struktura BDP s motrišta potrošnje (oblici potrošnje u nacionalnom gospodarstvu)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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Osobna potrošnja 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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Javna potrošnj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čine kategoriju konačne potrošnj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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Investicijska potrošnj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cc66"/>
                </a:solidFill>
                <a:latin typeface="Times New Roman"/>
              </a:rPr>
              <a:t>Na veličinu nacionalne potrošnje, uz BDP utječu i vrijednos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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Uvoza (povećava mogućnosti potrošnj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 </a:t>
            </a: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Izvoza (umanjuje mogućnosti potrošnj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5"/>
          <p:cNvGraphicFramePr/>
          <p:nvPr/>
        </p:nvGraphicFramePr>
        <p:xfrm>
          <a:off x="971640" y="257040"/>
          <a:ext cx="7200720" cy="634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57040"/>
                    <a:ext cx="7200720" cy="634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68360" y="260280"/>
            <a:ext cx="84247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KONCEPCIJE IZRAČUNA BDP-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KONCEPCIJA PROIZVEDENOG DOHOTKA - zbrajaj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se dohoci svih djelatnost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KONCEPCIJA PRIMLJENOG DOHOTKA – zbroj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dohodaka svih djelatnosti pribrajaju se dohoci koj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pritječu iz inozemstv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39640" y="83664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907920"/>
            <a:ext cx="9144000" cy="54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KONCEPCIJA UTROŠENOG DOHOT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ako uz pomoć potrošnje mjeri </a:t>
            </a: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kolika je u jednoj zemlji bila proizvodnja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 (koliki je bio proizvedeni dohodak), tada se od zbroja osobne, javne i investicijske potrošnje oduzima vrijednost uvoza, a dodaje vrijednost izvoza (ili se zbraja saldo platne bila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ako mjeri </a:t>
            </a: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kolika je u zemlji bila potrošnja proizvoda i usluga proizvedenih u nacionalnom gospodarstvu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, tada se od zbroja osobne, javne i investicijske potrošnje oduzima vrijednost uvo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7:17:54Z</dcterms:created>
  <dc:creator>GZ</dc:creator>
  <dc:description/>
  <dc:language>en-US</dc:language>
  <cp:lastModifiedBy>Administrator</cp:lastModifiedBy>
  <dcterms:modified xsi:type="dcterms:W3CDTF">2008-01-17T17:39:13Z</dcterms:modified>
  <cp:revision>144</cp:revision>
  <dc:subject/>
  <dc:title>PowerPoint Presentation</dc:title>
</cp:coreProperties>
</file>