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61B-24D1-420A-814D-E8A3D7E5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922-539B-4356-89EC-3F0C1DD3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600-B126-4CD5-A8DD-A943466E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9F7-8393-4CFC-834A-ADA34E71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295F-808D-4E95-9278-15999FA7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1623-4E1A-4F97-B944-003244E5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D6C7-2369-468D-A9F4-D4733E80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B934-5D75-4693-A0BE-ACDF6D67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E56F-8B9D-495E-81F5-BD125018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65F3-73F8-48A5-B545-4E791516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A26A-2296-4DAA-B019-3243F09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B37-264B-4928-8164-13A0759A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5A8A-76D7-4B51-B44E-023CA203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1BC8-C4A9-4C46-ABAB-37ED9C6E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ADE8-FA68-4751-A8BC-BDD8913D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134E-57DA-4D5B-B902-4C068E21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3724-EE60-40D3-A9A0-ABEE76F8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F61-09A6-4681-ABB1-0A102F9C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2CE-8C02-45EF-8295-73ACD3B3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2D1-B70D-4CCF-861B-81FB3C88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0CE-3381-4767-9F81-A58F3191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F0A-5DA1-445B-B49F-2A6B670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F5A-F57A-41B0-A343-97A512D5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B19-EC63-4CA7-AA69-FD913DAB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A66E-346E-4874-9A26-173A601BC61B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09F3-A20E-4A6A-A086-D35B4A4E2624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565360"/>
            <a:ext cx="7086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KONOMSKA STRUK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GOSPODARSKA STRUK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GOSPODARSKI SUSTA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KONOMSKA POLITIKA</a:t>
            </a:r>
            <a:r>
              <a:rPr b="1" lang="hr-H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0920" y="765000"/>
            <a:ext cx="83534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Ekonomska politik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označava aktivnosti što ih nositelji ekonomske politike poduzimaju radi ostvarenja postavljenih ciljeva koristeći se pri tome mjerama, sredstvima ili instrumentima ekonomske politik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Nositelji ekonomske politike s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arlament tj. sabor u fazi utvrđivanja ciljeva ekonomske polit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vlada u fazi utvrđivanja mjera ekonomske polit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vi nositelji društvenog procesa rada u fazi provođenja ekonomske polit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71640" y="54936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</a:rPr>
              <a:t>PREDMET IZUČAVANJA NACIONALNE EKONOMIKE Č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476360" y="2349360"/>
            <a:ext cx="684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EKONOMSKA STRUK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GOSPODARSKA STRUK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EKONOMSKI ILI GOSPODARSKI SUST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EKONOMSKA POLI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11280" y="620640"/>
            <a:ext cx="7993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Ekonomska struktur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je ukup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materijalnih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sredstva za rad, predmeti rada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ljudskih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zaposleni, radna snaga, stanovništv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društvenih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(proizvodni odnosi, ekonomsko-funkcionalni odnos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uvjeta proizvodn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1280" y="436572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Gospodarska struktur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je udio pojedinih sektor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djelatnosti, ekonomskih aktivnosti)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u osnovnim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makroekonomskim agregatim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(vrijednosti ostvarene proizvodnje, zaposlenosti, vrijednosti proizvodnih fondova, investicijama, uvozu, izvozu, vrijednosti ukupne vanjskotrgovinske razmjen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539640" y="123840"/>
          <a:ext cx="8064720" cy="66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3840"/>
                    <a:ext cx="8064720" cy="66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5"/>
          <p:cNvGraphicFramePr/>
          <p:nvPr/>
        </p:nvGraphicFramePr>
        <p:xfrm>
          <a:off x="971640" y="130320"/>
          <a:ext cx="7200720" cy="65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30320"/>
                    <a:ext cx="7200720" cy="65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95280" y="234936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66"/>
                </a:solidFill>
                <a:uFillTx/>
                <a:latin typeface="Times New Roman"/>
              </a:rPr>
              <a:t>Ekonomski ili gospodarski sustav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čini ukupnost organiziranih oblika i metoda društvene organizacije proizvodn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39640" y="404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OSNOVNE ODREDNICE GOSPODARSKOG SUSTAV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4360" y="1773360"/>
            <a:ext cx="7920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Kakav je položaj gospodarskog subjekta u procesu reprodukcij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a) da li je gospodarski subjekt samostalan u odlučivanju o tome što će i koliko će proizvodi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) kako se utvrđuju cijene proizvod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c) da li je gospodarski subjekt samostalan u odlučivanju o raspodjel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68360" y="549360"/>
            <a:ext cx="8207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2.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Kako se uspostavljaju odnosi između gospodarskih subjeka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a) posredstvom tržiš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) plansko centralistič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c) prožimanjem tržišta i pl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39640" y="3357720"/>
            <a:ext cx="799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3.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Što je cilj privređivanj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a) stjecanje prof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) zadovoljenje potr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c) prožetost ciljeva a) i b) uz veću ili manju preva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jednog od nj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poslovni_subjekt"/>
          <p:cNvPicPr/>
          <p:nvPr/>
        </p:nvPicPr>
        <p:blipFill>
          <a:blip r:embed="rId1"/>
          <a:stretch/>
        </p:blipFill>
        <p:spPr>
          <a:xfrm>
            <a:off x="1476360" y="0"/>
            <a:ext cx="628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7:55:53Z</dcterms:modified>
  <cp:revision>77</cp:revision>
  <dc:subject/>
  <dc:title>PowerPoint Presentation</dc:title>
</cp:coreProperties>
</file>