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4A4-0FAE-4380-A837-2A0646BE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E43-00A3-4502-8E37-C189D9F8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518-7256-470E-81F3-857C09E8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1BD-B180-41DD-9030-54832652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FB8A-DCB0-416C-9217-EE4C28FD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39AB-25C1-41A2-9482-AA4EB2DE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D5DE-2427-45C8-AB15-E375B4E7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4ABE-6B2A-4952-9E0E-AAD16501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DCEC-A3F6-4C5B-91CF-D68CE413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AAA7-4B8A-4D11-90C4-9DC65E33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1CF2-CA9C-4127-BBB5-C4139970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E4C-2DB1-4C36-94DB-D3CA7044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B856-59DF-406E-9005-99DD1F25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94E0-83AD-4E18-AD3B-D9DDCC8B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F1C4-6084-48C8-B028-952D8DC5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218E-E63A-4202-B3A7-11F14FFC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1E1E-BBDF-4E81-BAEC-B4434A44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155-C9AE-40CF-AF6D-E2621587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3BF-3E2C-4839-B368-9C65F685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C12-91DF-4071-940D-156ED9F7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943-5B06-4BC7-93A1-76BB7160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75F-FC7C-444F-8903-15D62C9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519-F96F-455C-A7BC-E1A67192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57E-D660-4081-94B1-DB3D44F0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89AF-FBF1-4D0D-B9B6-9ABBE8FF0D96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10B5-CAD2-4CCB-A86A-B30E97618B72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304920" y="3049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veučilište u Rijeci                                                                     Ekonomski fakultet Rije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OSPODARSTVO HRVATS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f. dr. sc. Nada Karaman Aksentijevi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16000" y="2781360"/>
            <a:ext cx="7086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ASTAVNI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LITER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AČIN POLAGANJA ISP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539640" y="333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NASTAVNI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907920"/>
            <a:ext cx="79214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Ekonomska struktura, gospodarska struktura, ekonomski sustav, ekonomska politika </a:t>
            </a:r>
            <a:r>
              <a:rPr b="1" i="1" lang="hr-HR" sz="18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Geneza ekonomskih aktivnosti i njihovo razvrstavanje u nacionalnom gospodarstvu – Nacionalna i međunarodne klasifikacije ekonomskih aktivnosti </a:t>
            </a:r>
            <a:r>
              <a:rPr b="1" i="1" lang="hr-HR" sz="18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Sektorska struktura nacionalnog gospodarstva, pravilnosti promjene sektorske strukture u procesu gospodarskog razvoja </a:t>
            </a:r>
            <a:r>
              <a:rPr b="1" i="1" lang="hr-HR" sz="18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Pojam i sadržaj osnovnih makroekonomskih agregata te njihova primjena u sustavu nacionalnih računa </a:t>
            </a:r>
            <a:r>
              <a:rPr b="1" i="1" lang="hr-HR" sz="18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Bruto domaći proizvod: pojam, vrijednosna struktura BDP-a, koncepcije i metode izračuna, nominalni i realni BDP </a:t>
            </a:r>
            <a:r>
              <a:rPr b="1" i="1" lang="hr-HR" sz="18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Raspodjela bruto domaćeg proizvoda </a:t>
            </a:r>
            <a:r>
              <a:rPr b="1" i="1" lang="hr-HR" sz="18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Faktori proizvodnje i razvoja </a:t>
            </a:r>
            <a:r>
              <a:rPr b="1" i="1" lang="hr-HR" sz="18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250920" y="333360"/>
            <a:ext cx="871380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tanovništvo (demografske teorije i demografske politike, brojnost stanovništva – prirodno i mehaničko kretanje stanovništva, izračun vitalnih koeficijenata, strukture stanovništva i njihov utjecaj na gospodarski razvoj) -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oizvedeno društveno bogatstvo (vrste proizvodnih fondova, izračunavanje vrijednosti proizvodnih fondova, utjecaj osnovnih ekonomskih tijekova na veličinu proizvedenog društvenog bogatstva) -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Investicije i investicijska politika (utjecaj investicija i investicijske politike na veličinu i kvalitetu proizvodnih fondova te na ekonomski rast nacionalnog gospodarstva) -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Ekonomska politika: nositelji, ciljevi, instrumenti; monetarna politika; fiskalna politika; politika ek. odnosa s inozemstvom; politika dohotka; politika tržišta i cijena; tipovi ekonomske politike –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Denona Bogo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tabilnost gospodarstva i ekonomska politika stabilizacije (komponente ekonomske stabilnosti; obilježja stabilnosti ek. politika stabilizacije: kratkoročna i dugoročna stabilizacijska politika; indeks stabilnosti) –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Denona Bogo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0920" y="260280"/>
            <a:ext cx="871380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Teorijsko-metodološki pristup problemima ekonomskog rasta i ekonomskog razvoja; metode analize ekonomskog razvoja) –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Analiza gospodarske strukture uz pomoć odabranih skupina dinamičkih koeficijenata –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Analiza promjene gospodarske strukture u procesu gospodarskog razvoja –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Analiza gospodarskog razvoja Hrvatske (razvojni rezultati i razvojna ograničenja) –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Uloge regionalnih i lokalnih zajednica u gospodarskom razvoju Hrvatske –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Denona Bogo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eđunarodna razmjena u koncepciji otvorenog gospodarstva –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eđunarodna razmjena Hrvatske (veličina, kretanje, struktura) –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latna bilanca Republike Hrvatske –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(prof. dr. sc. Nada Karaman Aksentijević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2400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ISPITNA LITERA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24000" y="1125360"/>
            <a:ext cx="8208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grupa autora (redaktor i urednik Družić, I.): Hrvatski gospodarski razvoj, Ekonomski fakultet Zagreb i Politička kultura, Zagreb, 2003., 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str.: 23-55; 77-135; 175-287; 461-49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Družić, I.: Resursi i tržišta hrvatskog gospodarstva, Politička kultura, Zagreb, 2004., 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str.: 23-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404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66"/>
                </a:solidFill>
                <a:latin typeface="Times New Roman"/>
              </a:rPr>
              <a:t>NAČIN POLAGANJA ISP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95280" y="1052640"/>
            <a:ext cx="8280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spit se polaže pismeno. Zadaća sadrži 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četiri tipa zadatak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 prvoj skupini vrši se odabir između </a:t>
            </a:r>
            <a:r>
              <a:rPr b="1" lang="hr-HR" sz="2400" spc="-1" strike="noStrike">
                <a:solidFill>
                  <a:srgbClr val="ff0033"/>
                </a:solidFill>
                <a:latin typeface="Times New Roman"/>
              </a:rPr>
              <a:t>TOČNE i NETOČNE tvrd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 drugoj skupini vrši se odabir </a:t>
            </a:r>
            <a:r>
              <a:rPr b="1" lang="hr-HR" sz="2400" spc="-1" strike="noStrike">
                <a:solidFill>
                  <a:srgbClr val="ff0033"/>
                </a:solidFill>
                <a:latin typeface="Times New Roman"/>
              </a:rPr>
              <a:t>TOČNOG(IH) IZMEĐU NEKOLIKO PONUĐENIH ODGOV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 trećoj skupini moraju se </a:t>
            </a:r>
            <a:r>
              <a:rPr b="1" lang="hr-HR" sz="2400" spc="-1" strike="noStrike">
                <a:solidFill>
                  <a:srgbClr val="ff0033"/>
                </a:solidFill>
                <a:latin typeface="Times New Roman"/>
              </a:rPr>
              <a:t>NADOPUNITI IZREČENE TVRD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četvrtu skupinu čine </a:t>
            </a:r>
            <a:r>
              <a:rPr b="1" lang="hr-HR" sz="2400" spc="-1" strike="noStrike">
                <a:solidFill>
                  <a:srgbClr val="ff0033"/>
                </a:solidFill>
                <a:latin typeface="Times New Roman"/>
              </a:rPr>
              <a:t>RAČUNSKI ZADA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50920" y="508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edoviti studenti mogu ispit položiti putem dva kolokvija. Student mora položiti oba kolokvija, a konačna ocjena je prosjek ocjena ostvarenih na kolokvij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17:54Z</dcterms:created>
  <dc:creator>GZ</dc:creator>
  <dc:description/>
  <dc:language>en-US</dc:language>
  <cp:lastModifiedBy>Administrator</cp:lastModifiedBy>
  <dcterms:modified xsi:type="dcterms:W3CDTF">2008-01-17T18:01:27Z</dcterms:modified>
  <cp:revision>142</cp:revision>
  <dc:subject/>
  <dc:title>PowerPoint Presentation</dc:title>
</cp:coreProperties>
</file>