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BEE-C387-450B-8DDF-45EBA690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E06-655A-446B-97D5-A33BA59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742-E381-45AA-BA67-C4C939F7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4BA-DE2C-4623-A736-B5AC523B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1CBB-AE9B-41E9-B6C2-F4305D19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A16-1D4C-4F7C-9301-89BF682F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B865-C879-44FA-96A0-2D039247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961F-6A5B-4B19-AD54-36489A1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2E85-3CAD-413C-910A-39E5B0D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13D-426E-4857-B063-79A7BFE3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D58C-B1BA-4AA1-8138-FF1BD66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06F-EB7F-47C2-8965-A70FD62D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216-703E-4F2B-95D8-D5FFD55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1C6-629A-45FA-A357-F3E7035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A0CC-172F-465F-8E6A-4E0B691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9FF7-6DF5-4BE1-991B-31EE7754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359-8DEC-4607-91E0-34D79AC0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60B-7989-4924-B4C7-D5C3F03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055-91CA-43B6-B996-65DDA091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71B-7FAA-4927-8667-0F8CCC6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B31-D45A-4E61-986C-B81093F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C3C-A0BC-425F-8A81-749F622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39E-03FD-40BF-8BC8-CCECFC5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C63-0884-4333-8673-0BB40B0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C3FA-7BD8-49CE-98BA-144C1D54861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E4B-92FD-404D-BE99-FD9540916779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EĐUNARODNA RAZMJ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95280" y="1197000"/>
            <a:ext cx="8353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Što uvoziti, a što izvozi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 kojoj mjeri štititi domaću proizvodnju u odnosu na uvoz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ojoj proizvodnji za izvoz dati prioritet tj. koju proizvodnju podupirati da bi se mogla razviti u svjetski značajnog proizvođača i izvoznik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 kolikoj mjeri stimulirati izvoz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468360" y="404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TEORIJE MEĐUNARODNE RAZMJ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981000"/>
            <a:ext cx="7632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Teorija apsolutnih prednosti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(A. Smit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Teorija komparativnih pred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icardova teorija (specijalizacija zasnovana na višoj produktivnosti proizvodnih fakto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Heckscher-Ohlinova teorija (specijalizacija zasnovana na višoj raspoloživosti proizvodnih fakto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9640" y="3429000"/>
            <a:ext cx="7920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Protekcionistička teorija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(A. Hamilton, F. Li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Kravisova teor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Linderova teor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Teorija životnog ciklusa poduzeć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Porterova teorija konkurentnih pred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50920" y="260280"/>
            <a:ext cx="85690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Kravisova teorija</a:t>
            </a:r>
            <a:r>
              <a:rPr b="1" lang="hr-HR" sz="2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Struktura vanjske trgovine ovisi 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prirodnim resursi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novacijama koje djeluju na elastičnost domaće ponude rob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852640"/>
            <a:ext cx="871380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Linderova teorija</a:t>
            </a:r>
            <a:r>
              <a:rPr b="1" lang="hr-HR" sz="2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Razlikuje čimbenike koji utječu na strukturu razmjene primarnih i industrijskih proizvo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Trgovina primarnim proizvodima uvjetovana je njihovom prirodnom raspoloživošć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Na trgovinu industrijskim proizvodima najjače utječu: tehnološka superiornost, menadžerska vještina i ekonomija opseg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0920" y="119700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Teorija životnog ciklusa proizvod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utemeljitelj Raymond Verno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a razmjena mijenja se pod utjecajem tehnoloških promj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zvijene zemlje koncentriraju se u proizvodnji dobara visokih tehn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anje razvijene zemlje orijentiraju se na proizvodnje koje koriste manje zahtjevne tehnologi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197000"/>
            <a:ext cx="8496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Porterova teorija konkurentnih prednost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u model razmjene uvodi četiri čimbenika konkurentnos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faktorske (vještina, kapital, infrastruk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duzetničke strategije, strukture, konkuren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vjeti potražnje i povezane industrij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ktivna uloga države u stvaranju preduvjeta za povećanje konkurentnosti (prvenstveno neizravnim pu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68360" y="476280"/>
            <a:ext cx="8207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FAKTORI UTJECAJA NA UKLJUČIVANJE ZEMLJE U MEĐUNARODNU RAZMJ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Raspoloživi proizvodni faktor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o njima ovisi proizvodna struktura i proizvodna specijalizacij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Veličina unutarnjeg tržiš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Mjere ekonomske politik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u odnosu na međunarodnu razmjenu – one je mogu poticati ili ograničavati (porezna politika, politika tečaja nacionalne valute, izvozne subvencije, izvozne premi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66"/>
                </a:solidFill>
                <a:latin typeface="Times New Roman"/>
              </a:rPr>
              <a:t>POKAZATELJI STUPNJA UKLJUČIVANJA ZEMLJE U MEĐUNARODNU RAZMJE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pokazatelji MR"/>
          <p:cNvPicPr/>
          <p:nvPr/>
        </p:nvPicPr>
        <p:blipFill>
          <a:blip r:embed="rId1"/>
          <a:stretch/>
        </p:blipFill>
        <p:spPr>
          <a:xfrm>
            <a:off x="2771640" y="765000"/>
            <a:ext cx="55944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33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NAJZNAČAJNIJI POZITIVNI UČINCI MEĐUNARODNE RAZMJENE NA NACIONALNO GOSPODARSTVO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1413000"/>
            <a:ext cx="792000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bolje zadovoljenje potreba potrošač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veća zaposlenost proizvodnih faktora i proizvodnih kapacite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podizanje konkurentne sposobnosti domaće proizvodnj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povećanje i nova raspodjela realnog dohot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zjednačavanje troškova i cijena proizvodnih faktora i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proizvodnih učina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ubrzanje gospodarskog razvit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6"/>
          <p:cNvGraphicFramePr/>
          <p:nvPr/>
        </p:nvGraphicFramePr>
        <p:xfrm>
          <a:off x="250920" y="1208160"/>
          <a:ext cx="871380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08160"/>
                    <a:ext cx="871380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5"/>
          <p:cNvGraphicFramePr/>
          <p:nvPr/>
        </p:nvGraphicFramePr>
        <p:xfrm>
          <a:off x="179280" y="620640"/>
          <a:ext cx="87138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7138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836640"/>
            <a:ext cx="864216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r-HR" sz="2100" spc="-1" strike="noStrike">
                <a:solidFill>
                  <a:srgbClr val="ffff00"/>
                </a:solidFill>
                <a:latin typeface="Times New Roman"/>
              </a:rPr>
              <a:t>MOŽE LI JEDNO NACIONALNO GOSPODARSTVO OPSTATI I MOŽE LI SE RAZVIJATI NE RAZMJENJUJUĆI SVOJE ROBE I USLUGE, SVOJ RAD, KAPITAL I ZNANJE S DRUGIM ZEMLJAMA SVIJETA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r-HR" sz="2100" spc="-1" strike="noStrike">
                <a:solidFill>
                  <a:srgbClr val="ffff00"/>
                </a:solidFill>
                <a:latin typeface="Times New Roman"/>
              </a:rPr>
              <a:t>MOŽE LI SE JEDNA ZEMLJA U ODNOSU NA OSTALI SVIJET PONAŠATI AUTARKIČNO (SAMODOVOLJNO) ŠTO U ODNOSU NA NJENO GOSPODARSTVO ZNAČI PRIMJENU MODELA ZATVORENOG GOSPODARSTVA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12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r-HR" sz="2100" spc="-1" strike="noStrike">
                <a:solidFill>
                  <a:srgbClr val="ffff00"/>
                </a:solidFill>
                <a:latin typeface="Times New Roman"/>
              </a:rPr>
              <a:t>ŠTO SE O NAVEDENIM PITANJIMA MOŽE NAUČITI IZ GOSPODARSKE POVIJESTI SVIJETA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333360"/>
            <a:ext cx="8424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ŠTO UZROKUJE NUŽNOST UKLJUČIVANJA SVAKE ZEMLJE U MEĐUNARODNU RAZMJEN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iti jedna zemlja nema na svojim prostorima zastupljene sve vrste prirodnih bogat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spoloživost proizvodnih faktora vrlo je različita u pojedinim zemljama svij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40" y="4076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00"/>
                </a:solidFill>
                <a:uFillTx/>
                <a:latin typeface="Times New Roman"/>
              </a:rPr>
              <a:t>Kako se to odražava na gospodarsku (proizvodnu) strukturu zemlj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628640"/>
            <a:ext cx="8280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ocesi globalizacije svijeta rezultirali su snažnom ekspanzijom međunarodne razmje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 ekonomskog motrišta globalizacija podrazumijeva smanjenje barijera u međunarodnom kretanju proizvodnih faktora i proizvodnih učina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4000" y="476280"/>
            <a:ext cx="842472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Proces ekonomske globalizacije rezulti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narastanjem udjela izvoza u bruto domaćem proizvodu svije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rastom međunarodnih investicij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sve prisutnijim procesima transfera tehnologije i znanj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većom pokretljivošću radne sn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350028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stodobno procese globalizacije obilježava sve intenzivnije povezivanje nacionalnih gospodarstava, narastanje ekonomskih integracija i njihovo sve veće uključivanje u svjetsko gospodarstv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50920" y="333360"/>
            <a:ext cx="8496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UPNJEVI EKONOMSKE INTEGRACIJE PREMA B. BALLASS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Zona slobodne trgovin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Free Trade Ar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klanjaju se carinske zapreke u trgovini između zemalja čla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vaka od zemalja članica vodi vlastitu nezavisnu trgovinsku politiku prema zemljama nečlanic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4000" y="4292640"/>
            <a:ext cx="849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2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Carinska un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lobodno kretanje roba između zemalja čla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Jedinstveni sustav trgovinskih ograničenja prema zemljama nečlanica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04640"/>
            <a:ext cx="8497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3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Zajedničko tržišt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Common Mark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lobodna trgovina između zemalja čla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lobodno kretanje kapitala, rada i poduzetništva između zemalja čla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Jedinstvena trgovinska ograničenja prema zemljama nečlanic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3645000"/>
            <a:ext cx="856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4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Ekonomska un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ma sva obilježja zajedničkog tržiš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stoji središnja zajednička banka, jedinstveni monetarni sustav, jedinstveni porezni sustav i zajednička vanjska ekonomska poli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539640" y="47628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5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otpuna ekonomska integr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tpuno slobodna prohodnost svih proizvodnih fak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Jedinstvena socijalna i ekonomska poli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stojanje i prihvaćanje supranacionalne vlasti u zakonodavstvu i izvršno pravnom susta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539640" y="836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47628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5280" y="2349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Na koja sve pitanja trebaju dati odgovor nositelji ekonomske politike glede uključivanja nacionalnog gospodarstva u međunarodnu razmjen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6:51:32Z</dcterms:modified>
  <cp:revision>122</cp:revision>
  <dc:subject/>
  <dc:title>PowerPoint Presentation</dc:title>
</cp:coreProperties>
</file>