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9A29-A776-4351-92D7-EF99E3E6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2CF6-C49F-4DE6-BA4A-1CD64624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9222-F2AA-4BFB-8F1B-AE8DC8CF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B458-6C20-4299-B9CA-74B6E012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7A24-898D-4824-8AA4-366CCFB6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6644-680D-44EC-9E07-8C914779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AFD0-729E-451B-A80D-5BD1B1DD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8788-6521-42CE-84BD-A8948BEF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0439-9C39-44BA-A657-22077509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D744-3FCC-49EA-A11C-BBE5D0ED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C3C3-52A2-41E6-AA8A-6C4D86B1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5B7F-60CF-41B5-873B-2ED30D94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4D1A-2F74-4458-90E4-28C5952F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742D-41CA-4306-86EE-91C7C167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1748-C196-4E1E-9314-1722629C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47DC-F06F-4D6E-8646-99D6C5F3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FF49-D251-4286-8049-C687C2756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3A8A-2AE2-4890-AA09-829169CD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B1E4-28CE-4390-98BB-92CE0ED3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66AB-A105-4DA8-943D-71AB02A9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5065-B2F0-452B-A095-EDDF89FA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299F-AAA9-40B6-8EFA-C505FE64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2ABC-2FC6-41A2-AD6F-CDA17FB8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CBCF-6D1D-4B5A-8BB5-3A819D4F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446B-5741-4C19-9C38-E789B10987A7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D4D9-888C-4E44-8244-8E4B0E70F502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6"/>
          <p:cNvSpPr/>
          <p:nvPr/>
        </p:nvSpPr>
        <p:spPr>
          <a:xfrm>
            <a:off x="304920" y="304920"/>
            <a:ext cx="7543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Sveučilište u Rijeci                                                                     Ekonomski fakultet Rije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GOSPODARSTVO HRVATS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rof. dr. sc. Nada Karaman Aksentijevi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116000" y="256536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ANALIZA PROMJENE GOSPODARSKE STRUKTURE PUTEM DINAMIČKIH KOEFICIJENATA</a:t>
            </a:r>
            <a:r>
              <a:rPr b="1" lang="hr-H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24000" y="333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ffff"/>
                </a:solidFill>
                <a:latin typeface="Times New Roman"/>
              </a:rPr>
              <a:t>III.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00ffff"/>
                </a:solidFill>
                <a:latin typeface="Times New Roman"/>
              </a:rPr>
              <a:t>DINAMIČKI KOEFICIJENTI KOJI POKAZUJU BRZINU REPRODUCIRANJA (ZAMJENJIVOSTI) PROIZVODNIH FAKT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11280" y="1844640"/>
            <a:ext cx="81374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III. 1. Odnos između fiksnih fondova i amortiza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F : 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(duljina amortizacijskog razdoblj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Može se koristiti i inverzni od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Am :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(stopa amortizacije ili prosječna godišnja stopa otpisa vrijednosti fiksnih fondov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24000" y="404640"/>
            <a:ext cx="849600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III. 2. Odnos između materijalnih troškova i obrtnih fondov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Mt  : f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(koeficijent obrtaja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365 : koeficijent obrtaja = dani vezivanja obrtnih fondov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24000" y="3716280"/>
            <a:ext cx="864216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III. 3. Odnos između fonda plaća i broja zaposleni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FP : 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(prosječna zarada po zaposlenom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Pokazuje kvalitetu reproduciranja radne snag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1619280" y="2997360"/>
            <a:ext cx="2448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4932360" y="2997360"/>
            <a:ext cx="2448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Oval 8"/>
          <p:cNvSpPr/>
          <p:nvPr/>
        </p:nvSpPr>
        <p:spPr>
          <a:xfrm>
            <a:off x="4427640" y="2924280"/>
            <a:ext cx="144360" cy="1443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324000" y="26028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ffff"/>
                </a:solidFill>
                <a:latin typeface="Times New Roman"/>
              </a:rPr>
              <a:t>IV. DINAMIČKI KOEFICIJENTI KOJI POKAZUJU ODNOS IZMEĐU PROIZVODNJE I MEĐUNARODNE RAZMJE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684360" y="1700280"/>
            <a:ext cx="784836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IV. 1. Odnos između uvoza i bruto domaćeg proizvo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U : BD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(koeficijent uvozne ovisnosti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IV. 2. Odnos između izvoza i bruto domaćeg proizvo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I : BD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(stopa izvoza – pokazuje stupanj izvozne usmjerenosti zemlj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95280" y="1484280"/>
            <a:ext cx="828036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IV. 3. Odnos između vrijednosti ukupne razmjene s inozemstvom i bruto domaćeg proizvo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(I + U) : BD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(stopa vanjskotrgovinske razmjene – pokazatelj otvorenosti nacionalnog gospodarstva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250920" y="1125360"/>
            <a:ext cx="849780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66"/>
                </a:solidFill>
                <a:latin typeface="Times New Roman"/>
              </a:rPr>
              <a:t>NEKE OD ZAKONITOSTI PROMJENA DINAMIČKIH KOEFICIJENATA U PROCESU GOSPODARSKOG RAZVOJ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ovećava se tehnička opremljenost r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Raste društvena proizvodnost r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Mijenja se prosječni kapitalni koeficijent (ovisno o promjeni gospodarske struk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Skraćuje se amortizacijsko razdobl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ovećava se koeficijent obrta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Raste prosječna plaća po zaposlen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ovećava se izvozna usmjerenost zeml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Raste koeficijent vanjskotrgovinske razmje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250920" y="333360"/>
            <a:ext cx="84978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Analiza promjene gospodarske strukture putem dinamičkih koeficijenata obuhvaća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odnose između proizvodnih faktor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odnose između vrijednosti ostvarene proizvodnje i angažiranih proizvodnih faktora – efikasnost korištenja proizvodnih faktor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brzinu reproduciranja odnosno zamjene proizvodnih faktor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odnos između proizvodnje i međunarodne razmj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79280" y="26028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DINAMIČKI KOEFICIJENTI KOJIMA SE ISKAZUJE GOSPODARSKA STRUKTURA U ŠIREM POIMANJ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4000" y="1628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ffff"/>
                </a:solidFill>
                <a:latin typeface="Times New Roman"/>
              </a:rPr>
              <a:t>I.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ffff"/>
                </a:solidFill>
                <a:latin typeface="Times New Roman"/>
              </a:rPr>
              <a:t>DINAMIČKI KOEFICIJENTI KOJI POKAZUJU ODNOS IZMEĐU POJEDINIH PROIZVODNIH FAKTOR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403280" y="2708280"/>
            <a:ext cx="7345440" cy="30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I.1. Odnos između fiksnih i obrtnih fondo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F : 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I.2. Odnos između osnovnih fondova i broja zaposleni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F : 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(pokazatelj tehničke ili kapitalne opremljenosti rad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900000" y="1052640"/>
            <a:ext cx="7777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I.3. Odnos između ukupne vrijednosti osnovnih i obrtnih fondova i broja zaposleni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(F + f) : 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(pokazatelj ukupne opremljenosti rad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24000" y="1628640"/>
            <a:ext cx="8280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Odnos između fiksnih i obrtnih fondova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(stalne i kratkotrajne imovine)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bitno se razlikuje u pojedinim djelatnostima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. Ovisan je 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1.ekonomsko-tehnološkim karakteristikama djelatnost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2.stupnju korištenja kapacit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24000" y="1700280"/>
            <a:ext cx="8280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ff00"/>
                </a:solidFill>
                <a:uFillTx/>
                <a:latin typeface="Times New Roman"/>
              </a:rPr>
              <a:t>Zadat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Vrijednost fiksnih fondova u poduzeću je 5.000.000,00 kuna, a vrijednost obrtnih fondova 1.000.000,00 kuna pri stupnju korištenja kapaciteta od 40%. Izračunajte odnos F : f  pri navedenoj iskorištenosti kapaciteta te isti odnos pri stupnju korištenja kapaciteta od 80%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250920" y="260280"/>
            <a:ext cx="856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TEHNIČKA OPREMLJENOST R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F : 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24000" y="1844640"/>
            <a:ext cx="856908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Veća je u djelatnostima koje u strukturi vrijednosti proizvodnje imaju veći udio rada strojeva, a manji udio živog ljudskog ra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U okviru iste djelatnosti tehnička opremljenost veća je u poduzećima koja imaju moderniju tehničku osnovicu proizvodnje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Na razini nacionalnog gospodarstva tehnička opremljenost rada  nam pokazuje kolika je cijena jednog radnog mjesta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Uz pomoć tehničke opremljenosti rada možemo izračunati vrijednost demografskih investicija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Značajan je pokazatelj za odabir proizvodne strukture nacionalnog gospodarstv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50920" y="26028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ffff"/>
                </a:solidFill>
                <a:latin typeface="Times New Roman"/>
              </a:rPr>
              <a:t>II.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00ffff"/>
                </a:solidFill>
                <a:latin typeface="Times New Roman"/>
              </a:rPr>
              <a:t>DINAMIČKI KOEFICIJENTI KOJI POKAZUJU EFIKASNOST KORIŠTENJA PROIZVODNIH FAKT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39640" y="1341360"/>
            <a:ext cx="813600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II. 1. Odnos između ukupne vrijednosti uloženih fiksnih i obrtnih fondova i ostvarene proizvodnj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(F + f) : BD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(koeficijent efikasnosti ili koeficijent intenzivnosti proizvodnih fondova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II. 2. Odnos između uloženih fiksnih fondova i vrijednosti ostvarene proizvodnj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F : BD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(prosječni kapitalni koeficijent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611280" y="3213000"/>
            <a:ext cx="7921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II. 3. Odnos između vrijednosti ostvarene proizvodnje i broja zaposleni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BDP : 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(proizvodnost rad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95280" y="76500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BDP :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(proizvodni koeficij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1403280" y="2637000"/>
            <a:ext cx="2448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5508720" y="2637000"/>
            <a:ext cx="2448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Oval 8"/>
          <p:cNvSpPr/>
          <p:nvPr/>
        </p:nvSpPr>
        <p:spPr>
          <a:xfrm>
            <a:off x="4643280" y="2565360"/>
            <a:ext cx="144720" cy="1443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7:17:54Z</dcterms:created>
  <dc:creator>GZ</dc:creator>
  <dc:description/>
  <dc:language>en-US</dc:language>
  <cp:lastModifiedBy>Administrator</cp:lastModifiedBy>
  <dcterms:modified xsi:type="dcterms:W3CDTF">2008-01-17T17:01:43Z</dcterms:modified>
  <cp:revision>84</cp:revision>
  <dc:subject/>
  <dc:title>PowerPoint Presentation</dc:title>
</cp:coreProperties>
</file>